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477-4A20-4F1E-9510-00B43C57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70C-F442-4002-AFC5-B3153D12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CBB-02E3-40A3-9D46-FBD6A55A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F3A-D3D2-4988-8308-3186B430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FFEE-D596-41A2-B607-2F6D7959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EC7A-F929-40CB-918C-7C81D85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36E-7BA4-4F85-BB2E-70EA6DF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4AC-19D2-4C0A-941D-0273E38B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67E-B53D-4E6A-BCA4-477670F1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87C3-330D-47A6-8D3C-D3F88327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4AD2-118C-46FF-8126-73AC7A2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165-AC1F-44E7-9710-258B7D2F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7F0-9362-4D08-8333-2BFF6C00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6A72-B1E0-4C38-9B2D-9BDA0DD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AA1-484E-4196-9417-EBC7B554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9A3-3659-4EA4-A970-7D013373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E02-5A7B-4B90-93AB-8AF06227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41D-7CAE-4581-915A-521F6F42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968-3652-4351-BFA1-F5AF90D7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24C-EFB4-4E74-9ADC-8C10CA27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0C5-74A2-4B3F-8F4F-809611A3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1D3-9F75-4463-9BDA-C93907C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DE8-EE4E-4C08-B470-7B4DD52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56F-826A-4160-BE8D-F6E1D79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05A8-15E8-4B12-A8EE-A3A69231ED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8279-D45C-442F-A8E3-110FC011E2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1206720" y="64882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9D8-F28E-4BCF-A50D-7A7D511385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F96B-E5E5-427C-8557-59ED1D448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1"/>
          <a:stretch/>
        </p:blipFill>
        <p:spPr>
          <a:xfrm>
            <a:off x="3132000" y="0"/>
            <a:ext cx="6058080" cy="542916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solidFill>
            <a:srgbClr val="269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0" y="5357880"/>
            <a:ext cx="9144000" cy="1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标题 1"/>
          <p:cNvSpPr/>
          <p:nvPr/>
        </p:nvSpPr>
        <p:spPr>
          <a:xfrm>
            <a:off x="214200" y="357120"/>
            <a:ext cx="4857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副标题 2"/>
          <p:cNvSpPr/>
          <p:nvPr/>
        </p:nvSpPr>
        <p:spPr>
          <a:xfrm>
            <a:off x="857160" y="5715000"/>
            <a:ext cx="70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Calibri"/>
              </a:rPr>
              <a:t>Welcome back to 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215640"/>
            <a:ext cx="6410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毕业生专属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52800" y="1356840"/>
            <a:ext cx="63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269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754680" y="5072040"/>
            <a:ext cx="2176560" cy="1500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428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7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269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754680" y="5072040"/>
            <a:ext cx="217656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600120" y="660240"/>
            <a:ext cx="2971800" cy="4411800"/>
            <a:chOff x="600120" y="660240"/>
            <a:chExt cx="2971800" cy="4411800"/>
          </a:xfrm>
        </p:grpSpPr>
        <p:sp>
          <p:nvSpPr>
            <p:cNvPr id="99" name="AutoShape 6"/>
            <p:cNvSpPr/>
            <p:nvPr/>
          </p:nvSpPr>
          <p:spPr>
            <a:xfrm>
              <a:off x="600120" y="660240"/>
              <a:ext cx="2971800" cy="8020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600120" y="660240"/>
              <a:ext cx="297180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请输入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/>
            <p:cNvSpPr/>
            <p:nvPr/>
          </p:nvSpPr>
          <p:spPr>
            <a:xfrm rot="5400000">
              <a:off x="1935360" y="1456560"/>
              <a:ext cx="300600" cy="412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rot="5400000">
              <a:off x="1935360" y="1456560"/>
              <a:ext cx="3006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600120" y="1863360"/>
              <a:ext cx="2971800" cy="802080"/>
            </a:xfrm>
            <a:prstGeom prst="roundRect">
              <a:avLst>
                <a:gd name="adj" fmla="val 10000"/>
              </a:avLst>
            </a:prstGeom>
            <a:solidFill>
              <a:srgbClr val="5b59a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600120" y="1863360"/>
              <a:ext cx="297180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请输入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 rot="5400000">
              <a:off x="1935360" y="2660040"/>
              <a:ext cx="300600" cy="412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56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 rot="5400000">
              <a:off x="1935360" y="2660040"/>
              <a:ext cx="3006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4"/>
            <p:cNvSpPr/>
            <p:nvPr/>
          </p:nvSpPr>
          <p:spPr>
            <a:xfrm>
              <a:off x="600120" y="3066840"/>
              <a:ext cx="2971800" cy="802080"/>
            </a:xfrm>
            <a:prstGeom prst="roundRect">
              <a:avLst>
                <a:gd name="adj" fmla="val 10000"/>
              </a:avLst>
            </a:prstGeom>
            <a:solidFill>
              <a:srgbClr val="5177b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600120" y="3066840"/>
              <a:ext cx="297180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请输入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6"/>
            <p:cNvSpPr/>
            <p:nvPr/>
          </p:nvSpPr>
          <p:spPr>
            <a:xfrm rot="5400000">
              <a:off x="1935360" y="3863160"/>
              <a:ext cx="300600" cy="412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4aa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 rot="5400000">
              <a:off x="1935360" y="3863160"/>
              <a:ext cx="3006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8"/>
            <p:cNvSpPr/>
            <p:nvPr/>
          </p:nvSpPr>
          <p:spPr>
            <a:xfrm>
              <a:off x="600120" y="4269960"/>
              <a:ext cx="2971800" cy="802080"/>
            </a:xfrm>
            <a:prstGeom prst="roundRect">
              <a:avLst>
                <a:gd name="adj" fmla="val 10000"/>
              </a:avLst>
            </a:prstGeom>
            <a:solidFill>
              <a:srgbClr val="4aa8c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600120" y="4269960"/>
              <a:ext cx="297180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请输入文字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内容占位符 4"/>
          <p:cNvSpPr/>
          <p:nvPr/>
        </p:nvSpPr>
        <p:spPr>
          <a:xfrm>
            <a:off x="3786120" y="714240"/>
            <a:ext cx="457200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7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269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754680" y="5072040"/>
            <a:ext cx="2176560" cy="1500120"/>
          </a:xfrm>
          <a:prstGeom prst="rect">
            <a:avLst/>
          </a:prstGeom>
          <a:ln w="0">
            <a:noFill/>
          </a:ln>
        </p:spPr>
      </p:pic>
      <p:sp>
        <p:nvSpPr>
          <p:cNvPr id="117" name="矩形 6"/>
          <p:cNvSpPr/>
          <p:nvPr/>
        </p:nvSpPr>
        <p:spPr>
          <a:xfrm>
            <a:off x="642960" y="1285920"/>
            <a:ext cx="292896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0120" y="2857680"/>
            <a:ext cx="10000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000680" y="785880"/>
            <a:ext cx="449712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c2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8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5429160"/>
          </a:xfrm>
          <a:prstGeom prst="rect">
            <a:avLst/>
          </a:prstGeom>
          <a:ln w="0">
            <a:noFill/>
          </a:ln>
        </p:spPr>
      </p:pic>
      <p:sp>
        <p:nvSpPr>
          <p:cNvPr id="121" name="矩形 6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solidFill>
            <a:srgbClr val="2692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0" y="5357880"/>
            <a:ext cx="9144000" cy="142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1500120"/>
            <a:ext cx="5429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46:00Z</dcterms:created>
  <dc:creator>番茄花园</dc:creator>
  <dc:description/>
  <dc:language>en-US</dc:language>
  <cp:lastModifiedBy>a</cp:lastModifiedBy>
  <dcterms:modified xsi:type="dcterms:W3CDTF">2014-12-10T14:57:50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