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1DC-D9DE-4554-93A0-F2E08CE8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4C4-55F3-4778-93E8-79791DF7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D91-5ED6-4BAE-B6C8-F69B6533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25F-16BB-4D95-9240-939620F7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7DDE-937B-4BC8-97FD-691A0CEE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B585-59A0-4D6F-A32D-7DEA2C1B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81F-9A91-477D-983C-0CD29CC9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163C-8625-4CCF-8491-1178CF7A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25E4-BA15-4803-88A9-20D07D5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E2E-8988-4FD6-8A18-6269D08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5AEF-9A87-4934-8CDA-4F22D92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F88-741E-4A2D-854E-C35D8015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F47B-89C6-4D5E-8469-42F273C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532A-D4EA-46A0-92EF-2CD5C2A0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D286-0BE0-4C48-B5B6-3A6B18CA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540-B990-4E36-ADF1-B777DE18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B9F-CB83-460A-A171-E8F25546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F000-761F-4393-8FE8-83E5F167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3F7C-BF47-4A03-A920-AD2695EE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7028-6C10-4197-8D18-69945091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D9EC-472D-401E-9618-8BF3EC2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2408-5C7E-4C83-A713-16FF0A2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5D4-81DC-4BF0-99DC-FE289C06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BE84-8540-4369-8499-E0B72FFE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D520-0DCB-4A7A-8189-A0BB5B52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12FF-5D66-4AC3-8152-4F5EE78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EA26-CC1D-4E12-B747-339DEE3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212B-7877-4F17-9F6B-6839C82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8DBC-29EA-402B-95EC-E16EAD0B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2833-5910-4532-83D7-5DD52BAF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6B4-B856-4F07-8910-075D52C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DF2-E515-4DB0-89EB-C29031E2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389-3E45-4218-9991-FD5851B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01F-D701-452A-BE34-EB17284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F2A-C9EB-4A66-93B5-98DC96B3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4FF-7F80-4AAA-9919-8C0C7EE5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3F3C-0425-44F1-A3B4-4A8BD50D6E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1636-08A9-421E-B52E-174EF34D32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25A9-8283-4A52-8CEF-94C05833FF81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7456-405A-4C62-BA25-DFC78470988B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6118920" y="454644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酒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13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44160" y="2724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93480" y="2738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77360" y="27842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8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4d4d4d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6776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20932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7232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22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2012400" y="3519000"/>
              <a:ext cx="434520" cy="382320"/>
              <a:chOff x="2012400" y="3519000"/>
              <a:chExt cx="434520" cy="38232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2012400" y="3519000"/>
                <a:ext cx="417960" cy="371160"/>
                <a:chOff x="2012400" y="3519000"/>
                <a:chExt cx="417960" cy="37116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2012400" y="3519000"/>
                  <a:ext cx="417960" cy="371160"/>
                  <a:chOff x="2012400" y="3519000"/>
                  <a:chExt cx="417960" cy="37116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116080" y="3520800"/>
                    <a:ext cx="314280" cy="369360"/>
                    <a:chOff x="2116080" y="3520800"/>
                    <a:chExt cx="314280" cy="36936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220840" y="349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59360" y="3526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54160" y="3547800"/>
                  <a:ext cx="342360" cy="303120"/>
                  <a:chOff x="2054160" y="3547800"/>
                  <a:chExt cx="342360" cy="30312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138760" y="3548880"/>
                    <a:ext cx="257760" cy="302040"/>
                    <a:chOff x="2138760" y="3548880"/>
                    <a:chExt cx="257760" cy="30204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224440" y="35262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56120" y="35542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2028600" y="3530160"/>
                <a:ext cx="418320" cy="371160"/>
                <a:chOff x="2028600" y="3530160"/>
                <a:chExt cx="418320" cy="37116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2028600" y="3530160"/>
                  <a:ext cx="418320" cy="371160"/>
                  <a:chOff x="2028600" y="3530160"/>
                  <a:chExt cx="418320" cy="37116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132280" y="3531960"/>
                    <a:ext cx="314640" cy="369360"/>
                    <a:chOff x="2132280" y="3531960"/>
                    <a:chExt cx="314640" cy="36936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237040" y="3504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75560" y="3537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70720" y="3558960"/>
                  <a:ext cx="342000" cy="303120"/>
                  <a:chOff x="2070720" y="3558960"/>
                  <a:chExt cx="342000" cy="30312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55320" y="3560040"/>
                    <a:ext cx="257400" cy="302040"/>
                    <a:chOff x="2155320" y="3560040"/>
                    <a:chExt cx="257400" cy="30204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41000" y="35373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72680" y="35654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333333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50920" y="1179000"/>
                  <a:ext cx="353160" cy="311760"/>
                  <a:chOff x="2050920" y="1179000"/>
                  <a:chExt cx="353160" cy="31176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139120" y="1180080"/>
                    <a:ext cx="264960" cy="310680"/>
                    <a:chOff x="2139120" y="1180080"/>
                    <a:chExt cx="264960" cy="31068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227320" y="11574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59000" y="11851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68200" y="1190160"/>
                  <a:ext cx="352800" cy="312120"/>
                  <a:chOff x="2068200" y="1190160"/>
                  <a:chExt cx="352800" cy="31212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56040" y="1191600"/>
                    <a:ext cx="264960" cy="310680"/>
                    <a:chOff x="2156040" y="1191600"/>
                    <a:chExt cx="264960" cy="31068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44240" y="11689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75920" y="1196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830240" y="4308480"/>
            <a:ext cx="615960" cy="628920"/>
            <a:chOff x="1830240" y="4308480"/>
            <a:chExt cx="615960" cy="628920"/>
          </a:xfrm>
        </p:grpSpPr>
        <p:sp>
          <p:nvSpPr>
            <p:cNvPr id="37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a400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830240" y="4631760"/>
              <a:ext cx="475560" cy="305640"/>
              <a:chOff x="1830240" y="4631760"/>
              <a:chExt cx="475560" cy="30564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830240" y="4631760"/>
                <a:ext cx="475560" cy="305640"/>
                <a:chOff x="1830240" y="4631760"/>
                <a:chExt cx="475560" cy="30564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84600" y="4718880"/>
                  <a:ext cx="421200" cy="209160"/>
                  <a:chOff x="1884600" y="4718880"/>
                  <a:chExt cx="42120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112480" y="469152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61360" y="4689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830240" y="4631760"/>
                  <a:ext cx="382320" cy="305640"/>
                  <a:chOff x="1830240" y="4631760"/>
                  <a:chExt cx="382320" cy="30564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69200" y="4662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6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6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6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7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a400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5"/>
          <p:cNvSpPr txBox="1"/>
          <p:nvPr/>
        </p:nvSpPr>
        <p:spPr>
          <a:xfrm>
            <a:off x="6443640" y="458640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84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1:40:03Z</dcterms:created>
  <dc:creator>admin</dc:creator>
  <dc:description/>
  <dc:language>en-US</dc:language>
  <cp:lastModifiedBy>a</cp:lastModifiedBy>
  <dcterms:modified xsi:type="dcterms:W3CDTF">2014-12-10T15:06:2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