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46" name="PlaceHolder 1"/>
          <p:cNvSpPr>
            <a:spLocks noGrp="1"/>
          </p:cNvSpPr>
          <p:nvPr>
            <p:ph type="sldImg"/>
          </p:nvPr>
        </p:nvSpPr>
        <p:spPr>
          <a:xfrm>
            <a:off x="409320" y="754200"/>
            <a:ext cx="5854680" cy="3294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47"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8"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PlaceHolder 4"/>
          <p:cNvSpPr>
            <a:spLocks noGrp="1"/>
          </p:cNvSpPr>
          <p:nvPr>
            <p:ph type="dt" idx="37"/>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650" name="PlaceHolder 5"/>
          <p:cNvSpPr>
            <a:spLocks noGrp="1"/>
          </p:cNvSpPr>
          <p:nvPr>
            <p:ph type="ftr" idx="38"/>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PlaceHolder 6"/>
          <p:cNvSpPr>
            <a:spLocks noGrp="1"/>
          </p:cNvSpPr>
          <p:nvPr>
            <p:ph type="sldNum" idx="39"/>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54AB-31A0-4AA4-9776-56DA335A52B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04640" y="749160"/>
            <a:ext cx="5855040" cy="3294360"/>
          </a:xfrm>
          <a:prstGeom prst="rect">
            <a:avLst/>
          </a:prstGeom>
          <a:ln w="0">
            <a:noFill/>
          </a:ln>
        </p:spPr>
      </p:sp>
      <p:sp>
        <p:nvSpPr>
          <p:cNvPr id="677"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请在此页填写作品信息</a:t>
            </a:r>
            <a:r>
              <a:rPr b="0" lang="zh-CN" sz="1200" spc="-1" strike="noStrike">
                <a:solidFill>
                  <a:srgbClr val="000000"/>
                </a:solidFill>
                <a:latin typeface="微软雅黑"/>
                <a:ea typeface="微软雅黑"/>
              </a:rPr>
              <a:t>（此页非设计模板）</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21D9B-42A0-4316-B041-CA58A2A0E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437776-F0D0-4E0B-B738-74D6ACC6C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0261A-E5BA-4B6B-B56D-82CC8EC81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D5C84-9DC0-48A5-B6A3-114ACCC25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8D6C8-B779-41FC-911F-4A710D395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A638D-801D-4000-8312-3C7DBB646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299AC-A54D-401A-BDD9-DDD90EF5F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57CE23-1843-440A-BF97-A49B2C8FC5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2818B-A248-4C63-AE7C-70CBC23E25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FA8D0C-D5A8-455E-9F84-CDF0D58E6A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7BFB53-E868-4D61-95F8-26F2391E2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1A43A-44DA-4CEF-822E-1BB9CCC63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5BEAC3-E731-4E9B-ADA6-CC86B0A53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4D6C1-4628-4E0B-8BAE-6A8C563D61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3ABBC-435F-402A-88A2-165A1B34B7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DC9AC-4422-4F15-ADFF-C2D150DD6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5D238F-1AB7-4B54-A911-AEA50BF39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F3BCC-DA31-401F-A9C1-2E7CEF686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27AF4-6F6C-4970-800D-701B88752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4C002A-A8E6-4CB7-A156-997C2E432D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C7C80-B9A6-4745-B1CC-5C7B59D7C5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BB2F4B-84CF-40B9-A974-5C9188DFE5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DE393-5EF1-4B2A-9582-0B7F4C30F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9822B-6663-41AE-9FF6-50D76A77A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DAA8B-31D7-4703-9EE0-B9A96693C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68D72-3CFD-46F5-8242-1D18456AF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4354C-082F-4F93-BC79-EE9310C76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8956D-6049-4C03-9B0F-BC9E77649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D8F0C-36FB-43C0-BCEA-A71C4FBDA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FB6E4-A3B2-42D4-ACB4-9D17F992B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7EA341-9D15-42E6-B275-3EDFDE832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568A53-3E45-40D0-B549-6A3BD40B53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5AD8A1-D1A6-4F60-AA50-ABDEFB6059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1A9311-0F1E-406E-9365-7828DB002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3A123A-365B-4698-A7FC-1D60B9674D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C1801-66E3-443C-904E-14DB25B5F7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D231E-78BD-47AE-872F-DE24E79E6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2BAEEE-A110-4434-9F51-33A03E96B2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FDCEC-21E2-4480-8004-F5242A686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19E7B-E06C-4486-B3C4-11260FB240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84017-1655-4459-85DE-004B92346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C66C1-93D0-4EF6-8E55-29955830B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062E0-0979-4E7B-A168-352EDF822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32EAB8-D4DE-4DD4-B5DB-86B494F11F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A42E50-80F4-4137-9566-10CF6602A6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3AA062-9676-4035-A3B5-1EA127E064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41695E-344B-4042-BE4D-65E9068172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38EF07-E2E4-4E39-B909-7DC6A9540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F01DD6-937B-462E-9855-71A643F8E8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571DF-EFD3-43EE-AC03-445271D2C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77E031-19F8-45AF-B780-6C64DDF28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CEBCF-5AA3-4E43-81B8-57D95283E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121CFC-F67B-426E-96BE-412DD5734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41E70-C8FD-4BC3-AED6-130493BFB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D1AD4F-5B3E-4203-BA27-510CFD737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13505D-F9F5-4DE7-A671-0FFD4F7228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390D26-E0D6-4D1B-978B-A04E2CD95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E4CD65-6E15-43A4-B7EA-49696335D8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C45982-8ABF-4E70-B86E-ED33CDFC35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BC0F1A-513E-44C3-9E5B-185F115C99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FD82A7-3247-476D-B59B-A8E0128052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D55017-91D3-4D48-973C-A520903655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0B8C5B-2C29-4C3F-B4DC-A567EF66CB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5800BD-C45C-4520-802E-725502C19A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2D8C8E-9164-4423-A810-FFF995C2D9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504E64-A218-4648-8BCF-1D505780C4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1A15B0-EBEE-448F-A9B9-99C75AFD94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701D53-FC10-4277-9518-E1FFDB96CE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D9C942-6A6F-43FE-9088-38F8C0CEF21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F69CD9-3FF3-4E51-9700-E1F124BF8D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94538B-7F60-4FC0-B73F-9BF9D68BB7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AF09B7-46BC-40EB-AA27-ED8C03BE05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31B02C-D920-4786-919E-FBB9B3AE6B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3CB8B0-8FA9-4FC5-9F07-EFAC2D5245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B43FF5-F4F6-44F4-A1CA-97D86F0FB1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05C37-5BB4-4868-9CDC-B04CD30871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A5E080-6127-44F2-A342-8C1A6684A7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224C66-0472-42E9-B599-A912BBA24D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E995CE-6F61-4DB8-9706-B7D80BA875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420036-7BF5-49FD-B8AB-2F4CD4CD23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94771A-0DE3-4729-8FDE-46FEA98697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ABCB51-754A-4D8C-9137-4D255D8DED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08E397-889E-460F-BA23-ECF112E4B2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271CBC-A53F-4DA2-94AF-476B1905BC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FF1693-B999-48C2-AFE9-6763FED996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6480D1-00A5-4579-B218-DB7CB8D8E1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E7DE6A-09AF-4118-82F1-1B5E7B45A9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F8F298-6DD1-43C3-8FD6-0716CC46A6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609FE3-FC39-42A3-ACC6-B637446FDA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CF5C6-3282-4CD4-819D-FF3131E947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A50698-E65D-4313-BD6D-3CC80DFC09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A7D35D-9C76-4653-9E96-64FD2E28A1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B743D1-126C-446B-9D3F-B601B408DF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94722-717E-4014-A6FE-F35A5B07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EEC9-2CCC-4F99-A0A3-E3631F1C2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AD2C-7D5F-45CD-B384-0A789F96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4B87C-5A5C-4B68-96CB-10189549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ABFBF-BC26-4EED-9A7A-28997D42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E211-C683-44B7-A305-9CABFFC3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A9EF8-02F0-4F35-9545-F3F98A52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BAA7-A32A-4B4F-AB6C-1DE442C8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5273-1C68-4734-BAED-80FA1047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B646-0508-442D-9065-3489F49B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43A59-60AB-4F9F-B0CE-69AA33865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6B0F-E4F0-49ED-B95A-EF8946D92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CBC93-4D2E-4D2F-B19E-8089F1C14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25969-754B-45C6-8A37-01106EE69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3395D-3081-4422-BB4F-77BC8A02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1379-24B2-4683-82AC-D65A61325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41DE8-F571-4A3D-8B91-BBB7A8E71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62E71-94DC-40D2-BCBD-0BAA92E0A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6201F-6B01-415E-BFB8-B6BE357F6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06CA-6B0E-4A24-8CC0-042BA10D5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2F965-0B74-439F-B209-75730687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E17E5-BB82-43FB-AED7-44234B512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DF8C0-F4E0-4A51-A051-544A72173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7D1FB-3B55-4F41-B9F6-8421E1A54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1A162-04ED-4E72-8671-99958E322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F5211-757B-42A2-B11B-C65222AA8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EA88B-6334-48D3-8344-79A29CF87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F1099-FBD0-4CD1-941F-485CEFB28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E38FC-B818-4740-BE9A-B003F0E05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11862-AB0C-4424-BFD3-9E943D124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BF167-A16E-449E-BB12-39485F070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92973-FD95-475F-9BB3-2ECE04490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B71A2-8DA0-4AED-9552-8C500B1EA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3771D-B9E0-4BF2-9F66-DC24C55351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A3BFD-BF37-473C-BD75-71B9FA027E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05B084-6883-4992-ACEA-93E92D51E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B07FD-28E6-4240-B33F-D68333B42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4AF25-D367-44EA-A8AD-0D3635838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07900-EAB9-408A-A8C5-A1F4A36B7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EE64B-A412-4556-B1F8-21AFD3A666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A9A1E-9017-496B-93D9-ABE9B184D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FC95E-E473-4845-BFA4-6172328E5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7EC22-5EAE-4C42-94C8-09E5C3A38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D0BB0-9045-4193-AC84-56F0196A8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F3D48-A572-48CA-9882-4C9B4DF0F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EC7E3-4358-4F0E-9AED-BE8C13ED7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081409-139C-4007-AE1D-53B1E155C0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C10A3-FB39-457D-9408-915FF7B78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26FDC1-A133-4DE2-8AB5-043A28F590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6042F-D716-4512-86AD-24686D366C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C5C55-3298-40B1-8575-653D107F9A53}"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05"/>
          <p:cNvPicPr/>
          <p:nvPr/>
        </p:nvPicPr>
        <p:blipFill>
          <a:blip r:embed="rId2"/>
          <a:srcRect l="0" t="0" r="0" b="23532"/>
          <a:stretch/>
        </p:blipFill>
        <p:spPr>
          <a:xfrm>
            <a:off x="-22320" y="-44280"/>
            <a:ext cx="12246120" cy="694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0"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5C71-CAE4-4F7E-9632-DB60FA1BE956}"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361"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98FB-7BE4-40E3-86FD-0C6A6DD34D75}"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1"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ACA9-CD87-4C17-8D54-0ACEFBE210B7}"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402"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2AD1-4606-4065-816B-EFDA440D2B16}"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2B86-FC94-413B-8BB1-5CF8327B0EBF}"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443"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85F7-18EA-4009-89EB-1AB33FBD4CE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3"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38B5-0991-462A-BEB7-C721E43DF536}"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484"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FE5A-4A7A-47C6-B38D-971F5F94951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01E-EA61-418F-A6E8-EEDA924676C8}"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525"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81B9-47D5-4266-9813-EDE5EBDA406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5"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4236-BFDF-417B-9F19-E5B3ABE76F97}"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566"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9FD4-AA9E-4C48-8864-4BFF944244A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6"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96B4-2D56-4ABE-80BF-F133CDFDCA39}"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607"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5ECA-2DC1-47B3-A459-678CDC8A24C5}"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04"/>
          <p:cNvPicPr/>
          <p:nvPr/>
        </p:nvPicPr>
        <p:blipFill>
          <a:blip r:embed="rId2"/>
          <a:stretch/>
        </p:blipFill>
        <p:spPr>
          <a:xfrm>
            <a:off x="4606920" y="-12600"/>
            <a:ext cx="7580160" cy="6848280"/>
          </a:xfrm>
          <a:prstGeom prst="rect">
            <a:avLst/>
          </a:prstGeom>
          <a:ln w="0">
            <a:noFill/>
          </a:ln>
        </p:spPr>
      </p:pic>
      <p:sp>
        <p:nvSpPr>
          <p:cNvPr id="38" name="Rectangle 3"/>
          <p:cNvSpPr/>
          <p:nvPr/>
        </p:nvSpPr>
        <p:spPr>
          <a:xfrm>
            <a:off x="587520" y="6392880"/>
            <a:ext cx="1149120" cy="93600"/>
          </a:xfrm>
          <a:prstGeom prst="rect">
            <a:avLst/>
          </a:prstGeom>
          <a:solidFill>
            <a:srgbClr val="ff99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 name="Rectangle 4"/>
          <p:cNvSpPr/>
          <p:nvPr/>
        </p:nvSpPr>
        <p:spPr>
          <a:xfrm>
            <a:off x="1693800" y="6392880"/>
            <a:ext cx="8605800" cy="93600"/>
          </a:xfrm>
          <a:prstGeom prst="rect">
            <a:avLst/>
          </a:pr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04"/>
          <p:cNvPicPr/>
          <p:nvPr/>
        </p:nvPicPr>
        <p:blipFill>
          <a:blip r:embed="rId2"/>
          <a:stretch/>
        </p:blipFill>
        <p:spPr>
          <a:xfrm>
            <a:off x="4606920" y="-12600"/>
            <a:ext cx="7580160" cy="6848280"/>
          </a:xfrm>
          <a:prstGeom prst="rect">
            <a:avLst/>
          </a:prstGeom>
          <a:ln w="0">
            <a:noFill/>
          </a:ln>
        </p:spPr>
      </p:pic>
      <p:sp>
        <p:nvSpPr>
          <p:cNvPr id="77" name="Rectangle 3"/>
          <p:cNvSpPr/>
          <p:nvPr/>
        </p:nvSpPr>
        <p:spPr>
          <a:xfrm>
            <a:off x="587520" y="936720"/>
            <a:ext cx="1149120" cy="93600"/>
          </a:xfrm>
          <a:prstGeom prst="rect">
            <a:avLst/>
          </a:prstGeom>
          <a:solidFill>
            <a:srgbClr val="ff99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Rectangle 4"/>
          <p:cNvSpPr/>
          <p:nvPr/>
        </p:nvSpPr>
        <p:spPr>
          <a:xfrm>
            <a:off x="1693800" y="936720"/>
            <a:ext cx="8605800" cy="93600"/>
          </a:xfrm>
          <a:prstGeom prst="rect">
            <a:avLst/>
          </a:pr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05"/>
          <p:cNvPicPr/>
          <p:nvPr/>
        </p:nvPicPr>
        <p:blipFill>
          <a:blip r:embed="rId2"/>
          <a:srcRect l="0" t="0" r="0" b="23532"/>
          <a:stretch/>
        </p:blipFill>
        <p:spPr>
          <a:xfrm>
            <a:off x="-22320" y="-44280"/>
            <a:ext cx="12246120" cy="6946560"/>
          </a:xfrm>
          <a:prstGeom prst="rect">
            <a:avLst/>
          </a:prstGeom>
          <a:ln w="0">
            <a:noFill/>
          </a:ln>
        </p:spPr>
      </p:pic>
      <p:sp>
        <p:nvSpPr>
          <p:cNvPr id="116" name="标题 1"/>
          <p:cNvSpPr/>
          <p:nvPr/>
        </p:nvSpPr>
        <p:spPr>
          <a:xfrm>
            <a:off x="2630520" y="3817800"/>
            <a:ext cx="691200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微软雅黑"/>
              </a:rPr>
              <a:t>谢谢倾听</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406B-4371-4BBC-A754-B26F9AB3D16A}" type="datetime">
              <a:rPr b="0" lang="zh-CN" sz="1400" spc="-1" strike="noStrike">
                <a:solidFill>
                  <a:srgbClr val="000000"/>
                </a:solidFill>
                <a:latin typeface="Arial"/>
              </a:rPr>
              <a:t>26/7/29</a:t>
            </a:fld>
            <a:endParaRPr b="0" lang="en-US" sz="1400" spc="-1" strike="noStrike">
              <a:solidFill>
                <a:srgbClr val="000000"/>
              </a:solidFill>
              <a:latin typeface="Calibri"/>
            </a:endParaRPr>
          </a:p>
        </p:txBody>
      </p:sp>
      <p:sp>
        <p:nvSpPr>
          <p:cNvPr id="156"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6DA6-44B7-4766-96F0-79DF0D12D531}"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F791-03F3-4DCF-8F08-ED40CFAC52AD}"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197"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D043-D0FC-4653-B1DB-990F367B922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6297-0BCE-49B0-909E-3F1243346D78}"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238"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58CA-9983-4506-B7C4-539CFED5AB9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8"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DC84-EB0C-49A4-92BC-0D716ACE39B8}"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279"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1738-338E-40D6-A9CA-80F4A7EA278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9"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4305-D4E2-4C3F-AC15-16AA5BF93FA1}" type="datetime">
              <a:rPr b="0" lang="zh-CN" sz="1400" spc="-1" strike="noStrike">
                <a:solidFill>
                  <a:srgbClr val="000000"/>
                </a:solidFill>
                <a:latin typeface="Calibri"/>
              </a:rPr>
              <a:t>26/7/29</a:t>
            </a:fld>
            <a:endParaRPr b="0" lang="en-US" sz="1400" spc="-1" strike="noStrike">
              <a:solidFill>
                <a:srgbClr val="000000"/>
              </a:solidFill>
              <a:latin typeface="Calibri"/>
            </a:endParaRPr>
          </a:p>
        </p:txBody>
      </p:sp>
      <p:sp>
        <p:nvSpPr>
          <p:cNvPr id="320"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3296-C860-48B3-B863-968921A0688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05"/>
        </a:solidFill>
      </p:bgPr>
    </p:bg>
    <p:spTree>
      <p:nvGrpSpPr>
        <p:cNvPr id="1" name=""/>
        <p:cNvGrpSpPr/>
        <p:nvPr/>
      </p:nvGrpSpPr>
      <p:grpSpPr>
        <a:xfrm>
          <a:off x="0" y="0"/>
          <a:ext cx="0" cy="0"/>
          <a:chOff x="0" y="0"/>
          <a:chExt cx="0" cy="0"/>
        </a:xfrm>
      </p:grpSpPr>
      <p:sp>
        <p:nvSpPr>
          <p:cNvPr id="652" name="标题 1"/>
          <p:cNvSpPr/>
          <p:nvPr/>
        </p:nvSpPr>
        <p:spPr>
          <a:xfrm>
            <a:off x="4898880" y="2432160"/>
            <a:ext cx="6912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会议主题</a:t>
            </a:r>
            <a:r>
              <a:rPr b="1" lang="zh-CN" sz="3600" spc="-1" strike="noStrike">
                <a:solidFill>
                  <a:srgbClr val="ffffff"/>
                </a:solidFill>
                <a:latin typeface="Calibri"/>
                <a:ea typeface="微软雅黑"/>
              </a:rPr>
              <a:t>会议主题会议主题主题</a:t>
            </a:r>
            <a:endParaRPr b="0" lang="en-US" sz="3600" spc="-1" strike="noStrike">
              <a:solidFill>
                <a:srgbClr val="000000"/>
              </a:solidFill>
              <a:latin typeface="Calibri"/>
            </a:endParaRPr>
          </a:p>
        </p:txBody>
      </p:sp>
      <p:sp>
        <p:nvSpPr>
          <p:cNvPr id="653" name="标题 1"/>
          <p:cNvSpPr/>
          <p:nvPr/>
        </p:nvSpPr>
        <p:spPr>
          <a:xfrm>
            <a:off x="7518240" y="4411800"/>
            <a:ext cx="4129200" cy="42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姓名：某某某</a:t>
            </a:r>
            <a:endParaRPr b="0" lang="en-US" sz="2400" spc="-1" strike="noStrike">
              <a:solidFill>
                <a:srgbClr val="000000"/>
              </a:solidFill>
              <a:latin typeface="Calibri"/>
            </a:endParaRPr>
          </a:p>
        </p:txBody>
      </p:sp>
      <p:sp>
        <p:nvSpPr>
          <p:cNvPr id="654" name="标题 1"/>
          <p:cNvSpPr/>
          <p:nvPr/>
        </p:nvSpPr>
        <p:spPr>
          <a:xfrm>
            <a:off x="7535880" y="5013360"/>
            <a:ext cx="3530520" cy="34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务：某某某</a:t>
            </a:r>
            <a:endParaRPr b="0" lang="en-US" sz="2400" spc="-1" strike="noStrike">
              <a:solidFill>
                <a:srgbClr val="000000"/>
              </a:solidFill>
              <a:latin typeface="Calibri"/>
            </a:endParaRPr>
          </a:p>
        </p:txBody>
      </p:sp>
      <p:sp>
        <p:nvSpPr>
          <p:cNvPr id="655" name="标题 1"/>
          <p:cNvSpPr/>
          <p:nvPr/>
        </p:nvSpPr>
        <p:spPr>
          <a:xfrm>
            <a:off x="6935760" y="3306600"/>
            <a:ext cx="4938840" cy="50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a:t>
            </a:r>
            <a:r>
              <a:rPr b="1" lang="zh-CN" sz="2400" spc="-1" strike="noStrike">
                <a:solidFill>
                  <a:srgbClr val="ffffff"/>
                </a:solidFill>
                <a:latin typeface="微软雅黑"/>
                <a:ea typeface="微软雅黑"/>
              </a:rPr>
              <a:t>会议二级标题会议二级标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文字简介</a:t>
            </a:r>
            <a:endParaRPr b="0" lang="en-US" sz="1600" spc="-1" strike="noStrike">
              <a:solidFill>
                <a:srgbClr val="000000"/>
              </a:solidFill>
              <a:latin typeface="Calibri"/>
            </a:endParaRPr>
          </a:p>
        </p:txBody>
      </p:sp>
      <p:grpSp>
        <p:nvGrpSpPr>
          <p:cNvPr id="658" name="Group 3"/>
          <p:cNvGrpSpPr/>
          <p:nvPr/>
        </p:nvGrpSpPr>
        <p:grpSpPr>
          <a:xfrm>
            <a:off x="4991040" y="2630520"/>
            <a:ext cx="2616120" cy="862920"/>
            <a:chOff x="4991040" y="2630520"/>
            <a:chExt cx="2616120" cy="862920"/>
          </a:xfrm>
        </p:grpSpPr>
        <p:sp>
          <p:nvSpPr>
            <p:cNvPr id="659" name="圆角矩形 3"/>
            <p:cNvSpPr/>
            <p:nvPr/>
          </p:nvSpPr>
          <p:spPr>
            <a:xfrm>
              <a:off x="4991040" y="2630520"/>
              <a:ext cx="2616120" cy="6480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660" name="等腰三角形 4"/>
            <p:cNvSpPr/>
            <p:nvPr/>
          </p:nvSpPr>
          <p:spPr>
            <a:xfrm flipV="1">
              <a:off x="6008400" y="3133440"/>
              <a:ext cx="387360" cy="359640"/>
            </a:xfrm>
            <a:prstGeom prst="triangle">
              <a:avLst>
                <a:gd name="adj" fmla="val 49602"/>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标题 1"/>
          <p:cNvSpPr/>
          <p:nvPr/>
        </p:nvSpPr>
        <p:spPr>
          <a:xfrm>
            <a:off x="752400" y="662040"/>
            <a:ext cx="2840040" cy="5284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662" name="副标题 2"/>
          <p:cNvSpPr/>
          <p:nvPr/>
        </p:nvSpPr>
        <p:spPr>
          <a:xfrm>
            <a:off x="1101600" y="1450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663" name="Picture 4" descr="05"/>
          <p:cNvPicPr/>
          <p:nvPr/>
        </p:nvPicPr>
        <p:blipFill>
          <a:blip r:embed="rId1"/>
          <a:srcRect l="0" t="0" r="18611" b="0"/>
          <a:stretch/>
        </p:blipFill>
        <p:spPr>
          <a:xfrm>
            <a:off x="6327720" y="1433520"/>
            <a:ext cx="472140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a:rPr>
              <a:t>………………</a:t>
            </a:r>
            <a:r>
              <a:rPr b="0" lang="en-US" sz="1600" spc="-1" strike="noStrike">
                <a:solidFill>
                  <a:srgbClr val="898989"/>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a:rPr>
              <a:t>………………</a:t>
            </a:r>
            <a:r>
              <a:rPr b="0" lang="en-US" sz="1600" spc="-1" strike="noStrike">
                <a:solidFill>
                  <a:srgbClr val="d8d8d8"/>
                </a:solidFill>
                <a:latin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文字简介</a:t>
            </a:r>
            <a:endParaRPr b="0" lang="en-US" sz="1600" spc="-1" strike="noStrike">
              <a:solidFill>
                <a:srgbClr val="000000"/>
              </a:solidFill>
              <a:latin typeface="Calibri"/>
            </a:endParaRPr>
          </a:p>
        </p:txBody>
      </p:sp>
      <p:grpSp>
        <p:nvGrpSpPr>
          <p:cNvPr id="666" name="Group 3"/>
          <p:cNvGrpSpPr/>
          <p:nvPr/>
        </p:nvGrpSpPr>
        <p:grpSpPr>
          <a:xfrm>
            <a:off x="4991040" y="2616120"/>
            <a:ext cx="2616120" cy="862920"/>
            <a:chOff x="4991040" y="2616120"/>
            <a:chExt cx="2616120" cy="862920"/>
          </a:xfrm>
        </p:grpSpPr>
        <p:sp>
          <p:nvSpPr>
            <p:cNvPr id="667" name="圆角矩形 3"/>
            <p:cNvSpPr/>
            <p:nvPr/>
          </p:nvSpPr>
          <p:spPr>
            <a:xfrm>
              <a:off x="4991040" y="2616120"/>
              <a:ext cx="2616120" cy="64800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668" name="等腰三角形 4"/>
            <p:cNvSpPr/>
            <p:nvPr/>
          </p:nvSpPr>
          <p:spPr>
            <a:xfrm flipV="1">
              <a:off x="6008400" y="3119040"/>
              <a:ext cx="387360" cy="359640"/>
            </a:xfrm>
            <a:prstGeom prst="triangle">
              <a:avLst>
                <a:gd name="adj" fmla="val 49602"/>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标题 1"/>
          <p:cNvSpPr/>
          <p:nvPr/>
        </p:nvSpPr>
        <p:spPr>
          <a:xfrm>
            <a:off x="641520" y="284040"/>
            <a:ext cx="2838240" cy="528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670" name="副标题 2"/>
          <p:cNvSpPr/>
          <p:nvPr/>
        </p:nvSpPr>
        <p:spPr>
          <a:xfrm>
            <a:off x="1101600" y="1693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671" name="Picture 4" descr="05"/>
          <p:cNvPicPr/>
          <p:nvPr/>
        </p:nvPicPr>
        <p:blipFill>
          <a:blip r:embed="rId1"/>
          <a:srcRect l="0" t="0" r="18611" b="0"/>
          <a:stretch/>
        </p:blipFill>
        <p:spPr>
          <a:xfrm>
            <a:off x="6327720" y="1676520"/>
            <a:ext cx="472140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2" name="Group 2"/>
          <p:cNvGrpSpPr/>
          <p:nvPr/>
        </p:nvGrpSpPr>
        <p:grpSpPr>
          <a:xfrm>
            <a:off x="1523880" y="0"/>
            <a:ext cx="8466120" cy="6858000"/>
            <a:chOff x="1523880" y="0"/>
            <a:chExt cx="8466120" cy="6858000"/>
          </a:xfrm>
        </p:grpSpPr>
        <p:sp>
          <p:nvSpPr>
            <p:cNvPr id="673"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74" name="Picture 4" descr="http://www.elixirinteractive.com/LookFeel/elixirinteractive.com/images/headers/brand-awareness.jpg">
              <a:hlinkClick r:id="rId1"/>
            </p:cNvPr>
            <p:cNvPicPr/>
            <p:nvPr/>
          </p:nvPicPr>
          <p:blipFill>
            <a:blip r:embed="rId2"/>
            <a:stretch/>
          </p:blipFill>
          <p:spPr>
            <a:xfrm>
              <a:off x="1523880" y="1714320"/>
              <a:ext cx="8466120" cy="5143680"/>
            </a:xfrm>
            <a:prstGeom prst="rect">
              <a:avLst/>
            </a:prstGeom>
            <a:ln w="0">
              <a:noFill/>
            </a:ln>
          </p:spPr>
        </p:pic>
        <p:sp>
          <p:nvSpPr>
            <p:cNvPr id="675" name="TextBox 7"/>
            <p:cNvSpPr/>
            <p:nvPr/>
          </p:nvSpPr>
          <p:spPr>
            <a:xfrm rot="20926800">
              <a:off x="344484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卢肖亮</dc:creator>
  <dc:description/>
  <cp:keywords/>
  <dc:language>en-US</dc:language>
  <cp:lastModifiedBy>a</cp:lastModifiedBy>
  <dcterms:modified xsi:type="dcterms:W3CDTF">2014-05-20T07:41:01Z</dcterms:modified>
  <cp:revision>14</cp:revision>
  <dc:subject/>
  <dc:title>玩转办公</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2</vt:lpwstr>
  </property>
</Properties>
</file>