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48A48-7A0F-4B95-8301-2DC9832CF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508C3-32D8-45B5-A4C7-E97E78ABA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54EE3-FD5A-4541-9C59-8CDC92A80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45FBD-097A-4F1A-9AFB-1009410F4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27A0B-ACA4-4969-B96B-4A81F0022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ABC11-2914-442B-B1BA-081B0F804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92B7C-7FE7-4622-9D41-2D1FE906C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49F5E-DBA4-4FB0-833E-44EC4B123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1EDCE-1074-4AD9-B89C-617B38BC1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D7C2E-9616-4674-9C8E-7D0E0B82A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5CF7E-A589-450C-AE8B-87606F678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90A50-5844-4E0F-8C9E-EDE41A4D6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90065-91C9-4FD7-A0C3-2066C8EB7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D64F4-A568-4269-B267-F99F73A5E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1482A-38B1-42D8-ACBF-E80480BC8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F5E85-B669-4A64-88A9-D9C7BF9EC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88736-B8EF-4C9E-AE01-086B8E653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D6D8EC-0110-4B18-B75A-6633B22D5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1967E9-B32F-4BF8-A0B7-510AFE992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365F29-6FE4-442D-8D4B-1BB428F1C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202281-88C8-4B72-8B68-1BC7AF84A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B6B682-BA61-4124-89F1-61DDBE6A2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DAF7E-6342-4541-85B6-F6D28AD79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C68421-A2E9-48FF-A0B3-DB38892E4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393BD3-9E86-4433-8F34-BF82D370B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8D6C8B-5BCF-4978-AB92-509358489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DD054F-3949-4077-86B7-099C278AC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C56613-C3EE-4E35-B4D3-DF328A69C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0E1420-FFE5-406A-B321-BDEA085DA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CB4542-DE82-4CE1-8A5B-F4FFE0EA4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9ABBD-248C-494D-8769-BC02E4CCF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20547-0564-45D6-9D62-4E0E16012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D829B-8D77-4AA7-A261-BD262BFD7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0FF5A-93C2-438D-9EB0-0ECFD05C8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D2977-C0B3-4E0A-B540-816886AAF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50E6F-A17B-4959-8C74-FC92D2D0D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1CDE2-C7FB-411E-911D-E86611DA67E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71640" y="1155240"/>
            <a:ext cx="568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75463-551C-4314-9902-B16A743C644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cc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99cc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99cc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99cc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99cc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cc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99cc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99ccff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cc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99cc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cc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99cc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cc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99cc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55CE0-AAEA-41FE-A723-CD8042D6E2DA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771640" y="1155240"/>
            <a:ext cx="568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风车国度</a:t>
            </a: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模板下载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3088800" y="2755440"/>
            <a:ext cx="515484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28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9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0T15:08:12Z</dcterms:created>
  <dc:creator/>
  <dc:description/>
  <dc:language>en-US</dc:language>
  <cp:lastModifiedBy>a</cp:lastModifiedBy>
  <dcterms:modified xsi:type="dcterms:W3CDTF">2014-12-10T15:08:53Z</dcterms:modified>
  <cp:revision>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