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3D6-9739-4B31-9789-FE756928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9A2-FCBF-4E8B-B67C-8DF4A810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4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BE9-228C-4539-B56A-8A4972A2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4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4FE-227E-45C3-A181-1966BD1F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6FEC-A9FF-4120-BCF0-F57CC27D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B886-C3A9-4142-80CA-F2B7EC82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0342-8A81-4BD1-8AB6-1D6E2E21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775C-A1E7-4F87-B2AF-D0511B05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A26A-EED1-4527-B96E-17CCE2D2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85BC-88AF-4F6A-B786-24747B71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4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5E55-AB99-4B48-AF00-7423FA3F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8E3-F329-4CD2-A817-551921B5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1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1587-A8C6-4ED7-BD13-18506F32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4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7526-4BDB-4D5D-B15A-8A51E4F1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4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4337-DDDA-4D2B-8143-F4F3F5CF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4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1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0FA3-2E45-4D5D-9DF9-B119F6A5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6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9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4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6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9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129D-D7D4-461A-A4A4-1A0B252B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3DA-BBB0-4054-B1B0-48C4FFDB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99F-7843-464B-AFFB-34508908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232-E2C5-4786-BD62-C0074530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AAC-F6A7-47EA-A7DB-089B3C4E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4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58F-45A0-4E1B-97D0-4B37AC14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101-E508-4028-A3D5-7D76FF0A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4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C36-64ED-4E34-860F-93BF1BF2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72E8-D965-4832-BBC6-5A9C59755A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505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7A05-5EE3-49E8-A503-C590965F15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505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5050"/>
              </a:solidFill>
              <a:latin typeface="Trebuchet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5050"/>
              </a:solidFill>
              <a:latin typeface="Trebuchet MS"/>
              <a:ea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5050"/>
              </a:solidFill>
              <a:latin typeface="Trebuchet MS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71208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rebuchet MS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5050"/>
              </a:solidFill>
              <a:latin typeface="Trebuchet MS"/>
              <a:ea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  <a:ea typeface="宋体"/>
            </a:endParaRPr>
          </a:p>
        </p:txBody>
      </p:sp>
      <p:sp>
        <p:nvSpPr>
          <p:cNvPr id="89" name=""/>
          <p:cNvSpPr/>
          <p:nvPr/>
        </p:nvSpPr>
        <p:spPr>
          <a:xfrm>
            <a:off x="16506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d6e0d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d6e0d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d6e0d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d6e0d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3:54:25Z</dcterms:created>
  <dc:creator>FiSh</dc:creator>
  <dc:description/>
  <dc:language>en-US</dc:language>
  <cp:lastModifiedBy>FiSh</cp:lastModifiedBy>
  <cp:lastPrinted>1899-12-30T00:00:00Z</cp:lastPrinted>
  <dcterms:modified xsi:type="dcterms:W3CDTF">2014-05-19T05:37:5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