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2BF-690A-4634-B9B6-E907F9E8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C0D-4A4E-4275-BC80-ECE017B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58D-BFB8-4782-B87A-A235747B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86C-14BC-4E3D-8363-C211F2BB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F26-4360-4BA2-B8E4-954D9953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581-5D9F-4CEC-89FA-249656A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6C98-6C7F-4F8E-92E4-B4C9D8CF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8E8F-9F80-4EA4-AFFD-CBA8BB0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BFC9-6991-4015-852D-AA1BCA9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5F0-3812-41F5-97CA-54C0C48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9DD6-AC47-490B-947E-D6634B9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1D1-B1D7-4450-95C0-663BF48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9952-070A-4174-9DCA-EF782F2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806D-C0CE-4B77-B41B-8FDB322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FE14-04CA-44E2-8300-6722AB9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3FA-F7A8-48F1-8753-675F4DF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A9F-4646-4CED-A701-B27F5B56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E59-F657-49D8-9E0C-D25083BD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4FC-94A1-4778-A259-DA13075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F9B-CC15-4A84-9C96-2843FE2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A0E-F422-45D0-BE60-2A1E6EB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02D-3A3E-4489-B230-1DD6ACC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F98-C14F-4599-9201-027D70AD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188-EACC-42CC-8091-22A300D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376880" y="-7920"/>
            <a:ext cx="4773600" cy="611280"/>
            <a:chOff x="4376880" y="-7920"/>
            <a:chExt cx="4773600" cy="611280"/>
          </a:xfrm>
        </p:grpSpPr>
        <p:pic>
          <p:nvPicPr>
            <p:cNvPr id="2" name="Forme 7" descr=""/>
            <p:cNvPicPr/>
            <p:nvPr/>
          </p:nvPicPr>
          <p:blipFill>
            <a:blip r:embed="rId3"/>
            <a:stretch/>
          </p:blipFill>
          <p:spPr>
            <a:xfrm>
              <a:off x="4376880" y="-7920"/>
              <a:ext cx="47736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4B4B-01B3-4B8B-9E5E-A9A56430FBE8}" type="datetime2">
              <a:rPr b="0" lang="en-US" sz="1200" spc="-1" strike="noStrike">
                <a:solidFill>
                  <a:srgbClr val="5f6680"/>
                </a:solidFill>
                <a:latin typeface="Constantia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E51D-0175-4D95-A855-A2256763C97E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10" name="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11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203040"/>
                <a:ext cx="9140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1"/>
              <p:cNvSpPr/>
              <p:nvPr/>
            </p:nvSpPr>
            <p:spPr>
              <a:xfrm rot="21435600">
                <a:off x="-1404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14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0" y="248040"/>
                <a:ext cx="9154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Text Box 14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76880" y="-7920"/>
            <a:ext cx="4773600" cy="611280"/>
            <a:chOff x="4376880" y="-7920"/>
            <a:chExt cx="4773600" cy="611280"/>
          </a:xfrm>
        </p:grpSpPr>
        <p:pic>
          <p:nvPicPr>
            <p:cNvPr id="54" name="Forme 7" descr=""/>
            <p:cNvPicPr/>
            <p:nvPr/>
          </p:nvPicPr>
          <p:blipFill>
            <a:blip r:embed="rId3"/>
            <a:stretch/>
          </p:blipFill>
          <p:spPr>
            <a:xfrm>
              <a:off x="4376880" y="-7920"/>
              <a:ext cx="47736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8156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57" name="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58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203040"/>
                <a:ext cx="9140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11"/>
              <p:cNvSpPr/>
              <p:nvPr/>
            </p:nvSpPr>
            <p:spPr>
              <a:xfrm rot="21435600">
                <a:off x="-1404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61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0" y="248040"/>
                <a:ext cx="9154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14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6E5-7569-4F91-82E5-19BCFA413AA5}" type="datetime2">
              <a:rPr b="0" lang="en-US" sz="1200" spc="-1" strike="noStrike">
                <a:solidFill>
                  <a:srgbClr val="bcc7cd"/>
                </a:solidFill>
                <a:latin typeface="Constantia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407-E12F-4259-8CD1-BCE754B11B0C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1500120"/>
            <a:ext cx="9144000" cy="1784520"/>
          </a:xfrm>
          <a:prstGeom prst="rect">
            <a:avLst/>
          </a:prstGeom>
          <a:solidFill>
            <a:srgbClr val="d16349">
              <a:alpha val="80000"/>
            </a:srgbClr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粉色花瓣植物</a:t>
            </a: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6:33:34Z</dcterms:created>
  <dc:creator>Ric</dc:creator>
  <dc:description/>
  <dc:language>en-US</dc:language>
  <cp:lastModifiedBy>willon</cp:lastModifiedBy>
  <dcterms:modified xsi:type="dcterms:W3CDTF">2014-11-09T01:12:31Z</dcterms:modified>
  <cp:revision>19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