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97FB0C-E1D3-4FB0-B497-B36DFF2E24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70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66560" y="1052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60" y="3416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4499B4-17CC-41A5-A395-09465F62C9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170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66560" y="1052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83600" y="1052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6560" y="3416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83600" y="3416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F7AF4A-DB4A-47EB-878C-95FF6A72BB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70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66560" y="1052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49000" y="1052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31440" y="1052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560" y="3416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49000" y="3416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31440" y="3416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5EF9F6-4F8E-418A-910F-9B8B844911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EF964E-4456-4AF3-BCA1-EB2B35084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170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6656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4A3FBE-7666-48B1-8CCD-A31935D3B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170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656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4DDE9A-63FA-4546-AA49-71D2BB907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170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6560" y="1052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83600" y="1052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16C796-3456-4BBF-AEEA-CC2ED5486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170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897875-4024-49AF-A6D1-4283D3CDE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57200" y="117000"/>
            <a:ext cx="82296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C1241E-0D3C-4EE7-BC6F-B1D834D28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170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6560" y="1052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3600" y="1052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560" y="3416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26F426-E844-4543-80BC-4D45F55D9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170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6656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CE977E-84D3-43DA-9D68-6DDE3B8944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70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66560" y="1052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3600" y="1052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83600" y="3416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863A4F-D57A-4134-AB8A-CEE80BE3F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70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66560" y="1052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83600" y="1052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6560" y="3416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D134A9-E63C-44C6-8DD9-531ED4869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170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66560" y="1052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560" y="3416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0CE745-640F-42E0-A907-69C1C889D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170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66560" y="1052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83600" y="1052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6560" y="3416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83600" y="3416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0B1AF2-28D4-42C3-AD24-93B4654A4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170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6560" y="1052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49000" y="1052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31440" y="1052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6560" y="3416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49000" y="3416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31440" y="3416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7E4E30-82FF-4CF4-B52B-35A101CBC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170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6656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634ACB-E809-4623-ACC2-2E5213B5E9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170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66560" y="1052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3600" y="1052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AEDBD9-6E04-4B9A-A265-256D44189D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170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C4D894-76B0-4A1C-9C04-DA1E396651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117000"/>
            <a:ext cx="82296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133418-51FF-4C5B-98B0-F56424A6E4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1170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66560" y="1052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3600" y="1052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60" y="3416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534A4D-AB1C-42DA-98B9-A2B04B430F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70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66560" y="1052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3600" y="1052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83600" y="3416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D61574-FA30-4748-82FA-8F642D20E0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70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6560" y="1052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3600" y="1052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560" y="3416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2311C6-D4D4-44E7-944E-975BB608DA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3240" y="1989000"/>
            <a:ext cx="9156600" cy="48736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sldNum" idx="1"/>
          </p:nvPr>
        </p:nvSpPr>
        <p:spPr>
          <a:xfrm>
            <a:off x="107640" y="6577560"/>
            <a:ext cx="982440" cy="2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57E42-5313-4461-9985-8569ECA23F7D}" type="slidenum">
              <a:rPr b="0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未知"/>
          <p:cNvSpPr/>
          <p:nvPr/>
        </p:nvSpPr>
        <p:spPr>
          <a:xfrm>
            <a:off x="-3240" y="0"/>
            <a:ext cx="9175680" cy="6891480"/>
          </a:xfrm>
          <a:custGeom>
            <a:avLst/>
            <a:gdLst/>
            <a:ahLst/>
            <a:rect l="l" t="t" r="r" b="b"/>
            <a:pathLst>
              <a:path w="5784" h="4341">
                <a:moveTo>
                  <a:pt x="6" y="0"/>
                </a:moveTo>
                <a:lnTo>
                  <a:pt x="0" y="2941"/>
                </a:lnTo>
                <a:cubicBezTo>
                  <a:pt x="1122" y="3547"/>
                  <a:pt x="4681" y="4341"/>
                  <a:pt x="5784" y="4171"/>
                </a:cubicBezTo>
                <a:lnTo>
                  <a:pt x="5761" y="2"/>
                </a:lnTo>
                <a:lnTo>
                  <a:pt x="6" y="0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未知"/>
          <p:cNvSpPr/>
          <p:nvPr/>
        </p:nvSpPr>
        <p:spPr>
          <a:xfrm>
            <a:off x="0" y="5950080"/>
            <a:ext cx="3924360" cy="676080"/>
          </a:xfrm>
          <a:custGeom>
            <a:avLst/>
            <a:gdLst/>
            <a:ahLst/>
            <a:rect l="l" t="t" r="r" b="b"/>
            <a:pathLst>
              <a:path w="2180" h="420">
                <a:moveTo>
                  <a:pt x="2178" y="240"/>
                </a:moveTo>
                <a:cubicBezTo>
                  <a:pt x="2180" y="264"/>
                  <a:pt x="1614" y="420"/>
                  <a:pt x="1314" y="420"/>
                </a:cubicBezTo>
                <a:cubicBezTo>
                  <a:pt x="1002" y="414"/>
                  <a:pt x="1004" y="408"/>
                  <a:pt x="714" y="378"/>
                </a:cubicBezTo>
                <a:cubicBezTo>
                  <a:pt x="424" y="349"/>
                  <a:pt x="15" y="305"/>
                  <a:pt x="6" y="313"/>
                </a:cubicBezTo>
                <a:lnTo>
                  <a:pt x="0" y="41"/>
                </a:lnTo>
                <a:cubicBezTo>
                  <a:pt x="86" y="0"/>
                  <a:pt x="378" y="42"/>
                  <a:pt x="522" y="66"/>
                </a:cubicBezTo>
                <a:cubicBezTo>
                  <a:pt x="803" y="111"/>
                  <a:pt x="1116" y="250"/>
                  <a:pt x="1374" y="276"/>
                </a:cubicBezTo>
                <a:cubicBezTo>
                  <a:pt x="1692" y="300"/>
                  <a:pt x="1968" y="294"/>
                  <a:pt x="2178" y="240"/>
                </a:cubicBezTo>
                <a:close/>
              </a:path>
            </a:pathLst>
          </a:custGeom>
          <a:solidFill>
            <a:srgbClr val="ff0066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未知"/>
          <p:cNvSpPr/>
          <p:nvPr/>
        </p:nvSpPr>
        <p:spPr>
          <a:xfrm>
            <a:off x="611280" y="5516640"/>
            <a:ext cx="8550360" cy="898560"/>
          </a:xfrm>
          <a:custGeom>
            <a:avLst/>
            <a:gdLst/>
            <a:ahLst/>
            <a:rect l="l" t="t" r="r" b="b"/>
            <a:pathLst>
              <a:path w="5703" h="874">
                <a:moveTo>
                  <a:pt x="10" y="462"/>
                </a:moveTo>
                <a:cubicBezTo>
                  <a:pt x="0" y="417"/>
                  <a:pt x="666" y="208"/>
                  <a:pt x="1336" y="193"/>
                </a:cubicBezTo>
                <a:cubicBezTo>
                  <a:pt x="2139" y="157"/>
                  <a:pt x="2901" y="380"/>
                  <a:pt x="3628" y="348"/>
                </a:cubicBezTo>
                <a:cubicBezTo>
                  <a:pt x="4355" y="316"/>
                  <a:pt x="5674" y="18"/>
                  <a:pt x="5698" y="0"/>
                </a:cubicBezTo>
                <a:lnTo>
                  <a:pt x="5703" y="644"/>
                </a:lnTo>
                <a:cubicBezTo>
                  <a:pt x="5306" y="784"/>
                  <a:pt x="4051" y="874"/>
                  <a:pt x="3315" y="839"/>
                </a:cubicBezTo>
                <a:cubicBezTo>
                  <a:pt x="2107" y="712"/>
                  <a:pt x="2132" y="520"/>
                  <a:pt x="1285" y="436"/>
                </a:cubicBezTo>
                <a:cubicBezTo>
                  <a:pt x="557" y="362"/>
                  <a:pt x="117" y="451"/>
                  <a:pt x="10" y="462"/>
                </a:cubicBezTo>
                <a:close/>
              </a:path>
            </a:pathLst>
          </a:custGeom>
          <a:solidFill>
            <a:srgbClr val="bd8d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未知"/>
          <p:cNvSpPr/>
          <p:nvPr/>
        </p:nvSpPr>
        <p:spPr>
          <a:xfrm>
            <a:off x="2843280" y="5950080"/>
            <a:ext cx="6327720" cy="620640"/>
          </a:xfrm>
          <a:custGeom>
            <a:avLst/>
            <a:gdLst/>
            <a:ahLst/>
            <a:rect l="l" t="t" r="r" b="b"/>
            <a:pathLst>
              <a:path w="4533" h="761">
                <a:moveTo>
                  <a:pt x="5" y="247"/>
                </a:moveTo>
                <a:cubicBezTo>
                  <a:pt x="0" y="214"/>
                  <a:pt x="581" y="0"/>
                  <a:pt x="1089" y="38"/>
                </a:cubicBezTo>
                <a:cubicBezTo>
                  <a:pt x="1700" y="71"/>
                  <a:pt x="2138" y="141"/>
                  <a:pt x="2731" y="184"/>
                </a:cubicBezTo>
                <a:cubicBezTo>
                  <a:pt x="3324" y="226"/>
                  <a:pt x="4514" y="79"/>
                  <a:pt x="4533" y="68"/>
                </a:cubicBezTo>
                <a:lnTo>
                  <a:pt x="4516" y="669"/>
                </a:lnTo>
                <a:cubicBezTo>
                  <a:pt x="4172" y="761"/>
                  <a:pt x="3088" y="728"/>
                  <a:pt x="2469" y="623"/>
                </a:cubicBezTo>
                <a:cubicBezTo>
                  <a:pt x="1562" y="443"/>
                  <a:pt x="1597" y="387"/>
                  <a:pt x="1075" y="241"/>
                </a:cubicBezTo>
                <a:cubicBezTo>
                  <a:pt x="534" y="97"/>
                  <a:pt x="73" y="241"/>
                  <a:pt x="5" y="247"/>
                </a:cubicBezTo>
                <a:close/>
              </a:path>
            </a:pathLst>
          </a:custGeom>
          <a:solidFill>
            <a:srgbClr val="ff66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"/>
          <p:cNvSpPr/>
          <p:nvPr/>
        </p:nvSpPr>
        <p:spPr>
          <a:xfrm>
            <a:off x="-3240" y="797040"/>
            <a:ext cx="9147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title"/>
          </p:nvPr>
        </p:nvSpPr>
        <p:spPr>
          <a:xfrm>
            <a:off x="457200" y="1170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body"/>
          </p:nvPr>
        </p:nvSpPr>
        <p:spPr>
          <a:xfrm>
            <a:off x="46656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cc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ulim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ulim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  <a:p>
            <a:pPr lvl="2" marL="1143000" indent="-228600">
              <a:spcBef>
                <a:spcPts val="601"/>
              </a:spcBef>
              <a:buClr>
                <a:srgbClr val="99cc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ulim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  <a:p>
            <a:pPr lvl="3" marL="1600200" indent="-228600">
              <a:spcBef>
                <a:spcPts val="601"/>
              </a:spcBef>
              <a:buClr>
                <a:srgbClr val="99ccff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ulim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  <a:p>
            <a:pPr lvl="4" marL="2057400" indent="-228600">
              <a:spcBef>
                <a:spcPts val="601"/>
              </a:spcBef>
              <a:buClr>
                <a:srgbClr val="99cc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ulim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ulim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ulim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-3240" y="1989000"/>
            <a:ext cx="9156600" cy="4873680"/>
          </a:xfrm>
          <a:prstGeom prst="rect">
            <a:avLst/>
          </a:prstGeom>
          <a:ln w="0">
            <a:noFill/>
          </a:ln>
        </p:spPr>
      </p:pic>
      <p:sp>
        <p:nvSpPr>
          <p:cNvPr id="47" name="未知"/>
          <p:cNvSpPr/>
          <p:nvPr/>
        </p:nvSpPr>
        <p:spPr>
          <a:xfrm>
            <a:off x="-3240" y="0"/>
            <a:ext cx="9156600" cy="4033800"/>
          </a:xfrm>
          <a:custGeom>
            <a:avLst/>
            <a:gdLst/>
            <a:ahLst/>
            <a:rect l="l" t="t" r="r" b="b"/>
            <a:pathLst>
              <a:path w="5772" h="2541">
                <a:moveTo>
                  <a:pt x="0" y="0"/>
                </a:moveTo>
                <a:lnTo>
                  <a:pt x="6" y="1272"/>
                </a:lnTo>
                <a:cubicBezTo>
                  <a:pt x="517" y="1666"/>
                  <a:pt x="2103" y="2282"/>
                  <a:pt x="3064" y="2364"/>
                </a:cubicBezTo>
                <a:cubicBezTo>
                  <a:pt x="4702" y="2541"/>
                  <a:pt x="5251" y="2003"/>
                  <a:pt x="5772" y="1762"/>
                </a:cubicBezTo>
                <a:lnTo>
                  <a:pt x="5755" y="1"/>
                </a:lnTo>
                <a:lnTo>
                  <a:pt x="0" y="0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8" name="未知"/>
          <p:cNvSpPr/>
          <p:nvPr/>
        </p:nvSpPr>
        <p:spPr>
          <a:xfrm>
            <a:off x="-30240" y="3429000"/>
            <a:ext cx="3454560" cy="666720"/>
          </a:xfrm>
          <a:custGeom>
            <a:avLst/>
            <a:gdLst/>
            <a:ahLst/>
            <a:rect l="l" t="t" r="r" b="b"/>
            <a:pathLst>
              <a:path w="2180" h="420">
                <a:moveTo>
                  <a:pt x="2178" y="240"/>
                </a:moveTo>
                <a:cubicBezTo>
                  <a:pt x="2180" y="264"/>
                  <a:pt x="1614" y="420"/>
                  <a:pt x="1314" y="420"/>
                </a:cubicBezTo>
                <a:cubicBezTo>
                  <a:pt x="1002" y="414"/>
                  <a:pt x="1004" y="408"/>
                  <a:pt x="714" y="378"/>
                </a:cubicBezTo>
                <a:cubicBezTo>
                  <a:pt x="424" y="349"/>
                  <a:pt x="15" y="305"/>
                  <a:pt x="6" y="313"/>
                </a:cubicBezTo>
                <a:lnTo>
                  <a:pt x="0" y="41"/>
                </a:lnTo>
                <a:cubicBezTo>
                  <a:pt x="86" y="0"/>
                  <a:pt x="378" y="42"/>
                  <a:pt x="522" y="66"/>
                </a:cubicBezTo>
                <a:cubicBezTo>
                  <a:pt x="803" y="111"/>
                  <a:pt x="1116" y="250"/>
                  <a:pt x="1374" y="276"/>
                </a:cubicBezTo>
                <a:cubicBezTo>
                  <a:pt x="1692" y="300"/>
                  <a:pt x="1968" y="294"/>
                  <a:pt x="2178" y="240"/>
                </a:cubicBezTo>
                <a:close/>
              </a:path>
            </a:pathLst>
          </a:custGeom>
          <a:solidFill>
            <a:srgbClr val="ff0066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9" name="未知"/>
          <p:cNvSpPr/>
          <p:nvPr/>
        </p:nvSpPr>
        <p:spPr>
          <a:xfrm>
            <a:off x="108000" y="2790720"/>
            <a:ext cx="9053640" cy="1224000"/>
          </a:xfrm>
          <a:custGeom>
            <a:avLst/>
            <a:gdLst/>
            <a:ahLst/>
            <a:rect l="l" t="t" r="r" b="b"/>
            <a:pathLst>
              <a:path w="5703" h="874">
                <a:moveTo>
                  <a:pt x="10" y="462"/>
                </a:moveTo>
                <a:cubicBezTo>
                  <a:pt x="0" y="417"/>
                  <a:pt x="666" y="208"/>
                  <a:pt x="1336" y="193"/>
                </a:cubicBezTo>
                <a:cubicBezTo>
                  <a:pt x="2139" y="157"/>
                  <a:pt x="2901" y="380"/>
                  <a:pt x="3628" y="348"/>
                </a:cubicBezTo>
                <a:cubicBezTo>
                  <a:pt x="4355" y="316"/>
                  <a:pt x="5674" y="18"/>
                  <a:pt x="5698" y="0"/>
                </a:cubicBezTo>
                <a:lnTo>
                  <a:pt x="5703" y="644"/>
                </a:lnTo>
                <a:cubicBezTo>
                  <a:pt x="5306" y="784"/>
                  <a:pt x="4051" y="874"/>
                  <a:pt x="3315" y="839"/>
                </a:cubicBezTo>
                <a:cubicBezTo>
                  <a:pt x="2107" y="712"/>
                  <a:pt x="2132" y="520"/>
                  <a:pt x="1285" y="436"/>
                </a:cubicBezTo>
                <a:cubicBezTo>
                  <a:pt x="557" y="362"/>
                  <a:pt x="117" y="451"/>
                  <a:pt x="10" y="462"/>
                </a:cubicBezTo>
                <a:close/>
              </a:path>
            </a:pathLst>
          </a:custGeom>
          <a:solidFill>
            <a:srgbClr val="bd8d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0" name="未知"/>
          <p:cNvSpPr/>
          <p:nvPr/>
        </p:nvSpPr>
        <p:spPr>
          <a:xfrm>
            <a:off x="1974960" y="3392640"/>
            <a:ext cx="7196040" cy="1207800"/>
          </a:xfrm>
          <a:custGeom>
            <a:avLst/>
            <a:gdLst/>
            <a:ahLst/>
            <a:rect l="l" t="t" r="r" b="b"/>
            <a:pathLst>
              <a:path w="4533" h="761">
                <a:moveTo>
                  <a:pt x="5" y="247"/>
                </a:moveTo>
                <a:cubicBezTo>
                  <a:pt x="0" y="214"/>
                  <a:pt x="581" y="0"/>
                  <a:pt x="1089" y="38"/>
                </a:cubicBezTo>
                <a:cubicBezTo>
                  <a:pt x="1700" y="71"/>
                  <a:pt x="2138" y="141"/>
                  <a:pt x="2731" y="184"/>
                </a:cubicBezTo>
                <a:cubicBezTo>
                  <a:pt x="3324" y="226"/>
                  <a:pt x="4514" y="79"/>
                  <a:pt x="4533" y="68"/>
                </a:cubicBezTo>
                <a:lnTo>
                  <a:pt x="4516" y="669"/>
                </a:lnTo>
                <a:cubicBezTo>
                  <a:pt x="4172" y="761"/>
                  <a:pt x="3088" y="728"/>
                  <a:pt x="2469" y="623"/>
                </a:cubicBezTo>
                <a:cubicBezTo>
                  <a:pt x="1562" y="443"/>
                  <a:pt x="1597" y="387"/>
                  <a:pt x="1075" y="241"/>
                </a:cubicBezTo>
                <a:cubicBezTo>
                  <a:pt x="534" y="97"/>
                  <a:pt x="73" y="241"/>
                  <a:pt x="5" y="247"/>
                </a:cubicBezTo>
                <a:close/>
              </a:path>
            </a:pathLst>
          </a:custGeom>
          <a:solidFill>
            <a:srgbClr val="ff66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1" name="未知"/>
          <p:cNvSpPr/>
          <p:nvPr/>
        </p:nvSpPr>
        <p:spPr>
          <a:xfrm>
            <a:off x="3781440" y="3300480"/>
            <a:ext cx="5389560" cy="776160"/>
          </a:xfrm>
          <a:custGeom>
            <a:avLst/>
            <a:gdLst/>
            <a:ahLst/>
            <a:rect l="l" t="t" r="r" b="b"/>
            <a:pathLst>
              <a:path w="3395" h="489">
                <a:moveTo>
                  <a:pt x="3" y="256"/>
                </a:moveTo>
                <a:cubicBezTo>
                  <a:pt x="0" y="287"/>
                  <a:pt x="882" y="489"/>
                  <a:pt x="1350" y="489"/>
                </a:cubicBezTo>
                <a:cubicBezTo>
                  <a:pt x="1837" y="481"/>
                  <a:pt x="1834" y="473"/>
                  <a:pt x="2286" y="435"/>
                </a:cubicBezTo>
                <a:cubicBezTo>
                  <a:pt x="2738" y="397"/>
                  <a:pt x="3376" y="340"/>
                  <a:pt x="3390" y="350"/>
                </a:cubicBezTo>
                <a:lnTo>
                  <a:pt x="3395" y="8"/>
                </a:lnTo>
                <a:cubicBezTo>
                  <a:pt x="3040" y="0"/>
                  <a:pt x="1822" y="261"/>
                  <a:pt x="1257" y="302"/>
                </a:cubicBezTo>
                <a:cubicBezTo>
                  <a:pt x="761" y="334"/>
                  <a:pt x="331" y="326"/>
                  <a:pt x="3" y="256"/>
                </a:cubicBezTo>
                <a:close/>
              </a:path>
            </a:pathLst>
          </a:custGeom>
          <a:solidFill>
            <a:srgbClr val="ffffff">
              <a:alpha val="6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33480" y="1773000"/>
            <a:ext cx="7340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D756D-2347-4032-8997-0729F354A3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ulim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ulim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  <a:p>
            <a:pPr lvl="2" marL="914400" algn="ctr">
              <a:spcBef>
                <a:spcPts val="451"/>
              </a:spcBef>
              <a:buClr>
                <a:srgbClr val="99ccff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ulim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  <a:p>
            <a:pPr lvl="3" marL="1371600" algn="ctr">
              <a:spcBef>
                <a:spcPts val="400"/>
              </a:spcBef>
              <a:buClr>
                <a:srgbClr val="99ccff"/>
              </a:buClr>
              <a:buSzPct val="75000"/>
              <a:buFont typeface="Wingdings" charset="2"/>
              <a:buChar char="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ulim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  <a:p>
            <a:pPr lvl="4" marL="1828800" algn="ctr">
              <a:spcBef>
                <a:spcPts val="400"/>
              </a:spcBef>
              <a:buClr>
                <a:srgbClr val="99cc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ulim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ulim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ulim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33480" y="1773000"/>
            <a:ext cx="7340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000000"/>
                </a:solidFill>
                <a:latin typeface="Arial Black"/>
              </a:rPr>
              <a:t>风尚世界</a:t>
            </a:r>
            <a:r>
              <a:rPr b="0" lang="zh-CN" sz="4000" spc="-1" strike="noStrike">
                <a:solidFill>
                  <a:srgbClr val="000000"/>
                </a:solidFill>
                <a:latin typeface="Arial Black"/>
              </a:rPr>
              <a:t>PPT</a:t>
            </a:r>
            <a:r>
              <a:rPr b="0" lang="ko-KR" sz="4000" spc="-1" strike="noStrike">
                <a:solidFill>
                  <a:srgbClr val="000000"/>
                </a:solidFill>
                <a:latin typeface="Arial Black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403280" y="4868640"/>
            <a:ext cx="64008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5" name=""/>
          <p:cNvSpPr/>
          <p:nvPr/>
        </p:nvSpPr>
        <p:spPr>
          <a:xfrm>
            <a:off x="6918480" y="629280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Gulim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CD5497-2AB4-4C42-94FC-2D56B2CC8A0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70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6656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8" name=""/>
          <p:cNvSpPr/>
          <p:nvPr/>
        </p:nvSpPr>
        <p:spPr>
          <a:xfrm>
            <a:off x="1433880" y="6165720"/>
            <a:ext cx="56332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ccccff"/>
                </a:solidFill>
                <a:uFillTx/>
                <a:latin typeface="华文新魏"/>
                <a:ea typeface="华文新魏"/>
                <a:hlinkClick r:id="rId1"/>
              </a:rPr>
              <a:t>PPT之家</a:t>
            </a:r>
            <a:r>
              <a:rPr b="1" lang="zh-CN" sz="1800" spc="-1" strike="noStrike">
                <a:solidFill>
                  <a:srgbClr val="ffffff"/>
                </a:solidFill>
                <a:latin typeface="华文新魏"/>
                <a:ea typeface="华文新魏"/>
              </a:rPr>
              <a:t>整理发布，更多免费</a:t>
            </a:r>
            <a:r>
              <a:rPr b="1" lang="zh-CN" sz="1800" spc="-1" strike="noStrike">
                <a:solidFill>
                  <a:srgbClr val="ffffff"/>
                </a:solidFill>
                <a:latin typeface="华文新魏"/>
                <a:ea typeface="华文新魏"/>
              </a:rPr>
              <a:t>PPT</a:t>
            </a:r>
            <a:r>
              <a:rPr b="1" lang="zh-CN" sz="1800" spc="-1" strike="noStrike">
                <a:solidFill>
                  <a:srgbClr val="ffffff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800" spc="-1" strike="noStrike">
                <a:solidFill>
                  <a:srgbClr val="ffffff"/>
                </a:solidFill>
                <a:latin typeface="华文新魏"/>
                <a:ea typeface="华文新魏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656DCA-2893-43DF-ADF3-27DB2D23E8D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8T12:37:18Z</dcterms:created>
  <dc:creator/>
  <dc:description/>
  <dc:language>en-US</dc:language>
  <cp:lastModifiedBy>user</cp:lastModifiedBy>
  <dcterms:modified xsi:type="dcterms:W3CDTF">2014-11-09T01:17:36Z</dcterms:modified>
  <cp:revision>1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