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5.gif" ContentType="image/gif"/>
  <Override PartName="/ppt/media/image6.jpeg" ContentType="image/jpeg"/>
  <Override PartName="/ppt/media/image8.png" ContentType="image/png"/>
  <Override PartName="/ppt/media/image7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CA3-CFA4-4C3F-A1BF-1AC481A2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28CE-8AE6-4D65-B2C9-EFC47D23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B014-A8F0-46B8-9AA6-53C29D8A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00C1-EB14-4492-9B13-07D252F4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0A07-1A63-44F1-9EAF-654994D6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3CD1-4326-49C3-906B-5AF985FC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DBF0-AD13-4285-A318-6C96FCE3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0ABA-DC3B-421F-89A4-A41A39AE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858-DB3A-46E0-BC73-5EBED5DC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C182-E41F-4903-9AE2-75EDC078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62E2-D85A-44C6-84CD-BC8D7D3C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9506-C875-4CAD-B646-4A420B72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5B91-6435-4505-BB0D-4D06A045762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0B59-A95D-4D11-A66B-17FCB3412D5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4643280" y="1989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粉色小树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PPT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7156440" y="62928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99c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"/>
          <p:cNvPicPr/>
          <p:nvPr/>
        </p:nvPicPr>
        <p:blipFill>
          <a:blip r:embed="rId2"/>
          <a:stretch/>
        </p:blipFill>
        <p:spPr>
          <a:xfrm>
            <a:off x="0" y="5645160"/>
            <a:ext cx="1587600" cy="121932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1941480" y="1205280"/>
            <a:ext cx="5362560" cy="4477320"/>
            <a:chOff x="1941480" y="1205280"/>
            <a:chExt cx="5362560" cy="4477320"/>
          </a:xfrm>
        </p:grpSpPr>
        <p:sp>
          <p:nvSpPr>
            <p:cNvPr id="45" name="矩形 3"/>
            <p:cNvSpPr/>
            <p:nvPr/>
          </p:nvSpPr>
          <p:spPr>
            <a:xfrm>
              <a:off x="1941480" y="2874240"/>
              <a:ext cx="1532880" cy="807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5"/>
            <p:cNvSpPr/>
            <p:nvPr/>
          </p:nvSpPr>
          <p:spPr>
            <a:xfrm>
              <a:off x="1941480" y="4170600"/>
              <a:ext cx="1532880" cy="807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6"/>
            <p:cNvSpPr/>
            <p:nvPr/>
          </p:nvSpPr>
          <p:spPr>
            <a:xfrm>
              <a:off x="1941480" y="1578240"/>
              <a:ext cx="1532880" cy="807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0"/>
            <p:cNvSpPr/>
            <p:nvPr/>
          </p:nvSpPr>
          <p:spPr>
            <a:xfrm rot="21068400">
              <a:off x="3881880" y="1453680"/>
              <a:ext cx="3334680" cy="138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9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1"/>
            <p:cNvSpPr/>
            <p:nvPr/>
          </p:nvSpPr>
          <p:spPr>
            <a:xfrm rot="21068400">
              <a:off x="3881880" y="2762640"/>
              <a:ext cx="3334680" cy="138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9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12"/>
            <p:cNvSpPr/>
            <p:nvPr/>
          </p:nvSpPr>
          <p:spPr>
            <a:xfrm rot="21068400">
              <a:off x="3792960" y="4045680"/>
              <a:ext cx="3334680" cy="138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9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图片 8" descr=""/>
          <p:cNvPicPr/>
          <p:nvPr/>
        </p:nvPicPr>
        <p:blipFill>
          <a:blip r:embed="rId3"/>
          <a:srcRect l="26608" t="10195" r="0" b="0"/>
          <a:stretch/>
        </p:blipFill>
        <p:spPr>
          <a:xfrm>
            <a:off x="0" y="0"/>
            <a:ext cx="631800" cy="865080"/>
          </a:xfrm>
          <a:prstGeom prst="rect">
            <a:avLst/>
          </a:prstGeom>
          <a:ln w="0">
            <a:noFill/>
          </a:ln>
        </p:spPr>
      </p:pic>
      <p:sp>
        <p:nvSpPr>
          <p:cNvPr id="52" name="TextBox 13"/>
          <p:cNvSpPr/>
          <p:nvPr/>
        </p:nvSpPr>
        <p:spPr>
          <a:xfrm>
            <a:off x="682560" y="2602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6c09"/>
                </a:solidFill>
                <a:latin typeface="Cooper Std Black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2482920" y="1749600"/>
            <a:ext cx="3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5"/>
          <p:cNvSpPr/>
          <p:nvPr/>
        </p:nvSpPr>
        <p:spPr>
          <a:xfrm>
            <a:off x="2482920" y="3087720"/>
            <a:ext cx="3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6"/>
          <p:cNvSpPr/>
          <p:nvPr/>
        </p:nvSpPr>
        <p:spPr>
          <a:xfrm>
            <a:off x="2482920" y="4397400"/>
            <a:ext cx="3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4535640" y="200988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4535640" y="328788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9"/>
          <p:cNvSpPr/>
          <p:nvPr/>
        </p:nvSpPr>
        <p:spPr>
          <a:xfrm>
            <a:off x="4535640" y="457524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"/>
          <p:cNvPicPr/>
          <p:nvPr/>
        </p:nvPicPr>
        <p:blipFill>
          <a:blip r:embed="rId2"/>
          <a:stretch/>
        </p:blipFill>
        <p:spPr>
          <a:xfrm>
            <a:off x="108000" y="5445000"/>
            <a:ext cx="1589040" cy="1241640"/>
          </a:xfrm>
          <a:prstGeom prst="rect">
            <a:avLst/>
          </a:prstGeom>
          <a:ln w="0">
            <a:noFill/>
          </a:ln>
        </p:spPr>
      </p:pic>
      <p:sp>
        <p:nvSpPr>
          <p:cNvPr id="60" name="椭圆 5"/>
          <p:cNvSpPr/>
          <p:nvPr/>
        </p:nvSpPr>
        <p:spPr>
          <a:xfrm>
            <a:off x="1547640" y="3860640"/>
            <a:ext cx="1440000" cy="14400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3"/>
          <p:cNvSpPr/>
          <p:nvPr/>
        </p:nvSpPr>
        <p:spPr>
          <a:xfrm>
            <a:off x="3276720" y="2747880"/>
            <a:ext cx="1295280" cy="129564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4"/>
          <p:cNvSpPr/>
          <p:nvPr/>
        </p:nvSpPr>
        <p:spPr>
          <a:xfrm>
            <a:off x="6661080" y="1413000"/>
            <a:ext cx="935280" cy="9363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6"/>
          <p:cNvSpPr/>
          <p:nvPr/>
        </p:nvSpPr>
        <p:spPr>
          <a:xfrm>
            <a:off x="5003640" y="1917720"/>
            <a:ext cx="1152720" cy="11509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上弧形箭头 10"/>
          <p:cNvSpPr/>
          <p:nvPr/>
        </p:nvSpPr>
        <p:spPr>
          <a:xfrm rot="18015000">
            <a:off x="2294640" y="3149640"/>
            <a:ext cx="934920" cy="432000"/>
          </a:xfrm>
          <a:custGeom>
            <a:avLst/>
            <a:gdLst>
              <a:gd name="textAreaLeft" fmla="*/ 193320 w 934920"/>
              <a:gd name="textAreaRight" fmla="*/ 687960 w 93492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32" hR="21600" stAng="10800000" swAng="5400000"/>
                <a:lnTo>
                  <a:pt x="11423" y="0"/>
                </a:lnTo>
                <a:arcTo wR="8932" hR="21600" stAng="-5400000" swAng="3481087"/>
                <a:lnTo>
                  <a:pt x="21316" y="16200"/>
                </a:lnTo>
                <a:lnTo>
                  <a:pt x="19109" y="21600"/>
                </a:lnTo>
                <a:lnTo>
                  <a:pt x="16333" y="16200"/>
                </a:lnTo>
                <a:lnTo>
                  <a:pt x="17579" y="16200"/>
                </a:lnTo>
                <a:arcTo wR="8932" hR="21600" stAng="-1918913" swAng="-3281129"/>
                <a:lnTo>
                  <a:pt x="10177" y="211"/>
                </a:lnTo>
                <a:arcTo wR="8932" hR="21600" stAng="-5599958" swAng="-5200042"/>
                <a:close/>
              </a:path>
              <a:path fill="darkenLess" w="21600" h="21600">
                <a:moveTo>
                  <a:pt x="0" y="21600"/>
                </a:moveTo>
                <a:arcTo wR="8932" hR="21600" stAng="10800000" swAng="5400000"/>
                <a:lnTo>
                  <a:pt x="8932" y="0"/>
                </a:lnTo>
                <a:arcTo wR="8932" hR="21600" stAng="-5400000" swAng="199958"/>
                <a:lnTo>
                  <a:pt x="10177" y="211"/>
                </a:lnTo>
                <a:arcTo wR="8932" hR="21600" stAng="-5599958" swAng="-5200042"/>
                <a:close/>
              </a:path>
            </a:pathLst>
          </a:custGeom>
          <a:solidFill>
            <a:srgbClr val="962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上弧形箭头 11"/>
          <p:cNvSpPr/>
          <p:nvPr/>
        </p:nvSpPr>
        <p:spPr>
          <a:xfrm rot="18039000">
            <a:off x="4103640" y="2141280"/>
            <a:ext cx="936360" cy="432000"/>
          </a:xfrm>
          <a:custGeom>
            <a:avLst/>
            <a:gdLst>
              <a:gd name="textAreaLeft" fmla="*/ 193320 w 936360"/>
              <a:gd name="textAreaRight" fmla="*/ 688680 w 93636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32" hR="21600" stAng="10800000" swAng="5400000"/>
                <a:lnTo>
                  <a:pt x="11423" y="0"/>
                </a:lnTo>
                <a:arcTo wR="8932" hR="21600" stAng="-5400000" swAng="3481087"/>
                <a:lnTo>
                  <a:pt x="21316" y="16200"/>
                </a:lnTo>
                <a:lnTo>
                  <a:pt x="19109" y="21600"/>
                </a:lnTo>
                <a:lnTo>
                  <a:pt x="16333" y="16200"/>
                </a:lnTo>
                <a:lnTo>
                  <a:pt x="17579" y="16200"/>
                </a:lnTo>
                <a:arcTo wR="8932" hR="21600" stAng="-1918913" swAng="-3281129"/>
                <a:lnTo>
                  <a:pt x="10177" y="211"/>
                </a:lnTo>
                <a:arcTo wR="8932" hR="21600" stAng="-5599958" swAng="-5200042"/>
                <a:close/>
              </a:path>
              <a:path fill="darkenLess" w="21600" h="21600">
                <a:moveTo>
                  <a:pt x="0" y="21600"/>
                </a:moveTo>
                <a:arcTo wR="8932" hR="21600" stAng="10800000" swAng="5400000"/>
                <a:lnTo>
                  <a:pt x="8932" y="0"/>
                </a:lnTo>
                <a:arcTo wR="8932" hR="21600" stAng="-5400000" swAng="199958"/>
                <a:lnTo>
                  <a:pt x="10177" y="211"/>
                </a:lnTo>
                <a:arcTo wR="8932" hR="21600" stAng="-5599958" swAng="-5200042"/>
                <a:close/>
              </a:path>
            </a:pathLst>
          </a:custGeom>
          <a:solidFill>
            <a:srgbClr val="962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上弧形箭头 12"/>
          <p:cNvSpPr/>
          <p:nvPr/>
        </p:nvSpPr>
        <p:spPr>
          <a:xfrm rot="18529200">
            <a:off x="5904720" y="1529280"/>
            <a:ext cx="858600" cy="330120"/>
          </a:xfrm>
          <a:custGeom>
            <a:avLst/>
            <a:gdLst>
              <a:gd name="textAreaLeft" fmla="*/ 183600 w 858600"/>
              <a:gd name="textAreaRight" fmla="*/ 633600 w 858600"/>
              <a:gd name="textAreaTop" fmla="*/ 43920 h 330120"/>
              <a:gd name="textAreaBottom" fmla="*/ 286200 h 330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40" hR="21600" stAng="10800000" swAng="5400000"/>
                <a:lnTo>
                  <a:pt x="11320" y="0"/>
                </a:lnTo>
                <a:arcTo wR="9240" hR="21600" stAng="-5400000" swAng="3533053"/>
                <a:lnTo>
                  <a:pt x="21307" y="16200"/>
                </a:lnTo>
                <a:lnTo>
                  <a:pt x="19519" y="21600"/>
                </a:lnTo>
                <a:lnTo>
                  <a:pt x="17145" y="16200"/>
                </a:lnTo>
                <a:lnTo>
                  <a:pt x="18186" y="16200"/>
                </a:lnTo>
                <a:arcTo wR="9240" hR="21600" stAng="-1866947" swAng="-3366603"/>
                <a:lnTo>
                  <a:pt x="10280" y="137"/>
                </a:lnTo>
                <a:arcTo wR="9240" hR="21600" stAng="-5566450" swAng="-5233550"/>
                <a:close/>
              </a:path>
              <a:path fill="darkenLess" w="21600" h="21600">
                <a:moveTo>
                  <a:pt x="0" y="21600"/>
                </a:moveTo>
                <a:arcTo wR="9240" hR="21600" stAng="10800000" swAng="5400000"/>
                <a:lnTo>
                  <a:pt x="9240" y="0"/>
                </a:lnTo>
                <a:arcTo wR="9240" hR="21600" stAng="-5400000" swAng="166450"/>
                <a:lnTo>
                  <a:pt x="10280" y="137"/>
                </a:lnTo>
                <a:arcTo wR="9240" hR="21600" stAng="-5566450" swAng="-5233550"/>
                <a:close/>
              </a:path>
            </a:pathLst>
          </a:custGeom>
          <a:solidFill>
            <a:srgbClr val="962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2" descr=""/>
          <p:cNvPicPr/>
          <p:nvPr/>
        </p:nvPicPr>
        <p:blipFill>
          <a:blip r:embed="rId3"/>
          <a:srcRect l="12098" t="9942" r="0" b="0"/>
          <a:stretch/>
        </p:blipFill>
        <p:spPr>
          <a:xfrm>
            <a:off x="0" y="0"/>
            <a:ext cx="787320" cy="900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3"/>
          <p:cNvSpPr/>
          <p:nvPr/>
        </p:nvSpPr>
        <p:spPr>
          <a:xfrm>
            <a:off x="787320" y="189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6c09"/>
                </a:solidFill>
                <a:latin typeface="Cooper Std Black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2011320" y="429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oper Std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3708360" y="31399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oper Std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364000" y="220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oper Std Blac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6948360" y="162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oper Std Black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"/>
          <p:cNvPicPr/>
          <p:nvPr/>
        </p:nvPicPr>
        <p:blipFill>
          <a:blip r:embed="rId2"/>
          <a:stretch/>
        </p:blipFill>
        <p:spPr>
          <a:xfrm>
            <a:off x="108000" y="5508720"/>
            <a:ext cx="1511280" cy="1278000"/>
          </a:xfrm>
          <a:prstGeom prst="rect">
            <a:avLst/>
          </a:prstGeom>
          <a:ln w="0">
            <a:noFill/>
          </a:ln>
        </p:spPr>
      </p:pic>
      <p:pic>
        <p:nvPicPr>
          <p:cNvPr id="74" name="图表 2" descr=""/>
          <p:cNvPicPr/>
          <p:nvPr/>
        </p:nvPicPr>
        <p:blipFill>
          <a:blip r:embed="rId3"/>
          <a:stretch/>
        </p:blipFill>
        <p:spPr>
          <a:xfrm>
            <a:off x="2411280" y="1927080"/>
            <a:ext cx="3745080" cy="34624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2482920" y="111600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你幸福吗？统计调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4356000" y="203688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38cd5"/>
                </a:solidFill>
                <a:latin typeface="微软雅黑"/>
                <a:ea typeface="微软雅黑"/>
              </a:rPr>
              <a:t>68%</a:t>
            </a:r>
            <a:r>
              <a:rPr b="1" lang="zh-CN" sz="1200" spc="-1" strike="noStrike">
                <a:solidFill>
                  <a:srgbClr val="538cd5"/>
                </a:solidFill>
                <a:latin typeface="微软雅黑"/>
                <a:ea typeface="微软雅黑"/>
              </a:rPr>
              <a:t>的人表示过得还不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4356000" y="2320920"/>
            <a:ext cx="22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微软雅黑"/>
                <a:ea typeface="微软雅黑"/>
              </a:rPr>
              <a:t>29%</a:t>
            </a:r>
            <a:r>
              <a:rPr b="1" lang="zh-CN" sz="1200" spc="-1" strike="noStrike">
                <a:solidFill>
                  <a:srgbClr val="7030a0"/>
                </a:solidFill>
                <a:latin typeface="微软雅黑"/>
                <a:ea typeface="微软雅黑"/>
              </a:rPr>
              <a:t>的人表示生活压力很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4356000" y="2637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微软雅黑"/>
                <a:ea typeface="微软雅黑"/>
              </a:rPr>
              <a:t>3%</a:t>
            </a:r>
            <a:r>
              <a:rPr b="1" lang="zh-CN" sz="1200" spc="-1" strike="noStrike">
                <a:solidFill>
                  <a:srgbClr val="e36c09"/>
                </a:solidFill>
                <a:latin typeface="微软雅黑"/>
                <a:ea typeface="微软雅黑"/>
              </a:rPr>
              <a:t>的人表示我姓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8" descr=""/>
          <p:cNvPicPr/>
          <p:nvPr/>
        </p:nvPicPr>
        <p:blipFill>
          <a:blip r:embed="rId4"/>
          <a:srcRect l="26608" t="10195" r="0" b="0"/>
          <a:stretch/>
        </p:blipFill>
        <p:spPr>
          <a:xfrm>
            <a:off x="0" y="0"/>
            <a:ext cx="631800" cy="865080"/>
          </a:xfrm>
          <a:prstGeom prst="rect">
            <a:avLst/>
          </a:prstGeom>
          <a:ln w="0">
            <a:noFill/>
          </a:ln>
        </p:spPr>
      </p:pic>
      <p:sp>
        <p:nvSpPr>
          <p:cNvPr id="80" name="TextBox 9"/>
          <p:cNvSpPr/>
          <p:nvPr/>
        </p:nvSpPr>
        <p:spPr>
          <a:xfrm>
            <a:off x="682560" y="2602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6c09"/>
                </a:solidFill>
                <a:latin typeface="Cooper Std Black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4861080" y="2060640"/>
            <a:ext cx="244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Edwardian Script ITC"/>
              </a:rPr>
              <a:t>Thank 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8920" y="60832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0:36:00Z</dcterms:created>
  <dc:creator>张一婵</dc:creator>
  <dc:description/>
  <dc:language>en-US</dc:language>
  <cp:lastModifiedBy>张一婵</cp:lastModifiedBy>
  <dcterms:modified xsi:type="dcterms:W3CDTF">2014-11-09T01:15:13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