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EF9-4D8D-43AD-9ADF-30E9F787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6B7-ACA2-40B2-9757-0AA87650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BE82-2955-47C7-BD1A-3604D8D8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634-95E9-4EEA-B681-47C323E7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A58C-492A-46A2-9D12-73FC31BD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6C8A-715E-45F5-8111-DCA85B46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D3B6-73BF-492D-97B1-AE25A730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4C37-D857-4450-A038-06FF1F38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2CA7-0899-4043-9DB1-EB468BEB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91A4-5FA0-4FA7-9B79-3106BF10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EF50-A966-4CBB-BEAF-B3122A4A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020-6587-43D1-B2B0-61A4E405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61C2-8130-47A3-8378-960B668F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D237-6024-4EE4-A6E0-B42F96DE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7445-B440-481F-8E58-16F27C60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AFC0-86C6-4D74-8B1B-6B5B9018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E914-3161-404A-986C-0D77A60D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D2417-A04F-4B4B-A726-282A0AE2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748BD-1762-4B29-808B-77BF8B0B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25735-19A6-4B47-A7C4-9AD9632F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90499-11F0-47CF-9528-88DC8651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4DF8D-5207-4D66-8E95-20F999C7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5184-C3F7-4039-8DE3-140F0EEA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27B96-3E91-40DC-B42A-3A2214D8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E8A35-43BB-4DB8-A8C9-D3DDEC8F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D4F3C-DCEC-4F51-96FB-F7416437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88F67-4762-4EE2-A604-1B530EED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E038B-DFFD-4391-962F-9951E91D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7AD1F-6D7F-4588-9E28-EE6E9A64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3D808-0F09-4210-BD47-417CB6A5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CF4-13F4-4600-A804-B28F9530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85BD-F076-47F4-9F67-8A3735EA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4C1-4767-47AF-8504-6AAD301A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46CC-9ADF-4D44-B88C-722B62A3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790-BFBB-4040-BD55-6292656D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C81-FE68-4447-970B-590A9E3C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7760" y="5285880"/>
            <a:ext cx="1641240" cy="1482480"/>
            <a:chOff x="77760" y="5285880"/>
            <a:chExt cx="1641240" cy="1482480"/>
          </a:xfrm>
        </p:grpSpPr>
        <p:grpSp>
          <p:nvGrpSpPr>
            <p:cNvPr id="1" name=""/>
            <p:cNvGrpSpPr/>
            <p:nvPr/>
          </p:nvGrpSpPr>
          <p:grpSpPr>
            <a:xfrm>
              <a:off x="570240" y="5892840"/>
              <a:ext cx="172800" cy="191520"/>
              <a:chOff x="570240" y="5892840"/>
              <a:chExt cx="172800" cy="191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21000" y="5916600"/>
                <a:ext cx="122040" cy="167760"/>
                <a:chOff x="621000" y="5916600"/>
                <a:chExt cx="122040" cy="167760"/>
              </a:xfrm>
            </p:grpSpPr>
            <p:sp>
              <p:nvSpPr>
                <p:cNvPr id="3" name="未知"/>
                <p:cNvSpPr/>
                <p:nvPr/>
              </p:nvSpPr>
              <p:spPr>
                <a:xfrm flipH="1" flipV="1" rot="1471200">
                  <a:off x="633960" y="5998680"/>
                  <a:ext cx="56160" cy="766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未知"/>
                <p:cNvSpPr/>
                <p:nvPr/>
              </p:nvSpPr>
              <p:spPr>
                <a:xfrm flipH="1" flipV="1" rot="19629600">
                  <a:off x="670680" y="5969160"/>
                  <a:ext cx="55440" cy="770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未知"/>
                <p:cNvSpPr/>
                <p:nvPr/>
              </p:nvSpPr>
              <p:spPr>
                <a:xfrm flipH="1" rot="1471200">
                  <a:off x="667440" y="5924520"/>
                  <a:ext cx="56160" cy="766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570240" y="5892840"/>
                <a:ext cx="119520" cy="167040"/>
                <a:chOff x="570240" y="5892840"/>
                <a:chExt cx="119520" cy="167040"/>
              </a:xfrm>
            </p:grpSpPr>
            <p:sp>
              <p:nvSpPr>
                <p:cNvPr id="7" name="未知"/>
                <p:cNvSpPr/>
                <p:nvPr/>
              </p:nvSpPr>
              <p:spPr>
                <a:xfrm flipV="1" rot="1568400">
                  <a:off x="584280" y="5974560"/>
                  <a:ext cx="56160" cy="766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未知"/>
                <p:cNvSpPr/>
                <p:nvPr/>
              </p:nvSpPr>
              <p:spPr>
                <a:xfrm flipV="1" rot="5010000">
                  <a:off x="583920" y="5926680"/>
                  <a:ext cx="55440" cy="77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未知"/>
                <p:cNvSpPr/>
                <p:nvPr/>
              </p:nvSpPr>
              <p:spPr>
                <a:xfrm rot="1568400">
                  <a:off x="619200" y="5901120"/>
                  <a:ext cx="56160" cy="766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" name=""/>
            <p:cNvGrpSpPr/>
            <p:nvPr/>
          </p:nvGrpSpPr>
          <p:grpSpPr>
            <a:xfrm>
              <a:off x="486360" y="5285880"/>
              <a:ext cx="229680" cy="253440"/>
              <a:chOff x="486360" y="5285880"/>
              <a:chExt cx="229680" cy="25344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554760" y="5318280"/>
                <a:ext cx="161280" cy="221040"/>
                <a:chOff x="554760" y="5318280"/>
                <a:chExt cx="161280" cy="221040"/>
              </a:xfrm>
            </p:grpSpPr>
            <p:sp>
              <p:nvSpPr>
                <p:cNvPr id="12" name="未知"/>
                <p:cNvSpPr/>
                <p:nvPr/>
              </p:nvSpPr>
              <p:spPr>
                <a:xfrm flipH="1" flipV="1" rot="1471200">
                  <a:off x="572040" y="5427000"/>
                  <a:ext cx="74520" cy="1011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未知"/>
                <p:cNvSpPr/>
                <p:nvPr/>
              </p:nvSpPr>
              <p:spPr>
                <a:xfrm flipH="1" flipV="1" rot="19629600">
                  <a:off x="620640" y="5387040"/>
                  <a:ext cx="72720" cy="1029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未知"/>
                <p:cNvSpPr/>
                <p:nvPr/>
              </p:nvSpPr>
              <p:spPr>
                <a:xfrm flipH="1" rot="1471200">
                  <a:off x="617040" y="5329080"/>
                  <a:ext cx="74520" cy="1011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" name=""/>
              <p:cNvGrpSpPr/>
              <p:nvPr/>
            </p:nvGrpSpPr>
            <p:grpSpPr>
              <a:xfrm>
                <a:off x="486360" y="5285880"/>
                <a:ext cx="158760" cy="220680"/>
                <a:chOff x="486360" y="5285880"/>
                <a:chExt cx="158760" cy="220680"/>
              </a:xfrm>
            </p:grpSpPr>
            <p:sp>
              <p:nvSpPr>
                <p:cNvPr id="16" name="未知"/>
                <p:cNvSpPr/>
                <p:nvPr/>
              </p:nvSpPr>
              <p:spPr>
                <a:xfrm flipV="1" rot="1568400">
                  <a:off x="504360" y="5394600"/>
                  <a:ext cx="74520" cy="1008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未知"/>
                <p:cNvSpPr/>
                <p:nvPr/>
              </p:nvSpPr>
              <p:spPr>
                <a:xfrm flipV="1" rot="5010000">
                  <a:off x="505440" y="5331240"/>
                  <a:ext cx="73080" cy="1029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未知"/>
                <p:cNvSpPr/>
                <p:nvPr/>
              </p:nvSpPr>
              <p:spPr>
                <a:xfrm rot="1568400">
                  <a:off x="551880" y="5297040"/>
                  <a:ext cx="74520" cy="1008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" name=""/>
            <p:cNvGrpSpPr/>
            <p:nvPr/>
          </p:nvGrpSpPr>
          <p:grpSpPr>
            <a:xfrm>
              <a:off x="77760" y="5385960"/>
              <a:ext cx="673920" cy="699840"/>
              <a:chOff x="77760" y="5385960"/>
              <a:chExt cx="673920" cy="699840"/>
            </a:xfrm>
          </p:grpSpPr>
          <p:grpSp>
            <p:nvGrpSpPr>
              <p:cNvPr id="20" name=""/>
              <p:cNvGrpSpPr/>
              <p:nvPr/>
            </p:nvGrpSpPr>
            <p:grpSpPr>
              <a:xfrm>
                <a:off x="236160" y="5385960"/>
                <a:ext cx="515520" cy="577800"/>
                <a:chOff x="236160" y="5385960"/>
                <a:chExt cx="515520" cy="577800"/>
              </a:xfrm>
            </p:grpSpPr>
            <p:sp>
              <p:nvSpPr>
                <p:cNvPr id="21" name="未知"/>
                <p:cNvSpPr/>
                <p:nvPr/>
              </p:nvSpPr>
              <p:spPr>
                <a:xfrm flipH="1" flipV="1" rot="19290000">
                  <a:off x="483480" y="5653080"/>
                  <a:ext cx="204120" cy="27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 flipH="1" flipV="1" rot="15848400">
                  <a:off x="448560" y="5482800"/>
                  <a:ext cx="200880" cy="2811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未知"/>
                <p:cNvSpPr/>
                <p:nvPr/>
              </p:nvSpPr>
              <p:spPr>
                <a:xfrm flipH="1" rot="19290000">
                  <a:off x="299880" y="5419080"/>
                  <a:ext cx="204120" cy="27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" name=""/>
              <p:cNvGrpSpPr/>
              <p:nvPr/>
            </p:nvGrpSpPr>
            <p:grpSpPr>
              <a:xfrm>
                <a:off x="77760" y="5505480"/>
                <a:ext cx="509760" cy="580320"/>
                <a:chOff x="77760" y="5505480"/>
                <a:chExt cx="509760" cy="580320"/>
              </a:xfrm>
            </p:grpSpPr>
            <p:sp>
              <p:nvSpPr>
                <p:cNvPr id="25" name="未知"/>
                <p:cNvSpPr/>
                <p:nvPr/>
              </p:nvSpPr>
              <p:spPr>
                <a:xfrm flipV="1" rot="19387200">
                  <a:off x="320400" y="5775120"/>
                  <a:ext cx="204120" cy="27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未知"/>
                <p:cNvSpPr/>
                <p:nvPr/>
              </p:nvSpPr>
              <p:spPr>
                <a:xfrm flipV="1" rot="1228800">
                  <a:off x="167760" y="5695920"/>
                  <a:ext cx="200880" cy="2808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未知"/>
                <p:cNvSpPr/>
                <p:nvPr/>
              </p:nvSpPr>
              <p:spPr>
                <a:xfrm rot="19387800">
                  <a:off x="140040" y="5538960"/>
                  <a:ext cx="204120" cy="27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" name=""/>
            <p:cNvGrpSpPr/>
            <p:nvPr/>
          </p:nvGrpSpPr>
          <p:grpSpPr>
            <a:xfrm>
              <a:off x="1013040" y="5420880"/>
              <a:ext cx="185760" cy="175320"/>
              <a:chOff x="1013040" y="5420880"/>
              <a:chExt cx="185760" cy="175320"/>
            </a:xfrm>
          </p:grpSpPr>
          <p:grpSp>
            <p:nvGrpSpPr>
              <p:cNvPr id="29" name=""/>
              <p:cNvGrpSpPr/>
              <p:nvPr/>
            </p:nvGrpSpPr>
            <p:grpSpPr>
              <a:xfrm>
                <a:off x="1032840" y="5420880"/>
                <a:ext cx="165960" cy="117000"/>
                <a:chOff x="1032840" y="5420880"/>
                <a:chExt cx="165960" cy="117000"/>
              </a:xfrm>
            </p:grpSpPr>
            <p:sp>
              <p:nvSpPr>
                <p:cNvPr id="30" name="未知"/>
                <p:cNvSpPr/>
                <p:nvPr/>
              </p:nvSpPr>
              <p:spPr>
                <a:xfrm flipH="1" flipV="1" rot="17395800">
                  <a:off x="1125720" y="5461200"/>
                  <a:ext cx="55080" cy="752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 flipH="1" flipV="1" rot="13953600">
                  <a:off x="1093680" y="5427000"/>
                  <a:ext cx="54720" cy="763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 flipH="1" rot="17395200">
                  <a:off x="1049760" y="5433120"/>
                  <a:ext cx="55080" cy="752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" name=""/>
              <p:cNvGrpSpPr/>
              <p:nvPr/>
            </p:nvGrpSpPr>
            <p:grpSpPr>
              <a:xfrm>
                <a:off x="1013040" y="5481000"/>
                <a:ext cx="166320" cy="115200"/>
                <a:chOff x="1013040" y="5481000"/>
                <a:chExt cx="166320" cy="115200"/>
              </a:xfrm>
            </p:grpSpPr>
            <p:sp>
              <p:nvSpPr>
                <p:cNvPr id="34" name="未知"/>
                <p:cNvSpPr/>
                <p:nvPr/>
              </p:nvSpPr>
              <p:spPr>
                <a:xfrm flipV="1" rot="17492400">
                  <a:off x="1106280" y="5511960"/>
                  <a:ext cx="55080" cy="756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未知"/>
                <p:cNvSpPr/>
                <p:nvPr/>
              </p:nvSpPr>
              <p:spPr>
                <a:xfrm flipV="1" rot="20934000">
                  <a:off x="1060200" y="5515560"/>
                  <a:ext cx="54720" cy="759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未知"/>
                <p:cNvSpPr/>
                <p:nvPr/>
              </p:nvSpPr>
              <p:spPr>
                <a:xfrm rot="17493000">
                  <a:off x="1030680" y="5482440"/>
                  <a:ext cx="55080" cy="756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1172160" y="5481720"/>
              <a:ext cx="438840" cy="390240"/>
              <a:chOff x="1172160" y="5481720"/>
              <a:chExt cx="438840" cy="39024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1172160" y="5481720"/>
                <a:ext cx="438840" cy="390240"/>
                <a:chOff x="1172160" y="5481720"/>
                <a:chExt cx="438840" cy="390240"/>
              </a:xfrm>
            </p:grpSpPr>
            <p:grpSp>
              <p:nvGrpSpPr>
                <p:cNvPr id="39" name=""/>
                <p:cNvGrpSpPr/>
                <p:nvPr/>
              </p:nvGrpSpPr>
              <p:grpSpPr>
                <a:xfrm>
                  <a:off x="1390320" y="5481720"/>
                  <a:ext cx="220680" cy="381240"/>
                  <a:chOff x="1390320" y="5481720"/>
                  <a:chExt cx="220680" cy="381240"/>
                </a:xfrm>
              </p:grpSpPr>
              <p:sp>
                <p:nvSpPr>
                  <p:cNvPr id="40" name="未知"/>
                  <p:cNvSpPr/>
                  <p:nvPr/>
                </p:nvSpPr>
                <p:spPr>
                  <a:xfrm flipH="1" rot="21555000">
                    <a:off x="1391400" y="5482440"/>
                    <a:ext cx="125640" cy="18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未知"/>
                  <p:cNvSpPr/>
                  <p:nvPr/>
                </p:nvSpPr>
                <p:spPr>
                  <a:xfrm flipH="1" rot="3396600">
                    <a:off x="1434960" y="5587560"/>
                    <a:ext cx="132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未知"/>
                  <p:cNvSpPr/>
                  <p:nvPr/>
                </p:nvSpPr>
                <p:spPr>
                  <a:xfrm flipH="1" flipV="1" rot="21555000">
                    <a:off x="1394640" y="5678640"/>
                    <a:ext cx="125640" cy="18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" name=""/>
                <p:cNvGrpSpPr/>
                <p:nvPr/>
              </p:nvGrpSpPr>
              <p:grpSpPr>
                <a:xfrm>
                  <a:off x="1172160" y="5488560"/>
                  <a:ext cx="222840" cy="383400"/>
                  <a:chOff x="1172160" y="5488560"/>
                  <a:chExt cx="222840" cy="383400"/>
                </a:xfrm>
              </p:grpSpPr>
              <p:sp>
                <p:nvSpPr>
                  <p:cNvPr id="44" name="未知"/>
                  <p:cNvSpPr/>
                  <p:nvPr/>
                </p:nvSpPr>
                <p:spPr>
                  <a:xfrm rot="21495000">
                    <a:off x="1261080" y="5490360"/>
                    <a:ext cx="125640" cy="18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未知"/>
                  <p:cNvSpPr/>
                  <p:nvPr/>
                </p:nvSpPr>
                <p:spPr>
                  <a:xfrm rot="18053400">
                    <a:off x="1213920" y="5598000"/>
                    <a:ext cx="132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未知"/>
                  <p:cNvSpPr/>
                  <p:nvPr/>
                </p:nvSpPr>
                <p:spPr>
                  <a:xfrm flipV="1" rot="21495000">
                    <a:off x="1266480" y="5686560"/>
                    <a:ext cx="125640" cy="18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" name=""/>
              <p:cNvGrpSpPr/>
              <p:nvPr/>
            </p:nvGrpSpPr>
            <p:grpSpPr>
              <a:xfrm>
                <a:off x="1263960" y="5535360"/>
                <a:ext cx="254160" cy="281880"/>
                <a:chOff x="1263960" y="5535360"/>
                <a:chExt cx="254160" cy="281880"/>
              </a:xfrm>
            </p:grpSpPr>
            <p:grpSp>
              <p:nvGrpSpPr>
                <p:cNvPr id="48" name=""/>
                <p:cNvGrpSpPr/>
                <p:nvPr/>
              </p:nvGrpSpPr>
              <p:grpSpPr>
                <a:xfrm>
                  <a:off x="1335960" y="5570280"/>
                  <a:ext cx="182160" cy="246960"/>
                  <a:chOff x="1335960" y="5570280"/>
                  <a:chExt cx="182160" cy="246960"/>
                </a:xfrm>
              </p:grpSpPr>
              <p:sp>
                <p:nvSpPr>
                  <p:cNvPr id="49" name="未知"/>
                  <p:cNvSpPr/>
                  <p:nvPr/>
                </p:nvSpPr>
                <p:spPr>
                  <a:xfrm flipH="1" rot="1704600">
                    <a:off x="1416600" y="5581800"/>
                    <a:ext cx="788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未知"/>
                  <p:cNvSpPr/>
                  <p:nvPr/>
                </p:nvSpPr>
                <p:spPr>
                  <a:xfrm flipH="1" rot="5146200">
                    <a:off x="1410480" y="5654520"/>
                    <a:ext cx="831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未知"/>
                  <p:cNvSpPr/>
                  <p:nvPr/>
                </p:nvSpPr>
                <p:spPr>
                  <a:xfrm flipH="1" flipV="1" rot="1705200">
                    <a:off x="1358280" y="5690520"/>
                    <a:ext cx="788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1263960" y="5535360"/>
                  <a:ext cx="180000" cy="246960"/>
                  <a:chOff x="1263960" y="5535360"/>
                  <a:chExt cx="180000" cy="246960"/>
                </a:xfrm>
              </p:grpSpPr>
              <p:sp>
                <p:nvSpPr>
                  <p:cNvPr id="53" name="未知"/>
                  <p:cNvSpPr/>
                  <p:nvPr/>
                </p:nvSpPr>
                <p:spPr>
                  <a:xfrm rot="1645200">
                    <a:off x="1343160" y="5546880"/>
                    <a:ext cx="788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未知"/>
                  <p:cNvSpPr/>
                  <p:nvPr/>
                </p:nvSpPr>
                <p:spPr>
                  <a:xfrm rot="19803600">
                    <a:off x="1285560" y="5592240"/>
                    <a:ext cx="831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未知"/>
                  <p:cNvSpPr/>
                  <p:nvPr/>
                </p:nvSpPr>
                <p:spPr>
                  <a:xfrm flipV="1" rot="1644600">
                    <a:off x="1285560" y="5655600"/>
                    <a:ext cx="788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6" name=""/>
            <p:cNvGrpSpPr/>
            <p:nvPr/>
          </p:nvGrpSpPr>
          <p:grpSpPr>
            <a:xfrm>
              <a:off x="797040" y="5763240"/>
              <a:ext cx="921960" cy="1005120"/>
              <a:chOff x="797040" y="5763240"/>
              <a:chExt cx="921960" cy="100512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797040" y="5763240"/>
                <a:ext cx="921960" cy="1005120"/>
                <a:chOff x="797040" y="5763240"/>
                <a:chExt cx="921960" cy="1005120"/>
              </a:xfrm>
            </p:grpSpPr>
            <p:grpSp>
              <p:nvGrpSpPr>
                <p:cNvPr id="58" name=""/>
                <p:cNvGrpSpPr/>
                <p:nvPr/>
              </p:nvGrpSpPr>
              <p:grpSpPr>
                <a:xfrm>
                  <a:off x="1072080" y="5763240"/>
                  <a:ext cx="646920" cy="876960"/>
                  <a:chOff x="1072080" y="5763240"/>
                  <a:chExt cx="646920" cy="876960"/>
                </a:xfrm>
              </p:grpSpPr>
              <p:sp>
                <p:nvSpPr>
                  <p:cNvPr id="59" name="未知"/>
                  <p:cNvSpPr/>
                  <p:nvPr/>
                </p:nvSpPr>
                <p:spPr>
                  <a:xfrm flipH="1" rot="20092200">
                    <a:off x="1142640" y="5807160"/>
                    <a:ext cx="297360" cy="40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未知"/>
                  <p:cNvSpPr/>
                  <p:nvPr/>
                </p:nvSpPr>
                <p:spPr>
                  <a:xfrm flipH="1" rot="1933800">
                    <a:off x="1341000" y="5956560"/>
                    <a:ext cx="29052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未知"/>
                  <p:cNvSpPr/>
                  <p:nvPr/>
                </p:nvSpPr>
                <p:spPr>
                  <a:xfrm flipH="1" flipV="1" rot="20092800">
                    <a:off x="1328400" y="6195240"/>
                    <a:ext cx="297360" cy="40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97040" y="5890320"/>
                  <a:ext cx="630720" cy="878040"/>
                  <a:chOff x="797040" y="5890320"/>
                  <a:chExt cx="630720" cy="878040"/>
                </a:xfrm>
              </p:grpSpPr>
              <p:sp>
                <p:nvSpPr>
                  <p:cNvPr id="63" name="未知"/>
                  <p:cNvSpPr/>
                  <p:nvPr/>
                </p:nvSpPr>
                <p:spPr>
                  <a:xfrm rot="20032200">
                    <a:off x="870120" y="5935320"/>
                    <a:ext cx="297360" cy="40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未知"/>
                  <p:cNvSpPr/>
                  <p:nvPr/>
                </p:nvSpPr>
                <p:spPr>
                  <a:xfrm rot="16590600">
                    <a:off x="871560" y="6179040"/>
                    <a:ext cx="290520" cy="40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未知"/>
                  <p:cNvSpPr/>
                  <p:nvPr/>
                </p:nvSpPr>
                <p:spPr>
                  <a:xfrm flipV="1" rot="20032200">
                    <a:off x="1056960" y="6323040"/>
                    <a:ext cx="297360" cy="40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" name=""/>
              <p:cNvGrpSpPr/>
              <p:nvPr/>
            </p:nvGrpSpPr>
            <p:grpSpPr>
              <a:xfrm>
                <a:off x="926280" y="5994360"/>
                <a:ext cx="638640" cy="542880"/>
                <a:chOff x="926280" y="5994360"/>
                <a:chExt cx="638640" cy="542880"/>
              </a:xfrm>
            </p:grpSpPr>
            <p:grpSp>
              <p:nvGrpSpPr>
                <p:cNvPr id="67" name=""/>
                <p:cNvGrpSpPr/>
                <p:nvPr/>
              </p:nvGrpSpPr>
              <p:grpSpPr>
                <a:xfrm>
                  <a:off x="1229760" y="6006240"/>
                  <a:ext cx="335160" cy="531000"/>
                  <a:chOff x="1229760" y="6006240"/>
                  <a:chExt cx="335160" cy="531000"/>
                </a:xfrm>
              </p:grpSpPr>
              <p:sp>
                <p:nvSpPr>
                  <p:cNvPr id="68" name="未知"/>
                  <p:cNvSpPr/>
                  <p:nvPr/>
                </p:nvSpPr>
                <p:spPr>
                  <a:xfrm flipH="1" rot="241800">
                    <a:off x="1255320" y="6012000"/>
                    <a:ext cx="18648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未知"/>
                  <p:cNvSpPr/>
                  <p:nvPr/>
                </p:nvSpPr>
                <p:spPr>
                  <a:xfrm flipH="1" rot="3683400">
                    <a:off x="1317600" y="6152400"/>
                    <a:ext cx="18180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未知"/>
                  <p:cNvSpPr/>
                  <p:nvPr/>
                </p:nvSpPr>
                <p:spPr>
                  <a:xfrm flipH="1" flipV="1" rot="241800">
                    <a:off x="1238040" y="6280560"/>
                    <a:ext cx="18648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926280" y="5994360"/>
                  <a:ext cx="334080" cy="527760"/>
                  <a:chOff x="926280" y="5994360"/>
                  <a:chExt cx="334080" cy="527760"/>
                </a:xfrm>
              </p:grpSpPr>
              <p:sp>
                <p:nvSpPr>
                  <p:cNvPr id="72" name="未知"/>
                  <p:cNvSpPr/>
                  <p:nvPr/>
                </p:nvSpPr>
                <p:spPr>
                  <a:xfrm rot="181800">
                    <a:off x="1067400" y="5999040"/>
                    <a:ext cx="18648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未知"/>
                  <p:cNvSpPr/>
                  <p:nvPr/>
                </p:nvSpPr>
                <p:spPr>
                  <a:xfrm rot="18340800">
                    <a:off x="992520" y="6131160"/>
                    <a:ext cx="18180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未知"/>
                  <p:cNvSpPr/>
                  <p:nvPr/>
                </p:nvSpPr>
                <p:spPr>
                  <a:xfrm flipV="1" rot="181800">
                    <a:off x="1051560" y="6266520"/>
                    <a:ext cx="18648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" name=""/>
            <p:cNvGrpSpPr/>
            <p:nvPr/>
          </p:nvGrpSpPr>
          <p:grpSpPr>
            <a:xfrm>
              <a:off x="747000" y="5563080"/>
              <a:ext cx="393120" cy="429120"/>
              <a:chOff x="747000" y="5563080"/>
              <a:chExt cx="393120" cy="42912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747000" y="5563080"/>
                <a:ext cx="393120" cy="429120"/>
                <a:chOff x="747000" y="5563080"/>
                <a:chExt cx="393120" cy="429120"/>
              </a:xfrm>
            </p:grpSpPr>
            <p:grpSp>
              <p:nvGrpSpPr>
                <p:cNvPr id="77" name=""/>
                <p:cNvGrpSpPr/>
                <p:nvPr/>
              </p:nvGrpSpPr>
              <p:grpSpPr>
                <a:xfrm>
                  <a:off x="864000" y="5563080"/>
                  <a:ext cx="276120" cy="374400"/>
                  <a:chOff x="864000" y="5563080"/>
                  <a:chExt cx="276120" cy="374400"/>
                </a:xfrm>
              </p:grpSpPr>
              <p:sp>
                <p:nvSpPr>
                  <p:cNvPr id="78" name="未知"/>
                  <p:cNvSpPr/>
                  <p:nvPr/>
                </p:nvSpPr>
                <p:spPr>
                  <a:xfrm flipH="1" rot="20092200">
                    <a:off x="893520" y="5581800"/>
                    <a:ext cx="1270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未知"/>
                  <p:cNvSpPr/>
                  <p:nvPr/>
                </p:nvSpPr>
                <p:spPr>
                  <a:xfrm flipH="1" rot="1933800">
                    <a:off x="978120" y="5645520"/>
                    <a:ext cx="1242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未知"/>
                  <p:cNvSpPr/>
                  <p:nvPr/>
                </p:nvSpPr>
                <p:spPr>
                  <a:xfrm flipH="1" flipV="1" rot="20092800">
                    <a:off x="973440" y="5747400"/>
                    <a:ext cx="1270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747000" y="5617440"/>
                  <a:ext cx="269280" cy="374760"/>
                  <a:chOff x="747000" y="5617440"/>
                  <a:chExt cx="269280" cy="374760"/>
                </a:xfrm>
              </p:grpSpPr>
              <p:sp>
                <p:nvSpPr>
                  <p:cNvPr id="82" name="未知"/>
                  <p:cNvSpPr/>
                  <p:nvPr/>
                </p:nvSpPr>
                <p:spPr>
                  <a:xfrm rot="20032200">
                    <a:off x="778320" y="5636520"/>
                    <a:ext cx="12672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未知"/>
                  <p:cNvSpPr/>
                  <p:nvPr/>
                </p:nvSpPr>
                <p:spPr>
                  <a:xfrm rot="16590600">
                    <a:off x="778320" y="5740560"/>
                    <a:ext cx="12420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未知"/>
                  <p:cNvSpPr/>
                  <p:nvPr/>
                </p:nvSpPr>
                <p:spPr>
                  <a:xfrm flipV="1" rot="20032200">
                    <a:off x="858240" y="5801760"/>
                    <a:ext cx="12672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" name=""/>
              <p:cNvGrpSpPr/>
              <p:nvPr/>
            </p:nvGrpSpPr>
            <p:grpSpPr>
              <a:xfrm>
                <a:off x="802800" y="5661720"/>
                <a:ext cx="271800" cy="231840"/>
                <a:chOff x="802800" y="5661720"/>
                <a:chExt cx="271800" cy="231840"/>
              </a:xfrm>
            </p:grpSpPr>
            <p:grpSp>
              <p:nvGrpSpPr>
                <p:cNvPr id="86" name=""/>
                <p:cNvGrpSpPr/>
                <p:nvPr/>
              </p:nvGrpSpPr>
              <p:grpSpPr>
                <a:xfrm>
                  <a:off x="932040" y="5667120"/>
                  <a:ext cx="142560" cy="226440"/>
                  <a:chOff x="932040" y="5667120"/>
                  <a:chExt cx="142560" cy="226440"/>
                </a:xfrm>
              </p:grpSpPr>
              <p:sp>
                <p:nvSpPr>
                  <p:cNvPr id="87" name="未知"/>
                  <p:cNvSpPr/>
                  <p:nvPr/>
                </p:nvSpPr>
                <p:spPr>
                  <a:xfrm flipH="1" rot="241800">
                    <a:off x="942480" y="5669640"/>
                    <a:ext cx="795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未知"/>
                  <p:cNvSpPr/>
                  <p:nvPr/>
                </p:nvSpPr>
                <p:spPr>
                  <a:xfrm flipH="1" rot="3683400">
                    <a:off x="969120" y="5728680"/>
                    <a:ext cx="774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未知"/>
                  <p:cNvSpPr/>
                  <p:nvPr/>
                </p:nvSpPr>
                <p:spPr>
                  <a:xfrm flipH="1" flipV="1" rot="241800">
                    <a:off x="935280" y="5783760"/>
                    <a:ext cx="795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" name=""/>
                <p:cNvGrpSpPr/>
                <p:nvPr/>
              </p:nvGrpSpPr>
              <p:grpSpPr>
                <a:xfrm>
                  <a:off x="802800" y="5661720"/>
                  <a:ext cx="142200" cy="225000"/>
                  <a:chOff x="802800" y="5661720"/>
                  <a:chExt cx="142200" cy="225000"/>
                </a:xfrm>
              </p:grpSpPr>
              <p:sp>
                <p:nvSpPr>
                  <p:cNvPr id="91" name="未知"/>
                  <p:cNvSpPr/>
                  <p:nvPr/>
                </p:nvSpPr>
                <p:spPr>
                  <a:xfrm rot="181800">
                    <a:off x="862200" y="5663520"/>
                    <a:ext cx="795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未知"/>
                  <p:cNvSpPr/>
                  <p:nvPr/>
                </p:nvSpPr>
                <p:spPr>
                  <a:xfrm rot="18340800">
                    <a:off x="830880" y="5719680"/>
                    <a:ext cx="774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未知"/>
                  <p:cNvSpPr/>
                  <p:nvPr/>
                </p:nvSpPr>
                <p:spPr>
                  <a:xfrm flipV="1" rot="181800">
                    <a:off x="855720" y="5777640"/>
                    <a:ext cx="795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703D-C285-4123-9D84-97838A6A4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6858720" y="4351680"/>
            <a:ext cx="1547640" cy="1400040"/>
            <a:chOff x="6858720" y="4351680"/>
            <a:chExt cx="1547640" cy="1400040"/>
          </a:xfrm>
        </p:grpSpPr>
        <p:grpSp>
          <p:nvGrpSpPr>
            <p:cNvPr id="136" name=""/>
            <p:cNvGrpSpPr/>
            <p:nvPr/>
          </p:nvGrpSpPr>
          <p:grpSpPr>
            <a:xfrm>
              <a:off x="7323480" y="4924800"/>
              <a:ext cx="162360" cy="181080"/>
              <a:chOff x="7323480" y="4924800"/>
              <a:chExt cx="162360" cy="18108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7371000" y="4947480"/>
                <a:ext cx="114840" cy="158400"/>
                <a:chOff x="7371000" y="4947480"/>
                <a:chExt cx="114840" cy="158400"/>
              </a:xfrm>
            </p:grpSpPr>
            <p:sp>
              <p:nvSpPr>
                <p:cNvPr id="138" name="未知"/>
                <p:cNvSpPr/>
                <p:nvPr/>
              </p:nvSpPr>
              <p:spPr>
                <a:xfrm flipH="1" flipV="1" rot="1471200">
                  <a:off x="7382880" y="5025600"/>
                  <a:ext cx="52920" cy="72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未知"/>
                <p:cNvSpPr/>
                <p:nvPr/>
              </p:nvSpPr>
              <p:spPr>
                <a:xfrm flipH="1" flipV="1" rot="19629600">
                  <a:off x="7417800" y="4996080"/>
                  <a:ext cx="52560" cy="72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未知"/>
                <p:cNvSpPr/>
                <p:nvPr/>
              </p:nvSpPr>
              <p:spPr>
                <a:xfrm flipH="1" rot="1471200">
                  <a:off x="7415280" y="4955040"/>
                  <a:ext cx="52920" cy="72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323480" y="4924800"/>
                <a:ext cx="113040" cy="158040"/>
                <a:chOff x="7323480" y="4924800"/>
                <a:chExt cx="113040" cy="158040"/>
              </a:xfrm>
            </p:grpSpPr>
            <p:sp>
              <p:nvSpPr>
                <p:cNvPr id="142" name="未知"/>
                <p:cNvSpPr/>
                <p:nvPr/>
              </p:nvSpPr>
              <p:spPr>
                <a:xfrm flipV="1" rot="1568400">
                  <a:off x="7336800" y="5002200"/>
                  <a:ext cx="52920" cy="72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未知"/>
                <p:cNvSpPr/>
                <p:nvPr/>
              </p:nvSpPr>
              <p:spPr>
                <a:xfrm flipV="1" rot="5010000">
                  <a:off x="7336440" y="4957560"/>
                  <a:ext cx="52560" cy="72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未知"/>
                <p:cNvSpPr/>
                <p:nvPr/>
              </p:nvSpPr>
              <p:spPr>
                <a:xfrm rot="1568400">
                  <a:off x="7369920" y="4932720"/>
                  <a:ext cx="52920" cy="72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" name=""/>
            <p:cNvGrpSpPr/>
            <p:nvPr/>
          </p:nvGrpSpPr>
          <p:grpSpPr>
            <a:xfrm>
              <a:off x="7244640" y="4351680"/>
              <a:ext cx="216360" cy="239040"/>
              <a:chOff x="7244640" y="4351680"/>
              <a:chExt cx="216360" cy="23904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7308000" y="4381920"/>
                <a:ext cx="153000" cy="208800"/>
                <a:chOff x="7308000" y="4381920"/>
                <a:chExt cx="153000" cy="208800"/>
              </a:xfrm>
            </p:grpSpPr>
            <p:sp>
              <p:nvSpPr>
                <p:cNvPr id="147" name="未知"/>
                <p:cNvSpPr/>
                <p:nvPr/>
              </p:nvSpPr>
              <p:spPr>
                <a:xfrm flipH="1" flipV="1" rot="1471200">
                  <a:off x="7324200" y="4484880"/>
                  <a:ext cx="70200" cy="95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未知"/>
                <p:cNvSpPr/>
                <p:nvPr/>
              </p:nvSpPr>
              <p:spPr>
                <a:xfrm flipH="1" flipV="1" rot="19629600">
                  <a:off x="7370640" y="4446720"/>
                  <a:ext cx="69120" cy="9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未知"/>
                <p:cNvSpPr/>
                <p:nvPr/>
              </p:nvSpPr>
              <p:spPr>
                <a:xfrm flipH="1" rot="1471200">
                  <a:off x="7367040" y="4392000"/>
                  <a:ext cx="70200" cy="95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7244640" y="4351680"/>
                <a:ext cx="149040" cy="208800"/>
                <a:chOff x="7244640" y="4351680"/>
                <a:chExt cx="149040" cy="208800"/>
              </a:xfrm>
            </p:grpSpPr>
            <p:sp>
              <p:nvSpPr>
                <p:cNvPr id="151" name="未知"/>
                <p:cNvSpPr/>
                <p:nvPr/>
              </p:nvSpPr>
              <p:spPr>
                <a:xfrm flipV="1" rot="1568400">
                  <a:off x="7261920" y="4454280"/>
                  <a:ext cx="70200" cy="95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未知"/>
                <p:cNvSpPr/>
                <p:nvPr/>
              </p:nvSpPr>
              <p:spPr>
                <a:xfrm flipV="1" rot="5010000">
                  <a:off x="7261920" y="4393800"/>
                  <a:ext cx="69120" cy="9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未知"/>
                <p:cNvSpPr/>
                <p:nvPr/>
              </p:nvSpPr>
              <p:spPr>
                <a:xfrm rot="1568400">
                  <a:off x="7305840" y="4362120"/>
                  <a:ext cx="70200" cy="95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" name=""/>
            <p:cNvGrpSpPr/>
            <p:nvPr/>
          </p:nvGrpSpPr>
          <p:grpSpPr>
            <a:xfrm>
              <a:off x="6858720" y="4446360"/>
              <a:ext cx="635760" cy="660600"/>
              <a:chOff x="6858720" y="4446360"/>
              <a:chExt cx="635760" cy="66060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7007400" y="4446360"/>
                <a:ext cx="487080" cy="545040"/>
                <a:chOff x="7007400" y="4446360"/>
                <a:chExt cx="487080" cy="545040"/>
              </a:xfrm>
            </p:grpSpPr>
            <p:sp>
              <p:nvSpPr>
                <p:cNvPr id="156" name="未知"/>
                <p:cNvSpPr/>
                <p:nvPr/>
              </p:nvSpPr>
              <p:spPr>
                <a:xfrm flipH="1" flipV="1" rot="19290000">
                  <a:off x="7241760" y="4698000"/>
                  <a:ext cx="192240" cy="261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未知"/>
                <p:cNvSpPr/>
                <p:nvPr/>
              </p:nvSpPr>
              <p:spPr>
                <a:xfrm flipH="1" flipV="1" rot="15848400">
                  <a:off x="7208640" y="4538880"/>
                  <a:ext cx="189720" cy="2649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未知"/>
                <p:cNvSpPr/>
                <p:nvPr/>
              </p:nvSpPr>
              <p:spPr>
                <a:xfrm flipH="1" rot="19290000">
                  <a:off x="7067520" y="4477680"/>
                  <a:ext cx="192240" cy="261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6858720" y="4558680"/>
                <a:ext cx="480600" cy="548280"/>
                <a:chOff x="6858720" y="4558680"/>
                <a:chExt cx="480600" cy="548280"/>
              </a:xfrm>
            </p:grpSpPr>
            <p:sp>
              <p:nvSpPr>
                <p:cNvPr id="160" name="未知"/>
                <p:cNvSpPr/>
                <p:nvPr/>
              </p:nvSpPr>
              <p:spPr>
                <a:xfrm flipV="1" rot="19387200">
                  <a:off x="7087680" y="4813560"/>
                  <a:ext cx="192240" cy="261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未知"/>
                <p:cNvSpPr/>
                <p:nvPr/>
              </p:nvSpPr>
              <p:spPr>
                <a:xfrm flipV="1" rot="1228800">
                  <a:off x="6944400" y="4738680"/>
                  <a:ext cx="189720" cy="2646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未知"/>
                <p:cNvSpPr/>
                <p:nvPr/>
              </p:nvSpPr>
              <p:spPr>
                <a:xfrm rot="19387800">
                  <a:off x="6917760" y="4590000"/>
                  <a:ext cx="192240" cy="261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3" name=""/>
            <p:cNvGrpSpPr/>
            <p:nvPr/>
          </p:nvGrpSpPr>
          <p:grpSpPr>
            <a:xfrm>
              <a:off x="7741080" y="4480200"/>
              <a:ext cx="174960" cy="165240"/>
              <a:chOff x="7741080" y="4480200"/>
              <a:chExt cx="174960" cy="16524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7759440" y="4480200"/>
                <a:ext cx="156600" cy="110160"/>
                <a:chOff x="7759440" y="4480200"/>
                <a:chExt cx="156600" cy="110160"/>
              </a:xfrm>
            </p:grpSpPr>
            <p:sp>
              <p:nvSpPr>
                <p:cNvPr id="165" name="未知"/>
                <p:cNvSpPr/>
                <p:nvPr/>
              </p:nvSpPr>
              <p:spPr>
                <a:xfrm flipH="1" flipV="1" rot="17395800">
                  <a:off x="7847280" y="4517640"/>
                  <a:ext cx="51840" cy="712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未知"/>
                <p:cNvSpPr/>
                <p:nvPr/>
              </p:nvSpPr>
              <p:spPr>
                <a:xfrm flipH="1" flipV="1" rot="13953600">
                  <a:off x="7816320" y="4486680"/>
                  <a:ext cx="51840" cy="716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未知"/>
                <p:cNvSpPr/>
                <p:nvPr/>
              </p:nvSpPr>
              <p:spPr>
                <a:xfrm flipH="1" rot="17395200">
                  <a:off x="7775280" y="4491720"/>
                  <a:ext cx="51840" cy="712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7741080" y="4536720"/>
                <a:ext cx="156600" cy="108720"/>
                <a:chOff x="7741080" y="4536720"/>
                <a:chExt cx="156600" cy="108720"/>
              </a:xfrm>
            </p:grpSpPr>
            <p:sp>
              <p:nvSpPr>
                <p:cNvPr id="169" name="未知"/>
                <p:cNvSpPr/>
                <p:nvPr/>
              </p:nvSpPr>
              <p:spPr>
                <a:xfrm flipV="1" rot="17492400">
                  <a:off x="7828920" y="4565160"/>
                  <a:ext cx="51840" cy="712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未知"/>
                <p:cNvSpPr/>
                <p:nvPr/>
              </p:nvSpPr>
              <p:spPr>
                <a:xfrm flipV="1" rot="20934000">
                  <a:off x="7785360" y="4569120"/>
                  <a:ext cx="51480" cy="716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未知"/>
                <p:cNvSpPr/>
                <p:nvPr/>
              </p:nvSpPr>
              <p:spPr>
                <a:xfrm rot="17493000">
                  <a:off x="7757640" y="4538160"/>
                  <a:ext cx="51840" cy="712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7890120" y="4536360"/>
              <a:ext cx="413280" cy="368640"/>
              <a:chOff x="7890120" y="4536360"/>
              <a:chExt cx="413280" cy="36864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7890120" y="4536360"/>
                <a:ext cx="413280" cy="368640"/>
                <a:chOff x="7890120" y="4536360"/>
                <a:chExt cx="413280" cy="36864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8095320" y="4536360"/>
                  <a:ext cx="208080" cy="360360"/>
                  <a:chOff x="8095320" y="4536360"/>
                  <a:chExt cx="208080" cy="360360"/>
                </a:xfrm>
              </p:grpSpPr>
              <p:sp>
                <p:nvSpPr>
                  <p:cNvPr id="175" name="未知"/>
                  <p:cNvSpPr/>
                  <p:nvPr/>
                </p:nvSpPr>
                <p:spPr>
                  <a:xfrm flipH="1" rot="21555000">
                    <a:off x="8096040" y="4537080"/>
                    <a:ext cx="118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未知"/>
                  <p:cNvSpPr/>
                  <p:nvPr/>
                </p:nvSpPr>
                <p:spPr>
                  <a:xfrm flipH="1" rot="3396600">
                    <a:off x="8137440" y="4637160"/>
                    <a:ext cx="12528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未知"/>
                  <p:cNvSpPr/>
                  <p:nvPr/>
                </p:nvSpPr>
                <p:spPr>
                  <a:xfrm flipH="1" flipV="1" rot="21555000">
                    <a:off x="8100000" y="4722840"/>
                    <a:ext cx="118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7890120" y="4542840"/>
                  <a:ext cx="209520" cy="362160"/>
                  <a:chOff x="7890120" y="4542840"/>
                  <a:chExt cx="209520" cy="362160"/>
                </a:xfrm>
              </p:grpSpPr>
              <p:sp>
                <p:nvSpPr>
                  <p:cNvPr id="179" name="未知"/>
                  <p:cNvSpPr/>
                  <p:nvPr/>
                </p:nvSpPr>
                <p:spPr>
                  <a:xfrm rot="21495000">
                    <a:off x="7974360" y="4544280"/>
                    <a:ext cx="118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未知"/>
                  <p:cNvSpPr/>
                  <p:nvPr/>
                </p:nvSpPr>
                <p:spPr>
                  <a:xfrm rot="18053400">
                    <a:off x="7929360" y="4646880"/>
                    <a:ext cx="125280" cy="16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未知"/>
                  <p:cNvSpPr/>
                  <p:nvPr/>
                </p:nvSpPr>
                <p:spPr>
                  <a:xfrm flipV="1" rot="21495000">
                    <a:off x="7978680" y="4730040"/>
                    <a:ext cx="118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2" name=""/>
              <p:cNvGrpSpPr/>
              <p:nvPr/>
            </p:nvGrpSpPr>
            <p:grpSpPr>
              <a:xfrm>
                <a:off x="7976520" y="4587480"/>
                <a:ext cx="240120" cy="266400"/>
                <a:chOff x="7976520" y="4587480"/>
                <a:chExt cx="240120" cy="266400"/>
              </a:xfrm>
            </p:grpSpPr>
            <p:grpSp>
              <p:nvGrpSpPr>
                <p:cNvPr id="183" name=""/>
                <p:cNvGrpSpPr/>
                <p:nvPr/>
              </p:nvGrpSpPr>
              <p:grpSpPr>
                <a:xfrm>
                  <a:off x="8045280" y="4620240"/>
                  <a:ext cx="171360" cy="233640"/>
                  <a:chOff x="8045280" y="4620240"/>
                  <a:chExt cx="171360" cy="233640"/>
                </a:xfrm>
              </p:grpSpPr>
              <p:sp>
                <p:nvSpPr>
                  <p:cNvPr id="184" name="未知"/>
                  <p:cNvSpPr/>
                  <p:nvPr/>
                </p:nvSpPr>
                <p:spPr>
                  <a:xfrm flipH="1" rot="1704600">
                    <a:off x="8121240" y="4631040"/>
                    <a:ext cx="741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未知"/>
                  <p:cNvSpPr/>
                  <p:nvPr/>
                </p:nvSpPr>
                <p:spPr>
                  <a:xfrm flipH="1" rot="5146200">
                    <a:off x="8114040" y="4699800"/>
                    <a:ext cx="7848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未知"/>
                  <p:cNvSpPr/>
                  <p:nvPr/>
                </p:nvSpPr>
                <p:spPr>
                  <a:xfrm flipH="1" flipV="1" rot="1705200">
                    <a:off x="8066160" y="4733640"/>
                    <a:ext cx="741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7976520" y="4587480"/>
                  <a:ext cx="169920" cy="232920"/>
                  <a:chOff x="7976520" y="4587480"/>
                  <a:chExt cx="169920" cy="232920"/>
                </a:xfrm>
              </p:grpSpPr>
              <p:sp>
                <p:nvSpPr>
                  <p:cNvPr id="188" name="未知"/>
                  <p:cNvSpPr/>
                  <p:nvPr/>
                </p:nvSpPr>
                <p:spPr>
                  <a:xfrm rot="1645200">
                    <a:off x="8051400" y="4598280"/>
                    <a:ext cx="741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未知"/>
                  <p:cNvSpPr/>
                  <p:nvPr/>
                </p:nvSpPr>
                <p:spPr>
                  <a:xfrm rot="19803600">
                    <a:off x="7996680" y="4641480"/>
                    <a:ext cx="7848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未知"/>
                  <p:cNvSpPr/>
                  <p:nvPr/>
                </p:nvSpPr>
                <p:spPr>
                  <a:xfrm flipV="1" rot="1644600">
                    <a:off x="7997040" y="4700880"/>
                    <a:ext cx="741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1" name=""/>
            <p:cNvGrpSpPr/>
            <p:nvPr/>
          </p:nvGrpSpPr>
          <p:grpSpPr>
            <a:xfrm>
              <a:off x="7536960" y="4802400"/>
              <a:ext cx="869400" cy="949320"/>
              <a:chOff x="7536960" y="4802400"/>
              <a:chExt cx="869400" cy="9493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7536960" y="4802400"/>
                <a:ext cx="869400" cy="949320"/>
                <a:chOff x="7536960" y="4802400"/>
                <a:chExt cx="869400" cy="94932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7795800" y="4802400"/>
                  <a:ext cx="610560" cy="828000"/>
                  <a:chOff x="7795800" y="4802400"/>
                  <a:chExt cx="610560" cy="828000"/>
                </a:xfrm>
              </p:grpSpPr>
              <p:sp>
                <p:nvSpPr>
                  <p:cNvPr id="194" name="未知"/>
                  <p:cNvSpPr/>
                  <p:nvPr/>
                </p:nvSpPr>
                <p:spPr>
                  <a:xfrm flipH="1" rot="20092200">
                    <a:off x="7862400" y="4843800"/>
                    <a:ext cx="28044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未知"/>
                  <p:cNvSpPr/>
                  <p:nvPr/>
                </p:nvSpPr>
                <p:spPr>
                  <a:xfrm flipH="1" rot="1933800">
                    <a:off x="8049960" y="4985640"/>
                    <a:ext cx="27432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未知"/>
                  <p:cNvSpPr/>
                  <p:nvPr/>
                </p:nvSpPr>
                <p:spPr>
                  <a:xfrm flipH="1" flipV="1" rot="20092800">
                    <a:off x="8037000" y="5210280"/>
                    <a:ext cx="28044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536960" y="4922640"/>
                  <a:ext cx="594720" cy="829080"/>
                  <a:chOff x="7536960" y="4922640"/>
                  <a:chExt cx="594720" cy="829080"/>
                </a:xfrm>
              </p:grpSpPr>
              <p:sp>
                <p:nvSpPr>
                  <p:cNvPr id="198" name="未知"/>
                  <p:cNvSpPr/>
                  <p:nvPr/>
                </p:nvSpPr>
                <p:spPr>
                  <a:xfrm rot="20032200">
                    <a:off x="7605720" y="4965120"/>
                    <a:ext cx="28008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未知"/>
                  <p:cNvSpPr/>
                  <p:nvPr/>
                </p:nvSpPr>
                <p:spPr>
                  <a:xfrm rot="16590600">
                    <a:off x="7606800" y="5196240"/>
                    <a:ext cx="27432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未知"/>
                  <p:cNvSpPr/>
                  <p:nvPr/>
                </p:nvSpPr>
                <p:spPr>
                  <a:xfrm flipV="1" rot="20032200">
                    <a:off x="7782840" y="5330880"/>
                    <a:ext cx="28008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1" name=""/>
              <p:cNvGrpSpPr/>
              <p:nvPr/>
            </p:nvGrpSpPr>
            <p:grpSpPr>
              <a:xfrm>
                <a:off x="7658640" y="5021280"/>
                <a:ext cx="601560" cy="513000"/>
                <a:chOff x="7658640" y="5021280"/>
                <a:chExt cx="601560" cy="51300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7944840" y="5032080"/>
                  <a:ext cx="315360" cy="502200"/>
                  <a:chOff x="7944840" y="5032080"/>
                  <a:chExt cx="315360" cy="502200"/>
                </a:xfrm>
              </p:grpSpPr>
              <p:sp>
                <p:nvSpPr>
                  <p:cNvPr id="203" name="未知"/>
                  <p:cNvSpPr/>
                  <p:nvPr/>
                </p:nvSpPr>
                <p:spPr>
                  <a:xfrm flipH="1" rot="241800">
                    <a:off x="7968600" y="5037840"/>
                    <a:ext cx="1756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未知"/>
                  <p:cNvSpPr/>
                  <p:nvPr/>
                </p:nvSpPr>
                <p:spPr>
                  <a:xfrm flipH="1" rot="3683400">
                    <a:off x="8026920" y="5170680"/>
                    <a:ext cx="1717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未知"/>
                  <p:cNvSpPr/>
                  <p:nvPr/>
                </p:nvSpPr>
                <p:spPr>
                  <a:xfrm flipH="1" flipV="1" rot="241800">
                    <a:off x="7952400" y="5291640"/>
                    <a:ext cx="1756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658640" y="5021280"/>
                  <a:ext cx="314640" cy="498600"/>
                  <a:chOff x="7658640" y="5021280"/>
                  <a:chExt cx="314640" cy="498600"/>
                </a:xfrm>
              </p:grpSpPr>
              <p:sp>
                <p:nvSpPr>
                  <p:cNvPr id="207" name="未知"/>
                  <p:cNvSpPr/>
                  <p:nvPr/>
                </p:nvSpPr>
                <p:spPr>
                  <a:xfrm rot="181800">
                    <a:off x="7791480" y="5025600"/>
                    <a:ext cx="1756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未知"/>
                  <p:cNvSpPr/>
                  <p:nvPr/>
                </p:nvSpPr>
                <p:spPr>
                  <a:xfrm rot="18340800">
                    <a:off x="7720920" y="5150160"/>
                    <a:ext cx="1717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未知"/>
                  <p:cNvSpPr/>
                  <p:nvPr/>
                </p:nvSpPr>
                <p:spPr>
                  <a:xfrm flipV="1" rot="181800">
                    <a:off x="7776720" y="5278680"/>
                    <a:ext cx="1756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0" name=""/>
            <p:cNvGrpSpPr/>
            <p:nvPr/>
          </p:nvGrpSpPr>
          <p:grpSpPr>
            <a:xfrm>
              <a:off x="7489800" y="4613400"/>
              <a:ext cx="370800" cy="405360"/>
              <a:chOff x="7489800" y="4613400"/>
              <a:chExt cx="370800" cy="40536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7489800" y="4613400"/>
                <a:ext cx="370800" cy="405360"/>
                <a:chOff x="7489800" y="4613400"/>
                <a:chExt cx="370800" cy="4053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7599960" y="4613400"/>
                  <a:ext cx="260640" cy="353520"/>
                  <a:chOff x="7599960" y="4613400"/>
                  <a:chExt cx="260640" cy="353520"/>
                </a:xfrm>
              </p:grpSpPr>
              <p:sp>
                <p:nvSpPr>
                  <p:cNvPr id="213" name="未知"/>
                  <p:cNvSpPr/>
                  <p:nvPr/>
                </p:nvSpPr>
                <p:spPr>
                  <a:xfrm flipH="1" rot="20092200">
                    <a:off x="7628040" y="4631040"/>
                    <a:ext cx="1195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未知"/>
                  <p:cNvSpPr/>
                  <p:nvPr/>
                </p:nvSpPr>
                <p:spPr>
                  <a:xfrm flipH="1" rot="1933800">
                    <a:off x="7708320" y="4691880"/>
                    <a:ext cx="11736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未知"/>
                  <p:cNvSpPr/>
                  <p:nvPr/>
                </p:nvSpPr>
                <p:spPr>
                  <a:xfrm flipH="1" flipV="1" rot="20092800">
                    <a:off x="7702920" y="4787280"/>
                    <a:ext cx="1195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7489800" y="4665240"/>
                  <a:ext cx="253800" cy="353520"/>
                  <a:chOff x="7489800" y="4665240"/>
                  <a:chExt cx="253800" cy="353520"/>
                </a:xfrm>
              </p:grpSpPr>
              <p:sp>
                <p:nvSpPr>
                  <p:cNvPr id="217" name="未知"/>
                  <p:cNvSpPr/>
                  <p:nvPr/>
                </p:nvSpPr>
                <p:spPr>
                  <a:xfrm rot="20032200">
                    <a:off x="7518960" y="4682880"/>
                    <a:ext cx="1195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未知"/>
                  <p:cNvSpPr/>
                  <p:nvPr/>
                </p:nvSpPr>
                <p:spPr>
                  <a:xfrm rot="16590600">
                    <a:off x="7519680" y="4781880"/>
                    <a:ext cx="117360" cy="16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未知"/>
                  <p:cNvSpPr/>
                  <p:nvPr/>
                </p:nvSpPr>
                <p:spPr>
                  <a:xfrm flipV="1" rot="20032200">
                    <a:off x="7594560" y="4838760"/>
                    <a:ext cx="1195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"/>
              <p:cNvGrpSpPr/>
              <p:nvPr/>
            </p:nvGrpSpPr>
            <p:grpSpPr>
              <a:xfrm>
                <a:off x="7542000" y="4707000"/>
                <a:ext cx="256320" cy="218880"/>
                <a:chOff x="7542000" y="4707000"/>
                <a:chExt cx="256320" cy="21888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7664040" y="4711320"/>
                  <a:ext cx="134280" cy="214560"/>
                  <a:chOff x="7664040" y="4711320"/>
                  <a:chExt cx="134280" cy="214560"/>
                </a:xfrm>
              </p:grpSpPr>
              <p:sp>
                <p:nvSpPr>
                  <p:cNvPr id="222" name="未知"/>
                  <p:cNvSpPr/>
                  <p:nvPr/>
                </p:nvSpPr>
                <p:spPr>
                  <a:xfrm flipH="1" rot="241800">
                    <a:off x="7673760" y="4713840"/>
                    <a:ext cx="748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未知"/>
                  <p:cNvSpPr/>
                  <p:nvPr/>
                </p:nvSpPr>
                <p:spPr>
                  <a:xfrm flipH="1" rot="3683400">
                    <a:off x="7698240" y="4770720"/>
                    <a:ext cx="7344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未知"/>
                  <p:cNvSpPr/>
                  <p:nvPr/>
                </p:nvSpPr>
                <p:spPr>
                  <a:xfrm flipH="1" flipV="1" rot="241800">
                    <a:off x="7666920" y="4821480"/>
                    <a:ext cx="748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7542000" y="4707000"/>
                  <a:ext cx="134280" cy="213120"/>
                  <a:chOff x="7542000" y="4707000"/>
                  <a:chExt cx="134280" cy="213120"/>
                </a:xfrm>
              </p:grpSpPr>
              <p:sp>
                <p:nvSpPr>
                  <p:cNvPr id="226" name="未知"/>
                  <p:cNvSpPr/>
                  <p:nvPr/>
                </p:nvSpPr>
                <p:spPr>
                  <a:xfrm rot="181800">
                    <a:off x="7598520" y="4708800"/>
                    <a:ext cx="748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未知"/>
                  <p:cNvSpPr/>
                  <p:nvPr/>
                </p:nvSpPr>
                <p:spPr>
                  <a:xfrm rot="18340800">
                    <a:off x="7568640" y="4762440"/>
                    <a:ext cx="7344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未知"/>
                  <p:cNvSpPr/>
                  <p:nvPr/>
                </p:nvSpPr>
                <p:spPr>
                  <a:xfrm flipV="1" rot="181800">
                    <a:off x="7592400" y="4816800"/>
                    <a:ext cx="748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6000" y="3212640"/>
            <a:ext cx="6696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AA2A-EF19-42E3-8C2D-6863E0D21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82FF-8867-4DEA-AE4A-E27BF5AB7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image" Target="../media/image5.png"/><Relationship Id="rId14" Type="http://schemas.openxmlformats.org/officeDocument/2006/relationships/image" Target="../media/image6.wmf"/><Relationship Id="rId15" Type="http://schemas.openxmlformats.org/officeDocument/2006/relationships/image" Target="../media/image5.png"/><Relationship Id="rId16" Type="http://schemas.openxmlformats.org/officeDocument/2006/relationships/image" Target="../media/image6.wmf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16000" y="3212640"/>
            <a:ext cx="6696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粉色月季花植物</a:t>
            </a:r>
            <a:r>
              <a:rPr b="1" lang="en-US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240" y="4387320"/>
            <a:ext cx="55767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59640" y="6405480"/>
            <a:ext cx="2376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692400">
            <a:off x="2029320" y="2504520"/>
            <a:ext cx="4654800" cy="21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22" y="448"/>
                </a:moveTo>
                <a:arcTo wR="10800" hR="10800" stAng="-6393413" swAng="2073627"/>
                <a:lnTo>
                  <a:pt x="10800" y="10800"/>
                </a:lnTo>
                <a:close/>
              </a:path>
              <a:path fill="none" w="21600" h="21600">
                <a:moveTo>
                  <a:pt x="7722" y="448"/>
                </a:moveTo>
                <a:arcTo wR="10800" hR="10800" stAng="-6393413" swAng="2073627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666880" y="5772240"/>
            <a:ext cx="3581280" cy="914400"/>
            <a:chOff x="2666880" y="5772240"/>
            <a:chExt cx="3581280" cy="914400"/>
          </a:xfrm>
        </p:grpSpPr>
        <p:pic>
          <p:nvPicPr>
            <p:cNvPr id="318" name="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2666880" y="6358320"/>
              <a:ext cx="3581280" cy="32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9" name=""/>
            <p:cNvGrpSpPr/>
            <p:nvPr/>
          </p:nvGrpSpPr>
          <p:grpSpPr>
            <a:xfrm>
              <a:off x="2668320" y="5772240"/>
              <a:ext cx="3554640" cy="787320"/>
              <a:chOff x="2668320" y="5772240"/>
              <a:chExt cx="3554640" cy="78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679120" y="5772240"/>
                <a:ext cx="3543840" cy="787320"/>
              </a:xfrm>
              <a:prstGeom prst="ellipse">
                <a:avLst/>
              </a:prstGeom>
              <a:gradFill rotWithShape="0">
                <a:gsLst>
                  <a:gs pos="0">
                    <a:srgbClr val="797979"/>
                  </a:gs>
                  <a:gs pos="50000">
                    <a:srgbClr val="c0c0c0"/>
                  </a:gs>
                  <a:gs pos="100000">
                    <a:srgbClr val="79797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668320" y="5772240"/>
                <a:ext cx="3554640" cy="6771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未知"/>
          <p:cNvSpPr/>
          <p:nvPr/>
        </p:nvSpPr>
        <p:spPr>
          <a:xfrm>
            <a:off x="3505320" y="1428840"/>
            <a:ext cx="2200320" cy="480060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889cd"/>
              </a:gs>
              <a:gs pos="100000">
                <a:srgbClr val="724e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324240" y="2190600"/>
            <a:ext cx="409680" cy="393840"/>
            <a:chOff x="3324240" y="2190600"/>
            <a:chExt cx="409680" cy="393840"/>
          </a:xfrm>
        </p:grpSpPr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3324240" y="2190600"/>
              <a:ext cx="409680" cy="3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324240" y="2190600"/>
              <a:ext cx="407160" cy="39384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4"/>
            <a:stretch/>
          </p:blipFill>
          <p:spPr>
            <a:xfrm>
              <a:off x="3364200" y="2194920"/>
              <a:ext cx="323640" cy="13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7" name=""/>
          <p:cNvGrpSpPr/>
          <p:nvPr/>
        </p:nvGrpSpPr>
        <p:grpSpPr>
          <a:xfrm>
            <a:off x="5305320" y="2620800"/>
            <a:ext cx="333360" cy="320760"/>
            <a:chOff x="5305320" y="2620800"/>
            <a:chExt cx="333360" cy="320760"/>
          </a:xfrm>
        </p:grpSpPr>
        <p:pic>
          <p:nvPicPr>
            <p:cNvPr id="328" name="" descr=""/>
            <p:cNvPicPr/>
            <p:nvPr/>
          </p:nvPicPr>
          <p:blipFill>
            <a:blip r:embed="rId5"/>
            <a:stretch/>
          </p:blipFill>
          <p:spPr>
            <a:xfrm>
              <a:off x="5305320" y="2620800"/>
              <a:ext cx="333360" cy="3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305320" y="2620800"/>
              <a:ext cx="330840" cy="32076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" descr=""/>
            <p:cNvPicPr/>
            <p:nvPr/>
          </p:nvPicPr>
          <p:blipFill>
            <a:blip r:embed="rId6"/>
            <a:stretch/>
          </p:blipFill>
          <p:spPr>
            <a:xfrm>
              <a:off x="5338800" y="2624040"/>
              <a:ext cx="263160" cy="11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"/>
          <p:cNvGrpSpPr/>
          <p:nvPr/>
        </p:nvGrpSpPr>
        <p:grpSpPr>
          <a:xfrm>
            <a:off x="6083640" y="3260880"/>
            <a:ext cx="1072800" cy="1049400"/>
            <a:chOff x="6083640" y="3260880"/>
            <a:chExt cx="1072800" cy="1049400"/>
          </a:xfrm>
        </p:grpSpPr>
        <p:pic>
          <p:nvPicPr>
            <p:cNvPr id="332" name="" descr=""/>
            <p:cNvPicPr/>
            <p:nvPr/>
          </p:nvPicPr>
          <p:blipFill>
            <a:blip r:embed="rId7"/>
            <a:stretch/>
          </p:blipFill>
          <p:spPr>
            <a:xfrm rot="692400">
              <a:off x="6163200" y="3343320"/>
              <a:ext cx="914040" cy="8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 rot="692400">
              <a:off x="6162840" y="3342600"/>
              <a:ext cx="907560" cy="885600"/>
            </a:xfrm>
            <a:prstGeom prst="ellipse">
              <a:avLst/>
            </a:prstGeom>
            <a:gradFill rotWithShape="0">
              <a:gsLst>
                <a:gs pos="0">
                  <a:srgbClr val="80cab1">
                    <a:alpha val="79215"/>
                  </a:srgbClr>
                </a:gs>
                <a:gs pos="50000">
                  <a:srgbClr val="3b5d51"/>
                </a:gs>
                <a:gs pos="100000">
                  <a:srgbClr val="80cab1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" descr=""/>
            <p:cNvPicPr/>
            <p:nvPr/>
          </p:nvPicPr>
          <p:blipFill>
            <a:blip r:embed="rId8"/>
            <a:stretch/>
          </p:blipFill>
          <p:spPr>
            <a:xfrm rot="692400">
              <a:off x="6308280" y="3355920"/>
              <a:ext cx="722880" cy="31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"/>
          <p:cNvGrpSpPr/>
          <p:nvPr/>
        </p:nvGrpSpPr>
        <p:grpSpPr>
          <a:xfrm>
            <a:off x="1762200" y="2278080"/>
            <a:ext cx="983880" cy="952200"/>
            <a:chOff x="1762200" y="2278080"/>
            <a:chExt cx="983880" cy="952200"/>
          </a:xfrm>
        </p:grpSpPr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1762200" y="2278080"/>
              <a:ext cx="977040" cy="9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1762200" y="2278080"/>
              <a:ext cx="983880" cy="952200"/>
            </a:xfrm>
            <a:prstGeom prst="ellipse">
              <a:avLst/>
            </a:prstGeom>
            <a:gradFill rotWithShape="0">
              <a:gsLst>
                <a:gs pos="0">
                  <a:srgbClr val="e58790">
                    <a:alpha val="80000"/>
                  </a:srgbClr>
                </a:gs>
                <a:gs pos="50000">
                  <a:srgbClr val="693e42"/>
                </a:gs>
                <a:gs pos="100000">
                  <a:srgbClr val="e5879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10"/>
            <a:stretch/>
          </p:blipFill>
          <p:spPr>
            <a:xfrm>
              <a:off x="1860120" y="2287080"/>
              <a:ext cx="783720" cy="33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"/>
          <p:cNvGrpSpPr/>
          <p:nvPr/>
        </p:nvGrpSpPr>
        <p:grpSpPr>
          <a:xfrm>
            <a:off x="2147760" y="3551400"/>
            <a:ext cx="660600" cy="631800"/>
            <a:chOff x="2147760" y="3551400"/>
            <a:chExt cx="660600" cy="631800"/>
          </a:xfrm>
        </p:grpSpPr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2147760" y="3551400"/>
              <a:ext cx="660600" cy="6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2147760" y="3551400"/>
              <a:ext cx="655560" cy="63180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12"/>
            <a:stretch/>
          </p:blipFill>
          <p:spPr>
            <a:xfrm>
              <a:off x="2213640" y="3557520"/>
              <a:ext cx="522000" cy="22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"/>
          <p:cNvGrpSpPr/>
          <p:nvPr/>
        </p:nvGrpSpPr>
        <p:grpSpPr>
          <a:xfrm>
            <a:off x="3427560" y="3911760"/>
            <a:ext cx="1263240" cy="1221840"/>
            <a:chOff x="3427560" y="3911760"/>
            <a:chExt cx="1263240" cy="1221840"/>
          </a:xfrm>
        </p:grpSpPr>
        <p:pic>
          <p:nvPicPr>
            <p:cNvPr id="344" name="" descr=""/>
            <p:cNvPicPr/>
            <p:nvPr/>
          </p:nvPicPr>
          <p:blipFill>
            <a:blip r:embed="rId13"/>
            <a:stretch/>
          </p:blipFill>
          <p:spPr>
            <a:xfrm>
              <a:off x="3427560" y="3911760"/>
              <a:ext cx="1263240" cy="12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3427560" y="3911760"/>
              <a:ext cx="1255320" cy="1221840"/>
            </a:xfrm>
            <a:prstGeom prst="ellipse">
              <a:avLst/>
            </a:prstGeom>
            <a:gradFill rotWithShape="0">
              <a:gsLst>
                <a:gs pos="0">
                  <a:srgbClr val="72afd8">
                    <a:alpha val="80000"/>
                  </a:srgbClr>
                </a:gs>
                <a:gs pos="50000">
                  <a:srgbClr val="446881"/>
                </a:gs>
                <a:gs pos="100000">
                  <a:srgbClr val="72afd8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4"/>
            <a:stretch/>
          </p:blipFill>
          <p:spPr>
            <a:xfrm>
              <a:off x="3552480" y="3923280"/>
              <a:ext cx="999000" cy="43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5454720" y="4313160"/>
            <a:ext cx="660240" cy="635040"/>
            <a:chOff x="5454720" y="4313160"/>
            <a:chExt cx="660240" cy="635040"/>
          </a:xfrm>
        </p:grpSpPr>
        <p:pic>
          <p:nvPicPr>
            <p:cNvPr id="348" name="" descr=""/>
            <p:cNvPicPr/>
            <p:nvPr/>
          </p:nvPicPr>
          <p:blipFill>
            <a:blip r:embed="rId15"/>
            <a:stretch/>
          </p:blipFill>
          <p:spPr>
            <a:xfrm>
              <a:off x="5454720" y="4313160"/>
              <a:ext cx="66024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5454720" y="4313160"/>
              <a:ext cx="655200" cy="63504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0" name="" descr=""/>
            <p:cNvPicPr/>
            <p:nvPr/>
          </p:nvPicPr>
          <p:blipFill>
            <a:blip r:embed="rId16"/>
            <a:stretch/>
          </p:blipFill>
          <p:spPr>
            <a:xfrm>
              <a:off x="5520600" y="4319280"/>
              <a:ext cx="521640" cy="22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"/>
          <p:cNvSpPr/>
          <p:nvPr/>
        </p:nvSpPr>
        <p:spPr>
          <a:xfrm rot="692400">
            <a:off x="2028960" y="2503800"/>
            <a:ext cx="4658760" cy="214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45" y="1416"/>
                </a:moveTo>
                <a:arcTo wR="10800" hR="10800" stAng="-3620089" swAng="1632255"/>
                <a:lnTo>
                  <a:pt x="10800" y="10800"/>
                </a:lnTo>
                <a:close/>
              </a:path>
              <a:path fill="none" w="21600" h="21600">
                <a:moveTo>
                  <a:pt x="16145" y="1416"/>
                </a:moveTo>
                <a:arcTo wR="10800" hR="10800" stAng="-3620089" swAng="1632255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692400">
            <a:off x="2027880" y="2504880"/>
            <a:ext cx="4657320" cy="214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7" y="10279"/>
                </a:moveTo>
                <a:arcTo wR="10800" hR="10800" stAng="-165862" swAng="2225620"/>
                <a:lnTo>
                  <a:pt x="10800" y="10800"/>
                </a:lnTo>
                <a:close/>
              </a:path>
              <a:path fill="none" w="21600" h="21600">
                <a:moveTo>
                  <a:pt x="21587" y="10279"/>
                </a:moveTo>
                <a:arcTo wR="10800" hR="10800" stAng="-165862" swAng="2225620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692400">
            <a:off x="2025000" y="2489400"/>
            <a:ext cx="4665240" cy="214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863" y="19737"/>
                </a:moveTo>
                <a:arcTo wR="10800" hR="10800" stAng="3350772" swAng="1292840"/>
                <a:lnTo>
                  <a:pt x="10800" y="10800"/>
                </a:lnTo>
                <a:close/>
              </a:path>
              <a:path fill="none" w="21600" h="21600">
                <a:moveTo>
                  <a:pt x="16863" y="19737"/>
                </a:moveTo>
                <a:arcTo wR="10800" hR="10800" stAng="3350772" swAng="1292840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692400">
            <a:off x="2034720" y="2476080"/>
            <a:ext cx="4662720" cy="214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04" y="20984"/>
                </a:moveTo>
                <a:arcTo wR="10800" hR="10800" stAng="6566969" swAng="1241914"/>
                <a:lnTo>
                  <a:pt x="10800" y="10800"/>
                </a:lnTo>
                <a:close/>
              </a:path>
              <a:path fill="none" w="21600" h="21600">
                <a:moveTo>
                  <a:pt x="7204" y="20984"/>
                </a:moveTo>
                <a:arcTo wR="10800" hR="10800" stAng="6566969" swAng="1241914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692400">
            <a:off x="1990800" y="2471040"/>
            <a:ext cx="4663080" cy="214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8" y="15686"/>
                </a:moveTo>
                <a:arcTo wR="10800" hR="10800" stAng="9186116" swAng="2000789"/>
                <a:lnTo>
                  <a:pt x="10800" y="10800"/>
                </a:lnTo>
                <a:close/>
              </a:path>
              <a:path fill="none" w="21600" h="21600">
                <a:moveTo>
                  <a:pt x="1168" y="15686"/>
                </a:moveTo>
                <a:arcTo wR="10800" hR="10800" stAng="9186116" swAng="2000789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692400">
            <a:off x="2000880" y="2468520"/>
            <a:ext cx="4661280" cy="214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22" y="3985"/>
                </a:moveTo>
                <a:arcTo wR="10800" hR="10800" stAng="-8452441" swAng="1099429"/>
                <a:lnTo>
                  <a:pt x="10800" y="10800"/>
                </a:lnTo>
                <a:close/>
              </a:path>
              <a:path fill="none" w="21600" h="21600">
                <a:moveTo>
                  <a:pt x="2422" y="3985"/>
                </a:moveTo>
                <a:arcTo wR="10800" hR="10800" stAng="-8452441" swAng="1099429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899720" y="256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640320" y="43275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82720" y="359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86600" y="2712960"/>
            <a:ext cx="1898640" cy="544680"/>
          </a:xfrm>
          <a:noFill/>
          <a:ln w="9360">
            <a:solidFill>
              <a:srgbClr val="80ca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cab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29200" y="5151600"/>
            <a:ext cx="2371680" cy="544320"/>
          </a:xfrm>
          <a:noFill/>
          <a:ln w="9360">
            <a:solidFill>
              <a:srgbClr val="72a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afd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2280" y="1809720"/>
            <a:ext cx="1791000" cy="544680"/>
          </a:xfrm>
          <a:noFill/>
          <a:ln w="9360">
            <a:solidFill>
              <a:srgbClr val="e587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879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759040" y="32464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35108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添加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体格式的设置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默认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页主标题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加粗加阴影；副标题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（中文黑体英文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加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页标题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加粗加阴影；内页内容文字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（宋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897560" y="63244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6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03:26:50Z</dcterms:created>
  <dc:creator>Rhea</dc:creator>
  <dc:description>www.nordridesign.cn</dc:description>
  <cp:keywords>www.nordridesign.cn</cp:keywords>
  <dc:language>en-US</dc:language>
  <cp:lastModifiedBy>微软用户</cp:lastModifiedBy>
  <dcterms:modified xsi:type="dcterms:W3CDTF">2014-11-09T01:16:20Z</dcterms:modified>
  <cp:revision>6</cp:revision>
  <dc:subject>Powerbar模板組</dc:subject>
  <dc:title>古典花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