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FEE-E3BA-47A3-98DB-0C4AA00F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65E-95FA-4A75-BB45-0EF8537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8F7-9819-414F-BF25-73EDEADB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06B-2783-4753-9B27-0E12AF83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545-1ED4-45DC-A9C3-8C39009A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1AD-B053-4B6B-930C-475338AE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3376-94BD-4A33-AE89-1493A53A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B2D3-F83F-4623-8ED2-9C96F72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F8A-AFA1-4DB1-BA72-58F1E1D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D80E-2C45-430B-9C30-18C811D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48ED-A444-45FB-8B2C-89D176B0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DD1-532B-495A-9ED7-49C8D40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5A2E-9C44-47A8-A038-137A65B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ADE-A104-41D5-9313-DFE4FF8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27BC-51A4-4418-8F25-FF46036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29C6-8011-498E-86F5-08C7DF93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A9F2-0C2C-4358-AFCF-1A04223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D94-1A41-49AF-8CB2-40782D7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877-FF4A-49C4-8D1D-4C143BC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326-A2C9-4CA5-94C6-340386A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41F-030F-4B42-9BDA-45BB8656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7C2-A5F4-4890-A382-90E6413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4D5-D014-495C-A122-E58F745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F3C-7CA0-4D30-9CAD-C20AE68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B856-B5B1-4C61-9734-B95D2F13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E5E-EF2F-4D39-A085-217AEA32C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11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374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2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1:40:45Z</dcterms:created>
  <dc:creator>Administrator</dc:creator>
  <dc:description/>
  <dc:language>en-US</dc:language>
  <cp:lastModifiedBy/>
  <cp:lastPrinted>1899-12-30T00:00:00Z</cp:lastPrinted>
  <dcterms:modified xsi:type="dcterms:W3CDTF">2014-05-21T14:35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