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581-A0F1-42F0-BC3C-4C19AC66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F9C-8723-400C-A1A7-754439A2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B09-0902-4DA8-914B-E294602F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761-0D7C-443D-8636-34559D87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D74-956B-4ABB-8D80-FDDDB64D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F6D-27C4-4BED-A3F4-0CED0771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2FF-9FE1-4FBB-82F3-ADB0ED1A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3BE-47B0-45A3-959B-4E2FE8C3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930-4B58-4D52-84F9-9B2782E0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941-DBE2-4095-8D25-CE9EEFF5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B4B-9A90-4C49-84AF-FEF23B6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7EF-2649-402E-A87D-9D24DC8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471C-2FDE-45D5-91AE-3C812FC6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-88920" y="5958000"/>
            <a:ext cx="1320480" cy="1143000"/>
            <a:chOff x="-88920" y="5958000"/>
            <a:chExt cx="1320480" cy="1143000"/>
          </a:xfrm>
        </p:grpSpPr>
        <p:pic>
          <p:nvPicPr>
            <p:cNvPr id="10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88920" y="5958000"/>
              <a:ext cx="13204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91600" y="6218280"/>
              <a:ext cx="5929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9" name="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20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古典书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22160" y="3885840"/>
            <a:ext cx="75596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108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27680" y="5589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10001160" cy="6858000"/>
            <a:chOff x="0" y="0"/>
            <a:chExt cx="10001160" cy="6858000"/>
          </a:xfrm>
        </p:grpSpPr>
        <p:sp>
          <p:nvSpPr>
            <p:cNvPr id="65" name="矩形 4"/>
            <p:cNvSpPr/>
            <p:nvPr/>
          </p:nvSpPr>
          <p:spPr>
            <a:xfrm>
              <a:off x="129420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000116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7"/>
            <p:cNvSpPr/>
            <p:nvPr/>
          </p:nvSpPr>
          <p:spPr>
            <a:xfrm rot="20926800">
              <a:off x="2266920" y="3572280"/>
              <a:ext cx="55134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/>
  <dc:description/>
  <dc:language>en-US</dc:language>
  <cp:lastModifiedBy>微软用户</cp:lastModifiedBy>
  <dcterms:modified xsi:type="dcterms:W3CDTF">2014-11-21T01:35:08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