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51E1-3DCB-4B48-BBCE-21EEC4FD0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343F-2FCD-4444-90C9-44D075C53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051-AFEC-47E0-A11D-533A3F052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5955-A414-47F3-B000-544B81FE4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7FD1-FAAC-4AC8-B9E3-5C115D68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7EC1-5978-4CB6-9EAF-A1BE4028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9F5B-F08C-4E15-AC3C-347C8212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000-AC77-4ED9-B96E-7929D140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9144-3CC0-4989-A098-36F0800B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CAAB-3054-4156-B9E7-B0D51BAF6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26F1-AE09-4B6C-9E2A-4D77DC50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088-6272-4F3A-AD57-B90D7282B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CD31C-F030-4FE9-9550-A45DE127A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21720" y="6400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997680" y="64008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68960" y="61722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06:39:18Z</dcterms:created>
  <dc:creator/>
  <dc:description/>
  <dc:language>en-US</dc:language>
  <cp:lastModifiedBy>news</cp:lastModifiedBy>
  <dcterms:modified xsi:type="dcterms:W3CDTF">2014-05-21T05:31:59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Version">
    <vt:r8>1</vt:r8>
  </property>
</Properties>
</file>