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E6B7-94C8-40BA-B316-BB0187D1A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46E4-8248-41FE-9D61-889DB1029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4174-9CC2-4F9A-A847-8B303AE52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8AC5-0EAA-4914-AA7C-756E1F0B7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2771E-D18E-4DA3-9F6E-2654F2DC0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77963-3971-4D37-B000-7634376C9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EAA3A-8FAD-4270-9E16-84DA89DE5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F00E0-3BB5-45B3-AA1E-B93162308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3AC43-AF71-4EBE-9B2A-60FB8C185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BA489-B3C8-4548-BA69-8FFA2F875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C55D6-4B2D-4FBB-A699-F4FC1882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E643-89E1-470C-B261-09EE4117B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B4434-EDD4-4A9D-BA27-9EBB3532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E7323-0447-461D-8A63-BFB2C545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01228-0C9F-4ACE-8ECA-CDB4F760B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EEBE6-FEC8-45EF-BCC1-AE79E7736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70176-7445-4E83-B9CE-00A4FB15F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9CE10-6020-495E-9E31-79C58AD5F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4F93C-790A-4D9A-823B-34965435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1E4CD-B72C-4894-BA64-B8F72234B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111B8-76F1-45C3-8429-6A8ECD804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1648E-1C9F-4AC1-AD4C-5B7099249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04D1-755E-4E5A-9F21-13868D2E1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B1C95-23A5-4EB4-93A2-7DB3F8EF3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886AA-EB20-4EB0-ABC9-5E2B73B6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A5BFE-5D43-412F-A950-A4D929C1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A3982-0681-4662-941A-A4796906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F6CA5-F10B-481B-A0AA-BB2D42B00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C8B15-9440-4365-8966-FDB3F5C7E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FEA01-7B3A-44BA-A092-3D6FFB2DC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3379-06DC-46BF-AFC4-6207BC64F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644C-C294-4B0F-8675-13E3D1103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31DC-40D0-42F3-BAD2-4BF70BE62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F504-C8D7-440A-BC78-CCD01E65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F6C5-C434-4418-A75E-C4AF4957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0FC2-EEE8-44B8-8B3E-2F745734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1426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212CA-62C7-467C-9A0A-F49E411254F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120" y="11426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3F6F7-20AF-4456-8DCB-17973E3DDEF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A25EE-1F81-44FE-A4AE-3E96DFAA91B1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9A006-0D9B-4E3F-B46B-0AEB7A67206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04760" y="380880"/>
            <a:ext cx="701028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ffcc"/>
                </a:solidFill>
                <a:latin typeface="Times New Roman"/>
                <a:ea typeface="宋体"/>
              </a:rPr>
              <a:t>感恩节快乐</a:t>
            </a:r>
            <a:r>
              <a:rPr b="1" i="1" lang="en-US" sz="4400" spc="-1" strike="noStrike">
                <a:solidFill>
                  <a:srgbClr val="ffffcc"/>
                </a:solidFill>
                <a:latin typeface="Times New Roman"/>
                <a:ea typeface="宋体"/>
              </a:rPr>
              <a:t>PPT</a:t>
            </a:r>
            <a:r>
              <a:rPr b="1" i="1" lang="zh-CN" sz="4400" spc="-1" strike="noStrike">
                <a:solidFill>
                  <a:srgbClr val="ffffcc"/>
                </a:solidFill>
                <a:latin typeface="Times New Roman"/>
                <a:ea typeface="宋体"/>
              </a:rPr>
              <a:t>模板</a:t>
            </a:r>
            <a:endParaRPr b="1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zh-CN" sz="4000" spc="-1" strike="noStrike">
              <a:solidFill>
                <a:srgbClr val="ffffcc"/>
              </a:solidFill>
              <a:latin typeface="Times New Roman"/>
              <a:ea typeface="宋体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7c80"/>
              </a:solidFill>
              <a:latin typeface="Times New Roman"/>
              <a:ea typeface="宋体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2:41:34Z</dcterms:created>
  <dc:creator>eclipse</dc:creator>
  <dc:description/>
  <dc:language>en-US</dc:language>
  <cp:lastModifiedBy>a</cp:lastModifiedBy>
  <dcterms:modified xsi:type="dcterms:W3CDTF">2014-12-10T15:04:13Z</dcterms:modified>
  <cp:revision>11</cp:revision>
  <dc:subject/>
  <dc:title>Thankful Turke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