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3FE7-D294-4348-AB59-E41CC46D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F2F-A842-4FB2-A283-90DF4A8A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690-45A0-4C37-BA00-A75664A4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1FE-BF1D-48DA-9558-CAE41085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3872-9E6D-424F-84CB-ACEE2274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C226-713D-4F08-97A7-09B30157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4F5C-8A2D-4596-AF46-7D9EB10F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8E36-AC5F-4C1D-A36B-4B3E550D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810D-D2EF-45DE-8E3F-F8D9A71C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3A00-3BE3-412B-AA59-3F1829EA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448B-8207-4E2C-B943-558E2C5A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725-E083-4F9F-9E31-C3AEB18C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1789-927B-46D4-AC4F-F1743F47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8F07-8997-44BF-9D1D-13619986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7E89-C8EC-4576-AD15-64CEEF22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7C15-8CCA-4BEC-9C05-67DBDED4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AD91-B981-4DD8-8678-3A65F89C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390-D403-4551-98B3-4DEA4175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FDB-9A82-4E4C-AAC2-D9777DD1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F1F-1619-48DE-A730-B2BB82F5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AEF-7478-4F35-9C07-607EA5AE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26B-0242-4D71-ACDC-3EDCC50E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410C-862C-4088-9214-BF9F15B3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9554-E217-4B73-96D9-B237DD90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B0A7-0B72-4AEC-A314-48E91CF55D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2133720"/>
            <a:ext cx="38876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D653-0081-4B1B-B7EA-5F6D29CE11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640" y="2133720"/>
            <a:ext cx="38876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7640" y="3502080"/>
            <a:ext cx="388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7401600" y="64501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684360" y="328932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1162080" y="400356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2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77da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77da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77da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77da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50:27Z</dcterms:created>
  <dc:creator/>
  <dc:description/>
  <dc:language>en-US</dc:language>
  <cp:lastModifiedBy>雨林木风</cp:lastModifiedBy>
  <cp:lastPrinted>1899-12-30T00:00:00Z</cp:lastPrinted>
  <dcterms:modified xsi:type="dcterms:W3CDTF">2014-05-27T09:30:16Z</dcterms:modified>
  <cp:revision>3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