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9AC-E6A1-4EBF-84BB-B5C8908C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CEF-3444-4D31-8496-3482180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CCC-6AEE-46B6-AE3B-ECE8D5AB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341-63E5-4956-90BB-EF97E9FB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EC36-4367-4D40-A71C-4216DE57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3B5-9912-4C83-81A7-A3411964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C4E-D371-48A1-9740-6E3E703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E0A-2BA1-4429-B06B-2F5EAAAC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A762-BDEB-49C3-AEDF-6CD20FE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92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D312-8772-4880-A8F3-EB5A7EA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F348-16CD-4BA5-9BCA-6FE19FB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36D-3FD2-4FB1-9B0F-74C2132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93C0-CC0C-46CD-99FC-AB93B9B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F1FA-8145-49AA-8AF5-694C5A8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E79A-0372-422E-9B7C-DC48715E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558B-9251-441F-B5F7-68D15E36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0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3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0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3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7414-5F5F-48E8-A248-9F1F24F5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DE8-75F9-4DF3-B00D-FA9633D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05C-DAA2-4360-86EC-B109AC1B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AAE-9DD8-4EBA-90E0-138FB73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47F-43F3-4B76-8DA9-03F6AE8D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840-1AAF-4FA4-80E0-89711B7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9AB-6534-44CA-83EE-B53D16D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D15-6AB0-475E-A9AF-4A8387F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30838" r="0" b="57106"/>
          <a:stretch/>
        </p:blipFill>
        <p:spPr>
          <a:xfrm>
            <a:off x="-11160" y="0"/>
            <a:ext cx="9155160" cy="1104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949F-3E40-4718-82D9-1D462F49FF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602C-5161-4966-BDEA-41F702DEB2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​​ 8"/>
          <p:cNvSpPr/>
          <p:nvPr/>
        </p:nvSpPr>
        <p:spPr>
          <a:xfrm>
            <a:off x="0" y="1077840"/>
            <a:ext cx="9166320" cy="71640"/>
          </a:xfrm>
          <a:prstGeom prst="rect">
            <a:avLst/>
          </a:prstGeom>
          <a:solidFill>
            <a:srgbClr val="dfd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3" descr=""/>
          <p:cNvPicPr/>
          <p:nvPr/>
        </p:nvPicPr>
        <p:blipFill>
          <a:blip r:embed="rId3"/>
          <a:stretch/>
        </p:blipFill>
        <p:spPr>
          <a:xfrm>
            <a:off x="7236000" y="549360"/>
            <a:ext cx="14601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"/>
          <p:cNvPicPr/>
          <p:nvPr/>
        </p:nvPicPr>
        <p:blipFill>
          <a:blip r:embed="rId2"/>
          <a:srcRect l="0" t="19535" r="0" b="12349"/>
          <a:stretch/>
        </p:blipFill>
        <p:spPr>
          <a:xfrm>
            <a:off x="-11160" y="0"/>
            <a:ext cx="9155160" cy="6242040"/>
          </a:xfrm>
          <a:prstGeom prst="rect">
            <a:avLst/>
          </a:prstGeom>
          <a:ln w="0">
            <a:noFill/>
          </a:ln>
        </p:spPr>
      </p:pic>
      <p:sp>
        <p:nvSpPr>
          <p:cNvPr id="45" name="矩形​​ 7"/>
          <p:cNvSpPr/>
          <p:nvPr/>
        </p:nvSpPr>
        <p:spPr>
          <a:xfrm>
            <a:off x="-31680" y="6184800"/>
            <a:ext cx="9175680" cy="673200"/>
          </a:xfrm>
          <a:prstGeom prst="rect">
            <a:avLst/>
          </a:prstGeom>
          <a:solidFill>
            <a:srgbClr val="c5a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​​ 8"/>
          <p:cNvSpPr/>
          <p:nvPr/>
        </p:nvSpPr>
        <p:spPr>
          <a:xfrm>
            <a:off x="-14400" y="6140520"/>
            <a:ext cx="9158400" cy="57240"/>
          </a:xfrm>
          <a:prstGeom prst="rect">
            <a:avLst/>
          </a:prstGeom>
          <a:solidFill>
            <a:srgbClr val="dfd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6661080" y="5157720"/>
            <a:ext cx="2216160" cy="147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0680" y="38588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960-36E6-4A43-9739-DD74E9A3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4218120"/>
            <a:ext cx="7772400" cy="100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8600" y="525456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720" y="6394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"/>
          <p:cNvPicPr/>
          <p:nvPr/>
        </p:nvPicPr>
        <p:blipFill>
          <a:blip r:embed="rId1"/>
          <a:srcRect l="0" t="30838" r="0" b="57106"/>
          <a:stretch/>
        </p:blipFill>
        <p:spPr>
          <a:xfrm>
            <a:off x="-11160" y="0"/>
            <a:ext cx="9155160" cy="110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2"/>
          <a:stretch/>
        </p:blipFill>
        <p:spPr>
          <a:xfrm>
            <a:off x="7236000" y="549360"/>
            <a:ext cx="1460160" cy="9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7F6-6706-4649-ADD1-D332AA4B83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9488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1:53:00Z</dcterms:created>
  <dc:creator/>
  <dc:description/>
  <dc:language>en-US</dc:language>
  <cp:lastModifiedBy>Bread</cp:lastModifiedBy>
  <cp:lastPrinted>1899-12-30T00:00:00Z</cp:lastPrinted>
  <dcterms:modified xsi:type="dcterms:W3CDTF">2014-05-17T05:58:0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