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907-2E29-4207-A188-1A55C56C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D0B-0586-45D0-929B-058A4B47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138-0376-4275-9375-7E27818B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9E0-B81B-49A8-A717-71677267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7E7-0FC3-4897-B0BF-88B68E93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83F-4846-497C-A03E-B999F5A0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66C-F1D5-428B-8BDF-93CB8B0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D33-3148-493C-AF64-1DF2FFF2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30C-D006-4663-AECE-5964949C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A30-583D-4A28-9853-A495780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B57-AA63-411D-95EC-F2C7795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AA9-12E3-4A41-82D0-F8AFBB2A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E710-0988-4B8A-B82C-994DBC3604F9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E4F-63BB-4168-AC40-2008190548E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3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3" name=""/>
          <p:cNvSpPr/>
          <p:nvPr/>
        </p:nvSpPr>
        <p:spPr>
          <a:xfrm>
            <a:off x="6458760" y="645012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6200" y="609300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48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6:26:00Z</dcterms:created>
  <dc:creator>果因PPT工作室</dc:creator>
  <dc:description/>
  <cp:keywords>XS-普屏 4：3;SC-淡黄色;BG-浅色;DH-静态</cp:keywords>
  <dc:language>en-US</dc:language>
  <cp:lastModifiedBy>田士庆</cp:lastModifiedBy>
  <dcterms:modified xsi:type="dcterms:W3CDTF">2014-05-27T09:31:30Z</dcterms:modified>
  <cp:revision>3</cp:revision>
  <dc:subject>TP-理念概念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