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A11-0881-4982-A09D-49924FC8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660-0982-4FD8-BF88-B06BC7C0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822-AA8F-42A9-80D2-5759BC38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0FD-422E-4356-AE06-12753242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DE6D-1115-437D-BE1E-F805AB03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2055-F59B-46CE-B074-EE0ACCB0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0739-2EE8-4A5B-B564-C032B2DB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4F51-2109-4C27-A316-9C9409EA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C619-8D1A-4D76-AA71-6104012C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2BFA-4BD2-48CC-9D36-97CB4AB6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F535-941D-4FD6-98FA-71A2B62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AEA-86B6-4CD2-8251-D8D1F59A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2A1E-BFC5-4CBF-8940-97BD7B00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60CB-299B-4F55-A9D4-26522F4A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740D-9B41-49CB-9CE3-E9C858D9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F14D-5020-4E62-8D1D-21DE04FE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66C4-79A5-4899-8A02-0A3D1EB8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768-2A21-40E7-B202-5BA68482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3E7-CA5B-45C4-BB95-98313FF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AB5-77E2-4FBD-8343-AB25AD60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E8D-9F45-4EFB-AD6E-6E753F42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CF5-EB66-43DD-B896-2DE4ACA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0BB-5DC0-42A0-8535-8F2C2397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65B-2F52-4AE5-87E0-F5F4381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cbd8dd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ED1E-1DF5-4DC3-B932-DE3BCCC83A81}" type="datetime3">
              <a:rPr b="1" lang="en-US" sz="1000" spc="-1" strike="noStrike">
                <a:solidFill>
                  <a:srgbClr val="cbd8dd"/>
                </a:solidFill>
                <a:latin typeface="Candara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8231e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2F90-BB4F-4733-AF7B-9AEF916F1299}" type="slidenum">
              <a:rPr b="1" lang="en-US" sz="1600" spc="-1" strike="noStrike">
                <a:solidFill>
                  <a:srgbClr val="48231e"/>
                </a:solidFill>
                <a:latin typeface="Candar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4525-78C1-4CF2-83B9-66FD8AECA8FA}" type="datetime3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026年7月31日</a:t>
            </a:fld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6BD9-774D-4DA5-98CE-82685B0130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743280" y="3720960"/>
            <a:ext cx="51213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231e"/>
              </a:solidFill>
              <a:latin typeface="Candara"/>
              <a:ea typeface="华文楷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740040" y="1417680"/>
            <a:ext cx="51199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8231e"/>
                </a:solidFill>
                <a:latin typeface="Candara"/>
                <a:ea typeface="华文新魏"/>
              </a:rPr>
              <a:t>古朴之花</a:t>
            </a:r>
            <a:r>
              <a:rPr b="0" lang="zh-CN" sz="4000" spc="-1" strike="noStrike">
                <a:solidFill>
                  <a:srgbClr val="48231e"/>
                </a:solidFill>
                <a:latin typeface="Candara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48231e"/>
                </a:solidFill>
                <a:latin typeface="Candara"/>
                <a:ea typeface="华文新魏"/>
              </a:rPr>
              <a:t>模板</a:t>
            </a:r>
            <a:endParaRPr b="0" lang="en-US" sz="40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2e2224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2e2224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2e2224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2e2224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e2224"/>
                </a:solidFill>
                <a:latin typeface="Candara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e2224"/>
                </a:solidFill>
                <a:latin typeface="Canda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3:30:45Z</dcterms:created>
  <dc:creator>king</dc:creator>
  <dc:description/>
  <dc:language>en-US</dc:language>
  <cp:lastModifiedBy>a</cp:lastModifiedBy>
  <dcterms:modified xsi:type="dcterms:W3CDTF">2014-12-10T15:06:03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