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79C9-B50D-4BB4-AE8D-960A9A07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E942-9B3E-49A8-A8DB-0C3034F3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AFC7-A1B3-4D6A-95D8-49F343E9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D4CA-335F-4FB2-9E1F-63844372C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5B74-D07E-4430-8D6C-34BEA163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E484-5C11-4031-B0EF-AF27C374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C195-2A8A-4946-88D9-73D60317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6F25-9AD2-4132-AAB0-A7005760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3187-3D77-42F6-80B2-18563610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F022-5B40-4CB4-8F33-77BFABB9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6729-5B86-47B0-BAE3-4027A7A2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178F-5907-4873-A7AE-27B2BDB3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095F-7BCC-498A-B216-B996B2D9B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w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小兔子"/>
          <p:cNvPicPr/>
          <p:nvPr/>
        </p:nvPicPr>
        <p:blipFill>
          <a:blip r:embed="rId2"/>
          <a:stretch/>
        </p:blipFill>
        <p:spPr>
          <a:xfrm>
            <a:off x="2666880" y="3429000"/>
            <a:ext cx="3048120" cy="2593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ty7_副本_副本"/>
          <p:cNvPicPr/>
          <p:nvPr/>
        </p:nvPicPr>
        <p:blipFill>
          <a:blip r:embed="rId3"/>
          <a:stretch/>
        </p:blipFill>
        <p:spPr>
          <a:xfrm rot="304800">
            <a:off x="837720" y="3733920"/>
            <a:ext cx="1295640" cy="723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1880" y="64771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w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未命名_副本_副本"/>
          <p:cNvPicPr/>
          <p:nvPr/>
        </p:nvPicPr>
        <p:blipFill>
          <a:blip r:embed="rId2"/>
          <a:stretch/>
        </p:blipFill>
        <p:spPr>
          <a:xfrm>
            <a:off x="3124080" y="3048120"/>
            <a:ext cx="1805040" cy="3124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ty7_副本_副本"/>
          <p:cNvPicPr/>
          <p:nvPr/>
        </p:nvPicPr>
        <p:blipFill>
          <a:blip r:embed="rId3"/>
          <a:stretch/>
        </p:blipFill>
        <p:spPr>
          <a:xfrm>
            <a:off x="914400" y="3733920"/>
            <a:ext cx="12952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w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小螃蟹"/>
          <p:cNvPicPr/>
          <p:nvPr/>
        </p:nvPicPr>
        <p:blipFill>
          <a:blip r:embed="rId2"/>
          <a:stretch/>
        </p:blipFill>
        <p:spPr>
          <a:xfrm rot="19950600">
            <a:off x="3200400" y="3352680"/>
            <a:ext cx="2362320" cy="2316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ty7_副本_副本"/>
          <p:cNvPicPr/>
          <p:nvPr/>
        </p:nvPicPr>
        <p:blipFill>
          <a:blip r:embed="rId3"/>
          <a:stretch/>
        </p:blipFill>
        <p:spPr>
          <a:xfrm rot="20931000">
            <a:off x="914400" y="3809880"/>
            <a:ext cx="1143000" cy="638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11880" y="64771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w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小袋鼠"/>
          <p:cNvPicPr/>
          <p:nvPr/>
        </p:nvPicPr>
        <p:blipFill>
          <a:blip r:embed="rId2"/>
          <a:stretch/>
        </p:blipFill>
        <p:spPr>
          <a:xfrm>
            <a:off x="2819520" y="3352680"/>
            <a:ext cx="2363760" cy="2514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ty7_副本_副本"/>
          <p:cNvPicPr/>
          <p:nvPr/>
        </p:nvPicPr>
        <p:blipFill>
          <a:blip r:embed="rId3"/>
          <a:stretch/>
        </p:blipFill>
        <p:spPr>
          <a:xfrm>
            <a:off x="838080" y="3733920"/>
            <a:ext cx="1295640" cy="723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74240" y="65530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4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3T02:31:25Z</dcterms:created>
  <dc:creator/>
  <dc:description/>
  <dc:language>en-US</dc:language>
  <cp:lastModifiedBy>king</cp:lastModifiedBy>
  <dcterms:modified xsi:type="dcterms:W3CDTF">2014-05-23T02:54:4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ersion">
    <vt:r8>1</vt:r8>
  </property>
</Properties>
</file>