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3E6-DD6B-4602-AFE2-2BB06DE1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527-1CA9-455B-8553-8D22C1E9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59EA4-D354-4AF3-920A-EA82B191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9CD41-76F2-4BE8-A026-2A6BB166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399DC-F482-4870-8973-AD08702A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418DF-0118-404E-AAA9-1A41010F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F141E-55A6-4AA8-838B-622F25F6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75D7D-5C26-496F-9990-9ED9C76D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C8174-458C-442E-98F2-A1BAC227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B7312-5564-43E7-A4F4-D7431FA7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11D90-09BC-43AE-9A04-172724C5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5322C-590F-4C1C-B22D-ED32C872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EBC-2A14-4341-8DF1-512F3BA2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D2645-46A9-4AD1-B074-5C2AA83F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D45BC-50A5-4A1E-9C87-392C569F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6D4DF-B262-4A4C-AF25-45F2C1A2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B39B6-21CF-4D8B-B924-DB5A27D1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77EB2-1E35-431B-963C-C159B8FD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82CFC-43D3-401D-A5AD-8944E482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8E014-6C48-48A2-A86C-CF8E2AC5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01756-B695-43AC-A097-4BF10A23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FFA39-3917-4C0E-8A1F-D8D9D1B2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6C949-072B-4878-93E2-8EEF3322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EEA-5E36-49AB-AA6F-BA0F634C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79EBA-0025-4A29-B24C-EAED8145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B3EAA-7BF7-4A3E-B52C-80C19B25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BD950-F9CB-4768-A883-C9E3095F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9BA47-94D0-4ECD-9A58-5326554F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FB7A3-962B-4ACC-AAD5-43183BAC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76969-1A5D-4E7E-8C52-D9E7B7EE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2E040-0735-47BC-9511-64CEA5C4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BCE86-3E2F-48E4-BC8A-7A3D4827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3843E-9C88-4457-9A41-D4AC499B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E85DF-B8D6-4AC4-9A6E-BEE1790F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A4EF-4364-40B3-81A2-E1E2211B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C38BF-3737-4231-8BD3-459E338D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6216E-9F9C-43CC-AC6F-94F5DB00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5BC99-EADD-498D-9BB7-AF242DE1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63EA8-096E-4045-9105-29B5E250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87F0A-1EF7-4B45-B280-A99B574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7B814-0F42-4096-8E69-D63DDAD8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E00F1-A421-4AB5-BEC1-694632F3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106EA-7B27-4C1E-B923-750CB29D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CBEB9-1C48-428D-BDDD-375C9D69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24ED6-18B9-422D-8D7D-D9173AB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3191-C2A8-468B-AA2A-5B24043E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C1387-F535-4CA5-8ABE-8308296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42D50-0993-4AF9-B587-AD77F2AC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8DF43-1F43-4008-9556-1F7E4C56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850AB-DA3B-4983-B24A-E3E03E2A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FBEA4-56C3-4FE7-B3F7-8404B4F0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1DD86-0BDE-4BCB-8535-BAB9474C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5F1F3-B8D4-4714-8EE6-5538F28F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D4E69-6FFA-4B0B-9DE5-A39FA2DE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79B3D-6914-438C-994B-FFA3C68D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1A5CA-096D-49E4-9F35-6DDC91D3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933C-F1C4-4563-9DE7-C68E19B6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3113B-8C1F-48D6-BA3B-4AE3A2FA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0FFEB-24D8-49CE-9318-4AEA182B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C46B3-9377-4EC3-8C7D-F0A9C17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407EA-81F2-4203-9BEC-D38610FA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C7749-8D88-478A-BC4E-4A4C7AB7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06AAB-E864-4858-9635-C846354B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8B08D-39CF-4D7A-A248-E334AB8A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1B631-1DCB-4E31-9BB2-583F50F1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B6436-D626-477D-8D3A-FD59C7F8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931C5-33C2-4956-802A-8EF7A7F4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BABD-1630-4384-A02E-F80960F9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CCC26-F2DA-415C-B39E-B7815CE5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C71EC-AFDD-424A-A5BC-6215B9DA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E4592-3AE2-446D-B5A6-EFAAB212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0E267-15F3-49AC-B470-B4B7A78D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A5B87-FEBC-4938-8A05-94ABD2EA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3DC24-8098-4C85-B51F-E7522974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E266E-D16A-4AE8-A868-83848DC4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12DBB-09EA-43FD-9483-D5EFCD60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06A8E-629C-42C5-AF89-0DCB7093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FCD2-B771-4456-9325-E4640E20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9819-E939-44CB-8D29-A349A484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D44A-AF97-406C-94EF-57DD4092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05A-72E6-465B-90F7-3F70F8CD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4899-F6D3-4AEF-B128-FC2F8AE2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4F4F-7351-494D-A625-A4CD18AD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CCDD-9727-41E4-B188-2B534AB6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DB30-6F60-428F-AB12-549E2709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21DB-992B-49E2-AF95-FC29EA56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1FB5-56E4-4FB6-8A55-539158D7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182D-3174-45DB-B11D-02ABB54A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2A96-7249-4DAB-96EF-95A40A15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E7CFC-1C8A-45D6-ADA7-D5896F99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45D7-6AA4-4184-8009-6D66DB3B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151-E681-4787-9D49-B57A36CC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4792-7D2B-4BB2-9580-9C174730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ACCD-CE3F-4D8D-8820-6E9C75A8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8092-2181-4316-8999-DA61BF91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FE9D6-5828-4C4F-96F6-B1E348BB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CAAD-93E5-4FDF-B644-50BBAAB1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3609-34EE-4F4C-B7EF-C21F3200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198E-28BA-4A6D-9953-F93FE5BF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F297E-571F-4964-9DBE-2074CC08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B85F1-78E0-41F1-829A-AC9F496E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329F3-E55B-45BA-A46F-30A3E3B1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6C6-E933-4E92-B7B7-84D6F096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C58BD-0189-4807-AEB2-288E7B17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7A809-D268-473B-842B-3CCC456E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C408-25E0-4032-9141-E385022F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1AD4C-8C39-44B9-A1CC-32F23A0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0240F-5BD9-4484-A573-468BF907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67CE8-FDC9-40EB-B6D1-F8635F4E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1531-E9BD-4AFC-A047-4D4D3E03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B667-23D8-43E4-9100-D03AF1D2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3DAAF-2F19-4DAF-A104-EA43EA46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5D529-E2B6-414C-A3DF-F87503CA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6EA-90F4-49BD-9AD6-EB6F0AAD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6EDE8-4B7A-4835-9D13-B2E5B49A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2DF6D-723B-4C21-A46D-646EFC65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EAA0-DA53-47F1-AEF0-CDA58F92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892B8-7117-43B1-B252-CC84A880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CD8B2-AF80-4205-80D4-63AC0937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8816D-84F0-470C-A899-9186A024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C84F4-BF7B-4A83-B49B-741F1777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A492-2AA6-4530-9E0E-32C8157B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352D3-1FDB-4332-904F-53ECDE1D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61308-32F9-4107-AD39-0F50FE59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C0E-AA9D-480B-9465-F0FE6D75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AE109-213C-4E79-B645-FAB44300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50694-E85A-4AD5-8DED-D3F2F9FE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D9F18-C522-4564-A4D2-67631640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54E0B-C277-4D03-9C98-8633895A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AEBE2-2BF7-4B38-9CA8-473E700B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C253C-954E-484E-82C1-D4B50E3C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C75A8-AA3C-4A46-A002-76775DF3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BB33F-7C03-41DC-925F-3A2BECAC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34A00-87B8-4643-B59C-23BACB11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83B66-7903-4BC8-9806-FD0A07C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B84-77B3-4531-9A76-A31EA921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54880-90F4-45DD-859F-2E220895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6B9C-3301-431A-96C1-9D9AE025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66F2E-D4C7-48D5-B255-F235B81A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00542-FBB6-415A-843B-F3B75499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3E2A2-C0DC-45AE-91E7-BD322B2D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799DB-1CA5-4271-93E0-62CF975B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587F3-5BD9-4206-A699-09A9582B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C3C21-AEDB-40A7-96C2-05655FB3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236E0-6E05-4B9D-BEAE-3594CF00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A8C0A-82C9-49AF-993C-6F4B2B8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911-D469-4424-A8A1-F327F978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5F2AF-A54F-413F-8376-61D99B2F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D3719-8B97-4032-A183-77C4969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0E232-E8F9-4E24-94E5-4D79C3D7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04958-BA8F-413F-A692-1EAECFC5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329C2-06ED-450D-89EB-B5A36B57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7C38F-FB4D-48AF-A1FA-FC2A4BA5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DC25B-DED8-4979-B262-932FC98D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DDC84-8E2C-4B31-AB43-68E42BA8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1AD2E-8F07-4780-A839-641303E5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32B03-B126-48CB-8369-32F5106C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E8F-3B63-489A-9A4E-7A707A9B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652CB-1EF9-4168-A517-6335BD73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241A0-CC9E-419C-B36B-39A9169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D0B77-C27A-4F84-A68C-51F62C1F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7B5A7-F896-4BE3-89EB-F66E87C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CDB93-ED26-4F7B-80B6-2031457E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941F0-AE51-439F-9557-EF765596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D316F-3BF6-4FA7-B51E-31E3D462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E8E64-9419-46EF-921E-1999BAA1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40FBB-9027-4C9A-81CA-E067D6B5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660FB-0CED-4A28-B75F-AABB5477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163080" y="-6480"/>
            <a:ext cx="1440" cy="686916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6213600" y="-6480"/>
            <a:ext cx="2730240" cy="686916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fd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6564240" y="-6480"/>
            <a:ext cx="2598840" cy="68691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>
              <a:gd name="textAreaLeft" fmla="*/ 0 w 289080"/>
              <a:gd name="textAreaRight" fmla="*/ 289440 w 2890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>
              <a:gd name="textAreaLeft" fmla="*/ 0 w 295200"/>
              <a:gd name="textAreaRight" fmla="*/ 295560 w 29520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>
              <a:gd name="textAreaLeft" fmla="*/ 0 w 298440"/>
              <a:gd name="textAreaRight" fmla="*/ 298800 w 2984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12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>
              <a:gd name="textAreaLeft" fmla="*/ 0 w 298440"/>
              <a:gd name="textAreaRight" fmla="*/ 298800 w 2984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>
              <a:gd name="textAreaLeft" fmla="*/ 0 w 301680"/>
              <a:gd name="textAreaRight" fmla="*/ 302040 w 3016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>
              <a:gd name="textAreaLeft" fmla="*/ 0 w 299880"/>
              <a:gd name="textAreaRight" fmla="*/ 300240 w 29988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>
              <a:gd name="textAreaLeft" fmla="*/ 0 w 292320"/>
              <a:gd name="textAreaRight" fmla="*/ 292680 w 29232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>
              <a:gd name="textAreaLeft" fmla="*/ 0 w 289080"/>
              <a:gd name="textAreaRight" fmla="*/ 289440 w 2890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>
              <a:gd name="textAreaLeft" fmla="*/ 0 w 293760"/>
              <a:gd name="textAreaRight" fmla="*/ 294120 w 293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1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Freeform 20"/>
          <p:cNvSpPr/>
          <p:nvPr/>
        </p:nvSpPr>
        <p:spPr>
          <a:xfrm>
            <a:off x="1100160" y="5754600"/>
            <a:ext cx="504720" cy="48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1"/>
          <p:cNvSpPr/>
          <p:nvPr/>
        </p:nvSpPr>
        <p:spPr>
          <a:xfrm>
            <a:off x="127080" y="5180040"/>
            <a:ext cx="796680" cy="763560"/>
          </a:xfrm>
          <a:custGeom>
            <a:avLst/>
            <a:gdLst>
              <a:gd name="textAreaLeft" fmla="*/ 0 w 796680"/>
              <a:gd name="textAreaRight" fmla="*/ 797040 w 79668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2"/>
          <p:cNvSpPr/>
          <p:nvPr/>
        </p:nvSpPr>
        <p:spPr>
          <a:xfrm>
            <a:off x="-19080" y="5340240"/>
            <a:ext cx="2333520" cy="154476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23" descr="shine for usa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564240" y="-6480"/>
            <a:ext cx="2598840" cy="687384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24" descr="usa swirl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5857920" y="-17640"/>
            <a:ext cx="2895480" cy="688500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ftr" idx="1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Freeform 30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>
              <a:gd name="textAreaLeft" fmla="*/ 0 w 293760"/>
              <a:gd name="textAreaRight" fmla="*/ 294120 w 293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Freeform 31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>
              <a:gd name="textAreaLeft" fmla="*/ 0 w 298440"/>
              <a:gd name="textAreaRight" fmla="*/ 298800 w 2984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32"/>
          <p:cNvSpPr/>
          <p:nvPr/>
        </p:nvSpPr>
        <p:spPr>
          <a:xfrm>
            <a:off x="1781280" y="6391440"/>
            <a:ext cx="357120" cy="339480"/>
          </a:xfrm>
          <a:custGeom>
            <a:avLst/>
            <a:gdLst>
              <a:gd name="textAreaLeft" fmla="*/ 0 w 357120"/>
              <a:gd name="textAreaRight" fmla="*/ 357480 w 3571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25"/>
          <p:cNvSpPr/>
          <p:nvPr/>
        </p:nvSpPr>
        <p:spPr>
          <a:xfrm>
            <a:off x="5861160" y="-6480"/>
            <a:ext cx="3044880" cy="6869160"/>
          </a:xfrm>
          <a:custGeom>
            <a:avLst/>
            <a:gdLst>
              <a:gd name="textAreaLeft" fmla="*/ 0 w 3044880"/>
              <a:gd name="textAreaRight" fmla="*/ 3045240 w 304488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dt" idx="2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519E-581A-4C5C-9F73-36209CA7E8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2001-3A97-48BC-BF18-105DB4EEFE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65A7-D3D8-4080-8A7E-6F0C5868BA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AE8C-7A17-45AC-867B-97D6B9C29A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0150-434A-4B98-9705-F43A29AE57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1c1e"/>
              </a:gs>
              <a:gs pos="100000">
                <a:srgbClr val="7e10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3333"/>
                </a:srgbClr>
              </a:gs>
              <a:gs pos="100000">
                <a:srgbClr val="767676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7" descr="usa red shine"/>
          <p:cNvPicPr/>
          <p:nvPr/>
        </p:nvPicPr>
        <p:blipFill>
          <a:blip r:embed="rId2">
            <a:lum bright="-42000"/>
          </a:blip>
          <a:srcRect l="28292" t="0" r="30589" b="0"/>
          <a:stretch/>
        </p:blipFill>
        <p:spPr>
          <a:xfrm>
            <a:off x="5376960" y="-17640"/>
            <a:ext cx="3779640" cy="6894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163080" y="-6480"/>
            <a:ext cx="1440" cy="686916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6213600" y="-6480"/>
            <a:ext cx="2730240" cy="686916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fd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6564240" y="-6480"/>
            <a:ext cx="2598840" cy="68691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>
              <a:gd name="textAreaLeft" fmla="*/ 0 w 289080"/>
              <a:gd name="textAreaRight" fmla="*/ 289440 w 2890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>
              <a:gd name="textAreaLeft" fmla="*/ 0 w 295200"/>
              <a:gd name="textAreaRight" fmla="*/ 295560 w 29520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0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1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>
              <a:gd name="textAreaLeft" fmla="*/ 0 w 298440"/>
              <a:gd name="textAreaRight" fmla="*/ 298800 w 2984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2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>
              <a:gd name="textAreaLeft" fmla="*/ 0 w 298440"/>
              <a:gd name="textAreaRight" fmla="*/ 298800 w 2984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3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>
              <a:gd name="textAreaLeft" fmla="*/ 0 w 301680"/>
              <a:gd name="textAreaRight" fmla="*/ 302040 w 3016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4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>
              <a:gd name="textAreaLeft" fmla="*/ 0 w 299880"/>
              <a:gd name="textAreaRight" fmla="*/ 300240 w 29988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5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>
              <a:gd name="textAreaLeft" fmla="*/ 0 w 292320"/>
              <a:gd name="textAreaRight" fmla="*/ 292680 w 29232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6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>
              <a:gd name="textAreaLeft" fmla="*/ 0 w 289080"/>
              <a:gd name="textAreaRight" fmla="*/ 289440 w 2890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7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>
              <a:gd name="textAreaLeft" fmla="*/ 0 w 293760"/>
              <a:gd name="textAreaRight" fmla="*/ 294120 w 293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8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1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0"/>
          <p:cNvSpPr/>
          <p:nvPr/>
        </p:nvSpPr>
        <p:spPr>
          <a:xfrm>
            <a:off x="1100160" y="5754600"/>
            <a:ext cx="504720" cy="48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1"/>
          <p:cNvSpPr/>
          <p:nvPr/>
        </p:nvSpPr>
        <p:spPr>
          <a:xfrm>
            <a:off x="127080" y="5180040"/>
            <a:ext cx="796680" cy="763560"/>
          </a:xfrm>
          <a:custGeom>
            <a:avLst/>
            <a:gdLst>
              <a:gd name="textAreaLeft" fmla="*/ 0 w 796680"/>
              <a:gd name="textAreaRight" fmla="*/ 797040 w 79668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2"/>
          <p:cNvSpPr/>
          <p:nvPr/>
        </p:nvSpPr>
        <p:spPr>
          <a:xfrm>
            <a:off x="-19080" y="5340240"/>
            <a:ext cx="2333520" cy="154476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3" descr="shine for usa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564240" y="-6480"/>
            <a:ext cx="2598840" cy="6873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usa swirl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857920" y="-17640"/>
            <a:ext cx="2895480" cy="68850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7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>
              <a:gd name="textAreaLeft" fmla="*/ 0 w 293760"/>
              <a:gd name="textAreaRight" fmla="*/ 294120 w 293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8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>
              <a:gd name="textAreaLeft" fmla="*/ 0 w 298440"/>
              <a:gd name="textAreaRight" fmla="*/ 298800 w 2984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9"/>
          <p:cNvSpPr/>
          <p:nvPr/>
        </p:nvSpPr>
        <p:spPr>
          <a:xfrm>
            <a:off x="1781280" y="6391440"/>
            <a:ext cx="357120" cy="339480"/>
          </a:xfrm>
          <a:custGeom>
            <a:avLst/>
            <a:gdLst>
              <a:gd name="textAreaLeft" fmla="*/ 0 w 357120"/>
              <a:gd name="textAreaRight" fmla="*/ 357480 w 3571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0"/>
          <p:cNvSpPr/>
          <p:nvPr/>
        </p:nvSpPr>
        <p:spPr>
          <a:xfrm>
            <a:off x="5861160" y="-6480"/>
            <a:ext cx="3044880" cy="6869160"/>
          </a:xfrm>
          <a:custGeom>
            <a:avLst/>
            <a:gdLst>
              <a:gd name="textAreaLeft" fmla="*/ 0 w 3044880"/>
              <a:gd name="textAreaRight" fmla="*/ 3045240 w 304488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4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5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1320-7A3C-4384-9F42-E7B3486251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3A13-174A-42DE-85F1-724E2D2DDF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6969-3C15-430F-A3A6-9DA4F3E83E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2A81-F651-4729-8510-7EBA9391A8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1AA4-3EC0-4FA2-AB4A-BB6079DB38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3A86-F455-4134-B097-7C75353E55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350A-EDBA-4B7D-A4EE-BD9E5C5E14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76360" y="2133360"/>
            <a:ext cx="6950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500" spc="-1" strike="noStrike">
                <a:solidFill>
                  <a:srgbClr val="ffffff"/>
                </a:solidFill>
                <a:latin typeface="叶根友特色简体升级版"/>
                <a:ea typeface="叶根友特色简体升级版"/>
              </a:rPr>
              <a:t>个人简历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3564000" y="4365720"/>
            <a:ext cx="316872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迷你简中倩"/>
                <a:ea typeface="迷你简中倩"/>
              </a:rPr>
              <a:t>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4"/>
          <p:cNvGrpSpPr/>
          <p:nvPr/>
        </p:nvGrpSpPr>
        <p:grpSpPr>
          <a:xfrm>
            <a:off x="755640" y="-2473200"/>
            <a:ext cx="7934400" cy="3707280"/>
            <a:chOff x="755640" y="-2473200"/>
            <a:chExt cx="7934400" cy="3707280"/>
          </a:xfrm>
        </p:grpSpPr>
        <p:pic>
          <p:nvPicPr>
            <p:cNvPr id="634" name="Picture 5" descr="usa bar shadow"/>
            <p:cNvPicPr/>
            <p:nvPr/>
          </p:nvPicPr>
          <p:blipFill>
            <a:blip r:embed="rId1"/>
            <a:srcRect l="8687" t="23734" r="8117" b="61836"/>
            <a:stretch/>
          </p:blipFill>
          <p:spPr>
            <a:xfrm>
              <a:off x="1042920" y="-2473200"/>
              <a:ext cx="7647120" cy="162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5" name="Group 6"/>
            <p:cNvGrpSpPr/>
            <p:nvPr/>
          </p:nvGrpSpPr>
          <p:grpSpPr>
            <a:xfrm>
              <a:off x="755640" y="-1348560"/>
              <a:ext cx="7278840" cy="2582640"/>
              <a:chOff x="755640" y="-1348560"/>
              <a:chExt cx="7278840" cy="2582640"/>
            </a:xfrm>
          </p:grpSpPr>
          <p:sp>
            <p:nvSpPr>
              <p:cNvPr id="636" name="Freeform 7"/>
              <p:cNvSpPr/>
              <p:nvPr/>
            </p:nvSpPr>
            <p:spPr>
              <a:xfrm>
                <a:off x="755640" y="252000"/>
                <a:ext cx="7278840" cy="982080"/>
              </a:xfrm>
              <a:custGeom>
                <a:avLst/>
                <a:gdLst>
                  <a:gd name="textAreaLeft" fmla="*/ 0 w 7278840"/>
                  <a:gd name="textAreaRight" fmla="*/ 7279200 w 7278840"/>
                  <a:gd name="textAreaTop" fmla="*/ 0 h 982080"/>
                  <a:gd name="textAreaBottom" fmla="*/ 982440 h 982080"/>
                </a:gdLst>
                <a:ahLst/>
                <a:rect l="textAreaLeft" t="textAreaTop" r="textAreaRight" b="textAreaBottom"/>
                <a:pathLst>
                  <a:path w="2288" h="190">
                    <a:moveTo>
                      <a:pt x="2141" y="0"/>
                    </a:moveTo>
                    <a:cubicBezTo>
                      <a:pt x="77" y="0"/>
                      <a:pt x="77" y="0"/>
                      <a:pt x="7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137"/>
                      <a:pt x="0" y="137"/>
                      <a:pt x="0" y="137"/>
                    </a:cubicBezTo>
                    <a:cubicBezTo>
                      <a:pt x="0" y="190"/>
                      <a:pt x="0" y="190"/>
                      <a:pt x="0" y="190"/>
                    </a:cubicBezTo>
                    <a:cubicBezTo>
                      <a:pt x="2288" y="190"/>
                      <a:pt x="2288" y="190"/>
                      <a:pt x="2288" y="190"/>
                    </a:cubicBezTo>
                    <a:cubicBezTo>
                      <a:pt x="2252" y="127"/>
                      <a:pt x="2209" y="69"/>
                      <a:pt x="2160" y="20"/>
                    </a:cubicBezTo>
                    <a:cubicBezTo>
                      <a:pt x="2154" y="13"/>
                      <a:pt x="2147" y="7"/>
                      <a:pt x="214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70"/>
                  </a:gs>
                  <a:gs pos="100000">
                    <a:srgbClr val="0010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8"/>
              <p:cNvSpPr/>
              <p:nvPr/>
            </p:nvSpPr>
            <p:spPr>
              <a:xfrm>
                <a:off x="873000" y="-1348560"/>
                <a:ext cx="7037640" cy="832680"/>
              </a:xfrm>
              <a:custGeom>
                <a:avLst/>
                <a:gdLst>
                  <a:gd name="textAreaLeft" fmla="*/ 0 w 7037640"/>
                  <a:gd name="textAreaRight" fmla="*/ 7038000 w 7037640"/>
                  <a:gd name="textAreaTop" fmla="*/ 0 h 832680"/>
                  <a:gd name="textAreaBottom" fmla="*/ 833040 h 832680"/>
                </a:gdLst>
                <a:ahLst/>
                <a:rect l="textAreaLeft" t="textAreaTop" r="textAreaRight" b="textAreaBottom"/>
                <a:pathLst>
                  <a:path w="2212" h="161">
                    <a:moveTo>
                      <a:pt x="2009" y="39"/>
                    </a:moveTo>
                    <a:cubicBezTo>
                      <a:pt x="2050" y="45"/>
                      <a:pt x="2117" y="47"/>
                      <a:pt x="2212" y="93"/>
                    </a:cubicBezTo>
                    <a:cubicBezTo>
                      <a:pt x="2191" y="66"/>
                      <a:pt x="2169" y="41"/>
                      <a:pt x="2146" y="17"/>
                    </a:cubicBezTo>
                    <a:cubicBezTo>
                      <a:pt x="2141" y="12"/>
                      <a:pt x="2135" y="6"/>
                      <a:pt x="212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1"/>
                      <a:pt x="0" y="161"/>
                      <a:pt x="0" y="161"/>
                    </a:cubicBezTo>
                    <a:cubicBezTo>
                      <a:pt x="223" y="153"/>
                      <a:pt x="438" y="124"/>
                      <a:pt x="529" y="110"/>
                    </a:cubicBezTo>
                    <a:cubicBezTo>
                      <a:pt x="977" y="39"/>
                      <a:pt x="1814" y="7"/>
                      <a:pt x="2009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7254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8" name="Group 9"/>
          <p:cNvGrpSpPr/>
          <p:nvPr/>
        </p:nvGrpSpPr>
        <p:grpSpPr>
          <a:xfrm>
            <a:off x="0" y="-3240"/>
            <a:ext cx="1618920" cy="1518480"/>
            <a:chOff x="0" y="-3240"/>
            <a:chExt cx="1618920" cy="1518480"/>
          </a:xfrm>
        </p:grpSpPr>
        <p:pic>
          <p:nvPicPr>
            <p:cNvPr id="639" name="Picture 10" descr="usa star shadow"/>
            <p:cNvPicPr/>
            <p:nvPr/>
          </p:nvPicPr>
          <p:blipFill>
            <a:blip r:embed="rId2"/>
            <a:srcRect l="44856" t="43396" r="43575" b="42198"/>
            <a:stretch/>
          </p:blipFill>
          <p:spPr>
            <a:xfrm>
              <a:off x="0" y="3600"/>
              <a:ext cx="1618920" cy="151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" name="Group 11"/>
            <p:cNvGrpSpPr/>
            <p:nvPr/>
          </p:nvGrpSpPr>
          <p:grpSpPr>
            <a:xfrm>
              <a:off x="28800" y="-3240"/>
              <a:ext cx="1408320" cy="1433160"/>
              <a:chOff x="28800" y="-3240"/>
              <a:chExt cx="1408320" cy="1433160"/>
            </a:xfrm>
          </p:grpSpPr>
          <p:sp>
            <p:nvSpPr>
              <p:cNvPr id="641" name="Freeform 12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3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4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5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7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8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9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0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21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556"/>
                  </a:gs>
                  <a:gs pos="100000">
                    <a:srgbClr val="00429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22"/>
              <p:cNvSpPr/>
              <p:nvPr/>
            </p:nvSpPr>
            <p:spPr>
              <a:xfrm>
                <a:off x="333360" y="102600"/>
                <a:ext cx="1011600" cy="979560"/>
              </a:xfrm>
              <a:custGeom>
                <a:avLst/>
                <a:gdLst>
                  <a:gd name="textAreaLeft" fmla="*/ 0 w 1011600"/>
                  <a:gd name="textAreaRight" fmla="*/ 1011960 w 1011600"/>
                  <a:gd name="textAreaTop" fmla="*/ 0 h 979560"/>
                  <a:gd name="textAreaBottom" fmla="*/ 979920 h 979560"/>
                </a:gdLst>
                <a:ahLst/>
                <a:rect l="textAreaLeft" t="textAreaTop" r="textAreaRight" b="textAreaBottom"/>
                <a:pathLst>
                  <a:path w="209" h="203">
                    <a:moveTo>
                      <a:pt x="95" y="98"/>
                    </a:moveTo>
                    <a:cubicBezTo>
                      <a:pt x="117" y="136"/>
                      <a:pt x="135" y="175"/>
                      <a:pt x="172" y="203"/>
                    </a:cubicBezTo>
                    <a:cubicBezTo>
                      <a:pt x="195" y="181"/>
                      <a:pt x="209" y="151"/>
                      <a:pt x="209" y="117"/>
                    </a:cubicBezTo>
                    <a:cubicBezTo>
                      <a:pt x="209" y="52"/>
                      <a:pt x="156" y="0"/>
                      <a:pt x="91" y="0"/>
                    </a:cubicBezTo>
                    <a:cubicBezTo>
                      <a:pt x="54" y="0"/>
                      <a:pt x="21" y="17"/>
                      <a:pt x="0" y="43"/>
                    </a:cubicBezTo>
                    <a:cubicBezTo>
                      <a:pt x="38" y="51"/>
                      <a:pt x="77" y="67"/>
                      <a:pt x="95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23"/>
              <p:cNvSpPr/>
              <p:nvPr/>
            </p:nvSpPr>
            <p:spPr>
              <a:xfrm>
                <a:off x="678240" y="826920"/>
                <a:ext cx="236520" cy="2750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98" h="114">
                    <a:moveTo>
                      <a:pt x="84" y="100"/>
                    </a:moveTo>
                    <a:lnTo>
                      <a:pt x="0" y="0"/>
                    </a:lnTo>
                    <a:lnTo>
                      <a:pt x="14" y="16"/>
                    </a:lnTo>
                    <a:lnTo>
                      <a:pt x="98" y="114"/>
                    </a:lnTo>
                    <a:lnTo>
                      <a:pt x="84" y="100"/>
                    </a:lnTo>
                    <a:close/>
                  </a:path>
                </a:pathLst>
              </a:custGeom>
              <a:solidFill>
                <a:srgbClr val="006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24"/>
              <p:cNvGrpSpPr/>
              <p:nvPr/>
            </p:nvGrpSpPr>
            <p:grpSpPr>
              <a:xfrm>
                <a:off x="352440" y="247680"/>
                <a:ext cx="832320" cy="853560"/>
                <a:chOff x="352440" y="247680"/>
                <a:chExt cx="832320" cy="853560"/>
              </a:xfrm>
            </p:grpSpPr>
            <p:sp>
              <p:nvSpPr>
                <p:cNvPr id="654" name="Freeform 25"/>
                <p:cNvSpPr/>
                <p:nvPr/>
              </p:nvSpPr>
              <p:spPr>
                <a:xfrm>
                  <a:off x="833040" y="247680"/>
                  <a:ext cx="47880" cy="3474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20" h="144">
                      <a:moveTo>
                        <a:pt x="0" y="0"/>
                      </a:moveTo>
                      <a:lnTo>
                        <a:pt x="12" y="16"/>
                      </a:lnTo>
                      <a:lnTo>
                        <a:pt x="20" y="144"/>
                      </a:lnTo>
                      <a:lnTo>
                        <a:pt x="8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26"/>
                <p:cNvSpPr/>
                <p:nvPr/>
              </p:nvSpPr>
              <p:spPr>
                <a:xfrm>
                  <a:off x="386280" y="826200"/>
                  <a:ext cx="325800" cy="159120"/>
                </a:xfrm>
                <a:custGeom>
                  <a:avLst/>
                  <a:gdLst>
                    <a:gd name="textAreaLeft" fmla="*/ 0 w 325800"/>
                    <a:gd name="textAreaRight" fmla="*/ 326160 w 325800"/>
                    <a:gd name="textAreaTop" fmla="*/ 0 h 159120"/>
                    <a:gd name="textAreaBottom" fmla="*/ 159480 h 159120"/>
                  </a:gdLst>
                  <a:ahLst/>
                  <a:rect l="textAreaLeft" t="textAreaTop" r="textAreaRight" b="textAreaBottom"/>
                  <a:pathLst>
                    <a:path w="135" h="66">
                      <a:moveTo>
                        <a:pt x="121" y="0"/>
                      </a:moveTo>
                      <a:lnTo>
                        <a:pt x="135" y="16"/>
                      </a:lnTo>
                      <a:lnTo>
                        <a:pt x="14" y="66"/>
                      </a:lnTo>
                      <a:lnTo>
                        <a:pt x="0" y="5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27"/>
                <p:cNvSpPr/>
                <p:nvPr/>
              </p:nvSpPr>
              <p:spPr>
                <a:xfrm>
                  <a:off x="861480" y="633960"/>
                  <a:ext cx="323280" cy="15408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34" h="64">
                      <a:moveTo>
                        <a:pt x="120" y="0"/>
                      </a:moveTo>
                      <a:lnTo>
                        <a:pt x="134" y="14"/>
                      </a:lnTo>
                      <a:lnTo>
                        <a:pt x="14" y="64"/>
                      </a:lnTo>
                      <a:lnTo>
                        <a:pt x="0" y="48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28"/>
                <p:cNvSpPr/>
                <p:nvPr/>
              </p:nvSpPr>
              <p:spPr>
                <a:xfrm>
                  <a:off x="861480" y="749160"/>
                  <a:ext cx="52920" cy="35208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352080"/>
                    <a:gd name="textAreaBottom" fmla="*/ 352440 h 352080"/>
                  </a:gdLst>
                  <a:ahLst/>
                  <a:rect l="textAreaLeft" t="textAreaTop" r="textAreaRight" b="textAreaBottom"/>
                  <a:pathLst>
                    <a:path w="22" h="146">
                      <a:moveTo>
                        <a:pt x="0" y="0"/>
                      </a:moveTo>
                      <a:lnTo>
                        <a:pt x="14" y="16"/>
                      </a:lnTo>
                      <a:lnTo>
                        <a:pt x="22" y="146"/>
                      </a:lnTo>
                      <a:lnTo>
                        <a:pt x="8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29"/>
                <p:cNvSpPr/>
                <p:nvPr/>
              </p:nvSpPr>
              <p:spPr>
                <a:xfrm>
                  <a:off x="352440" y="247680"/>
                  <a:ext cx="799200" cy="820080"/>
                </a:xfrm>
                <a:custGeom>
                  <a:avLst/>
                  <a:gdLst>
                    <a:gd name="textAreaLeft" fmla="*/ 0 w 799200"/>
                    <a:gd name="textAreaRight" fmla="*/ 799560 w 799200"/>
                    <a:gd name="textAreaTop" fmla="*/ 0 h 820080"/>
                    <a:gd name="textAreaBottom" fmla="*/ 820440 h 820080"/>
                  </a:gdLst>
                  <a:ahLst/>
                  <a:rect l="textAreaLeft" t="textAreaTop" r="textAreaRight" b="textAreaBottom"/>
                  <a:pathLst>
                    <a:path w="331" h="340">
                      <a:moveTo>
                        <a:pt x="14" y="290"/>
                      </a:moveTo>
                      <a:lnTo>
                        <a:pt x="85" y="180"/>
                      </a:lnTo>
                      <a:lnTo>
                        <a:pt x="0" y="80"/>
                      </a:lnTo>
                      <a:lnTo>
                        <a:pt x="129" y="110"/>
                      </a:lnTo>
                      <a:lnTo>
                        <a:pt x="199" y="0"/>
                      </a:lnTo>
                      <a:lnTo>
                        <a:pt x="207" y="128"/>
                      </a:lnTo>
                      <a:lnTo>
                        <a:pt x="331" y="160"/>
                      </a:lnTo>
                      <a:lnTo>
                        <a:pt x="211" y="208"/>
                      </a:lnTo>
                      <a:lnTo>
                        <a:pt x="219" y="340"/>
                      </a:lnTo>
                      <a:lnTo>
                        <a:pt x="135" y="240"/>
                      </a:lnTo>
                      <a:lnTo>
                        <a:pt x="14" y="29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2c2c2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9" name="Freeform 30"/>
              <p:cNvSpPr/>
              <p:nvPr/>
            </p:nvSpPr>
            <p:spPr>
              <a:xfrm>
                <a:off x="333360" y="73800"/>
                <a:ext cx="862200" cy="29916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78" h="62">
                    <a:moveTo>
                      <a:pt x="171" y="54"/>
                    </a:moveTo>
                    <a:cubicBezTo>
                      <a:pt x="178" y="62"/>
                      <a:pt x="178" y="62"/>
                      <a:pt x="178" y="62"/>
                    </a:cubicBezTo>
                    <a:cubicBezTo>
                      <a:pt x="137" y="14"/>
                      <a:pt x="65" y="8"/>
                      <a:pt x="16" y="49"/>
                    </a:cubicBezTo>
                    <a:cubicBezTo>
                      <a:pt x="13" y="52"/>
                      <a:pt x="10" y="54"/>
                      <a:pt x="7" y="57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" y="47"/>
                      <a:pt x="6" y="44"/>
                      <a:pt x="9" y="41"/>
                    </a:cubicBezTo>
                    <a:cubicBezTo>
                      <a:pt x="58" y="0"/>
                      <a:pt x="131" y="6"/>
                      <a:pt x="171" y="54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1"/>
              <p:cNvSpPr/>
              <p:nvPr/>
            </p:nvSpPr>
            <p:spPr>
              <a:xfrm>
                <a:off x="275040" y="310320"/>
                <a:ext cx="91440" cy="1159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2" y="0"/>
                    </a:moveTo>
                    <a:cubicBezTo>
                      <a:pt x="19" y="8"/>
                      <a:pt x="19" y="8"/>
                      <a:pt x="19" y="8"/>
                    </a:cubicBezTo>
                    <a:cubicBezTo>
                      <a:pt x="14" y="13"/>
                      <a:pt x="10" y="18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4" y="11"/>
                      <a:pt x="8" y="5"/>
                      <a:pt x="12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"/>
              <p:cNvSpPr/>
              <p:nvPr/>
            </p:nvSpPr>
            <p:spPr>
              <a:xfrm>
                <a:off x="231480" y="387360"/>
                <a:ext cx="72720" cy="1058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9" y="0"/>
                    </a:moveTo>
                    <a:cubicBezTo>
                      <a:pt x="15" y="8"/>
                      <a:pt x="15" y="8"/>
                      <a:pt x="15" y="8"/>
                    </a:cubicBezTo>
                    <a:cubicBezTo>
                      <a:pt x="12" y="13"/>
                      <a:pt x="9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" y="10"/>
                      <a:pt x="6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3"/>
              <p:cNvSpPr/>
              <p:nvPr/>
            </p:nvSpPr>
            <p:spPr>
              <a:xfrm>
                <a:off x="202680" y="460080"/>
                <a:ext cx="62280" cy="1058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6" y="0"/>
                    </a:moveTo>
                    <a:cubicBezTo>
                      <a:pt x="13" y="7"/>
                      <a:pt x="13" y="7"/>
                      <a:pt x="13" y="7"/>
                    </a:cubicBezTo>
                    <a:cubicBezTo>
                      <a:pt x="10" y="12"/>
                      <a:pt x="8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2" y="10"/>
                      <a:pt x="4" y="5"/>
                      <a:pt x="6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4"/>
              <p:cNvSpPr/>
              <p:nvPr/>
            </p:nvSpPr>
            <p:spPr>
              <a:xfrm>
                <a:off x="183240" y="532440"/>
                <a:ext cx="52920" cy="115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1" h="24">
                    <a:moveTo>
                      <a:pt x="4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13"/>
                      <a:pt x="8" y="18"/>
                      <a:pt x="7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0"/>
                      <a:pt x="3" y="5"/>
                      <a:pt x="4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"/>
              <p:cNvSpPr/>
              <p:nvPr/>
            </p:nvSpPr>
            <p:spPr>
              <a:xfrm>
                <a:off x="178200" y="609840"/>
                <a:ext cx="38880" cy="12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8" h="27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7" y="14"/>
                      <a:pt x="6" y="20"/>
                      <a:pt x="6" y="27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3"/>
                      <a:pt x="0" y="6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6"/>
              <p:cNvSpPr/>
              <p:nvPr/>
            </p:nvSpPr>
            <p:spPr>
              <a:xfrm>
                <a:off x="178200" y="701640"/>
                <a:ext cx="48600" cy="1832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10" h="38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6" y="18"/>
                      <a:pt x="7" y="28"/>
                      <a:pt x="10" y="3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1" y="20"/>
                      <a:pt x="0" y="10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7"/>
              <p:cNvSpPr/>
              <p:nvPr/>
            </p:nvSpPr>
            <p:spPr>
              <a:xfrm>
                <a:off x="198000" y="846000"/>
                <a:ext cx="96120" cy="188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20" h="39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9" y="19"/>
                      <a:pt x="14" y="29"/>
                      <a:pt x="20" y="39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7" y="21"/>
                      <a:pt x="2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8"/>
              <p:cNvSpPr/>
              <p:nvPr/>
            </p:nvSpPr>
            <p:spPr>
              <a:xfrm>
                <a:off x="260280" y="996120"/>
                <a:ext cx="77040" cy="96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9" y="12"/>
                      <a:pt x="12" y="16"/>
                      <a:pt x="16" y="20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6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9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0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1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2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3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4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5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6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8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  <a:moveTo>
                      <a:pt x="234" y="70"/>
                    </a:moveTo>
                    <a:cubicBezTo>
                      <a:pt x="194" y="22"/>
                      <a:pt x="121" y="16"/>
                      <a:pt x="72" y="57"/>
                    </a:cubicBezTo>
                    <a:cubicBezTo>
                      <a:pt x="23" y="98"/>
                      <a:pt x="17" y="171"/>
                      <a:pt x="57" y="219"/>
                    </a:cubicBezTo>
                    <a:cubicBezTo>
                      <a:pt x="97" y="267"/>
                      <a:pt x="170" y="273"/>
                      <a:pt x="219" y="232"/>
                    </a:cubicBezTo>
                    <a:cubicBezTo>
                      <a:pt x="268" y="191"/>
                      <a:pt x="275" y="118"/>
                      <a:pt x="234" y="70"/>
                    </a:cubicBezTo>
                  </a:path>
                </a:pathLst>
              </a:custGeom>
              <a:gradFill rotWithShape="0">
                <a:gsLst>
                  <a:gs pos="0">
                    <a:srgbClr val="e01c1e"/>
                  </a:gs>
                  <a:gs pos="100000">
                    <a:srgbClr val="c0181a"/>
                  </a:gs>
                </a:gsLst>
                <a:lin ang="5400000"/>
              </a:gradFill>
              <a:ln w="3240">
                <a:solidFill>
                  <a:srgbClr val="d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0722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个人资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37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别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生日期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学校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专业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话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格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4"/>
          <p:cNvGrpSpPr/>
          <p:nvPr/>
        </p:nvGrpSpPr>
        <p:grpSpPr>
          <a:xfrm>
            <a:off x="958680" y="-2440080"/>
            <a:ext cx="7934400" cy="3707280"/>
            <a:chOff x="958680" y="-2440080"/>
            <a:chExt cx="7934400" cy="3707280"/>
          </a:xfrm>
        </p:grpSpPr>
        <p:pic>
          <p:nvPicPr>
            <p:cNvPr id="681" name="Picture 5" descr="usa bar shadow"/>
            <p:cNvPicPr/>
            <p:nvPr/>
          </p:nvPicPr>
          <p:blipFill>
            <a:blip r:embed="rId1"/>
            <a:srcRect l="8687" t="23734" r="8117" b="61836"/>
            <a:stretch/>
          </p:blipFill>
          <p:spPr>
            <a:xfrm>
              <a:off x="1245960" y="-2440080"/>
              <a:ext cx="7647120" cy="162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2" name="Group 6"/>
            <p:cNvGrpSpPr/>
            <p:nvPr/>
          </p:nvGrpSpPr>
          <p:grpSpPr>
            <a:xfrm>
              <a:off x="958680" y="-1315440"/>
              <a:ext cx="7278840" cy="2582640"/>
              <a:chOff x="958680" y="-1315440"/>
              <a:chExt cx="7278840" cy="2582640"/>
            </a:xfrm>
          </p:grpSpPr>
          <p:sp>
            <p:nvSpPr>
              <p:cNvPr id="683" name="Freeform 7"/>
              <p:cNvSpPr/>
              <p:nvPr/>
            </p:nvSpPr>
            <p:spPr>
              <a:xfrm>
                <a:off x="958680" y="285120"/>
                <a:ext cx="7278840" cy="982080"/>
              </a:xfrm>
              <a:custGeom>
                <a:avLst/>
                <a:gdLst>
                  <a:gd name="textAreaLeft" fmla="*/ 0 w 7278840"/>
                  <a:gd name="textAreaRight" fmla="*/ 7279200 w 7278840"/>
                  <a:gd name="textAreaTop" fmla="*/ 0 h 982080"/>
                  <a:gd name="textAreaBottom" fmla="*/ 982440 h 982080"/>
                </a:gdLst>
                <a:ahLst/>
                <a:rect l="textAreaLeft" t="textAreaTop" r="textAreaRight" b="textAreaBottom"/>
                <a:pathLst>
                  <a:path w="2288" h="190">
                    <a:moveTo>
                      <a:pt x="2141" y="0"/>
                    </a:moveTo>
                    <a:cubicBezTo>
                      <a:pt x="77" y="0"/>
                      <a:pt x="77" y="0"/>
                      <a:pt x="7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137"/>
                      <a:pt x="0" y="137"/>
                      <a:pt x="0" y="137"/>
                    </a:cubicBezTo>
                    <a:cubicBezTo>
                      <a:pt x="0" y="190"/>
                      <a:pt x="0" y="190"/>
                      <a:pt x="0" y="190"/>
                    </a:cubicBezTo>
                    <a:cubicBezTo>
                      <a:pt x="2288" y="190"/>
                      <a:pt x="2288" y="190"/>
                      <a:pt x="2288" y="190"/>
                    </a:cubicBezTo>
                    <a:cubicBezTo>
                      <a:pt x="2252" y="127"/>
                      <a:pt x="2209" y="69"/>
                      <a:pt x="2160" y="20"/>
                    </a:cubicBezTo>
                    <a:cubicBezTo>
                      <a:pt x="2154" y="13"/>
                      <a:pt x="2147" y="7"/>
                      <a:pt x="214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70"/>
                  </a:gs>
                  <a:gs pos="100000">
                    <a:srgbClr val="0010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8"/>
              <p:cNvSpPr/>
              <p:nvPr/>
            </p:nvSpPr>
            <p:spPr>
              <a:xfrm>
                <a:off x="1076040" y="-1315440"/>
                <a:ext cx="7037640" cy="832680"/>
              </a:xfrm>
              <a:custGeom>
                <a:avLst/>
                <a:gdLst>
                  <a:gd name="textAreaLeft" fmla="*/ 0 w 7037640"/>
                  <a:gd name="textAreaRight" fmla="*/ 7038000 w 7037640"/>
                  <a:gd name="textAreaTop" fmla="*/ 0 h 832680"/>
                  <a:gd name="textAreaBottom" fmla="*/ 833040 h 832680"/>
                </a:gdLst>
                <a:ahLst/>
                <a:rect l="textAreaLeft" t="textAreaTop" r="textAreaRight" b="textAreaBottom"/>
                <a:pathLst>
                  <a:path w="2212" h="161">
                    <a:moveTo>
                      <a:pt x="2009" y="39"/>
                    </a:moveTo>
                    <a:cubicBezTo>
                      <a:pt x="2050" y="45"/>
                      <a:pt x="2117" y="47"/>
                      <a:pt x="2212" y="93"/>
                    </a:cubicBezTo>
                    <a:cubicBezTo>
                      <a:pt x="2191" y="66"/>
                      <a:pt x="2169" y="41"/>
                      <a:pt x="2146" y="17"/>
                    </a:cubicBezTo>
                    <a:cubicBezTo>
                      <a:pt x="2141" y="12"/>
                      <a:pt x="2135" y="6"/>
                      <a:pt x="212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1"/>
                      <a:pt x="0" y="161"/>
                      <a:pt x="0" y="161"/>
                    </a:cubicBezTo>
                    <a:cubicBezTo>
                      <a:pt x="223" y="153"/>
                      <a:pt x="438" y="124"/>
                      <a:pt x="529" y="110"/>
                    </a:cubicBezTo>
                    <a:cubicBezTo>
                      <a:pt x="977" y="39"/>
                      <a:pt x="1814" y="7"/>
                      <a:pt x="2009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7254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9"/>
          <p:cNvGrpSpPr/>
          <p:nvPr/>
        </p:nvGrpSpPr>
        <p:grpSpPr>
          <a:xfrm>
            <a:off x="0" y="-3240"/>
            <a:ext cx="1618920" cy="1518480"/>
            <a:chOff x="0" y="-3240"/>
            <a:chExt cx="1618920" cy="1518480"/>
          </a:xfrm>
        </p:grpSpPr>
        <p:pic>
          <p:nvPicPr>
            <p:cNvPr id="686" name="Picture 10" descr="usa star shadow"/>
            <p:cNvPicPr/>
            <p:nvPr/>
          </p:nvPicPr>
          <p:blipFill>
            <a:blip r:embed="rId2"/>
            <a:srcRect l="44856" t="43396" r="43575" b="42198"/>
            <a:stretch/>
          </p:blipFill>
          <p:spPr>
            <a:xfrm>
              <a:off x="0" y="3600"/>
              <a:ext cx="1618920" cy="151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7" name="Group 11"/>
            <p:cNvGrpSpPr/>
            <p:nvPr/>
          </p:nvGrpSpPr>
          <p:grpSpPr>
            <a:xfrm>
              <a:off x="28800" y="-3240"/>
              <a:ext cx="1408320" cy="1433160"/>
              <a:chOff x="28800" y="-3240"/>
              <a:chExt cx="1408320" cy="1433160"/>
            </a:xfrm>
          </p:grpSpPr>
          <p:sp>
            <p:nvSpPr>
              <p:cNvPr id="688" name="Freeform 12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3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4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5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6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7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8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9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20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21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556"/>
                  </a:gs>
                  <a:gs pos="100000">
                    <a:srgbClr val="00429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22"/>
              <p:cNvSpPr/>
              <p:nvPr/>
            </p:nvSpPr>
            <p:spPr>
              <a:xfrm>
                <a:off x="333360" y="102600"/>
                <a:ext cx="1011600" cy="979560"/>
              </a:xfrm>
              <a:custGeom>
                <a:avLst/>
                <a:gdLst>
                  <a:gd name="textAreaLeft" fmla="*/ 0 w 1011600"/>
                  <a:gd name="textAreaRight" fmla="*/ 1011960 w 1011600"/>
                  <a:gd name="textAreaTop" fmla="*/ 0 h 979560"/>
                  <a:gd name="textAreaBottom" fmla="*/ 979920 h 979560"/>
                </a:gdLst>
                <a:ahLst/>
                <a:rect l="textAreaLeft" t="textAreaTop" r="textAreaRight" b="textAreaBottom"/>
                <a:pathLst>
                  <a:path w="209" h="203">
                    <a:moveTo>
                      <a:pt x="95" y="98"/>
                    </a:moveTo>
                    <a:cubicBezTo>
                      <a:pt x="117" y="136"/>
                      <a:pt x="135" y="175"/>
                      <a:pt x="172" y="203"/>
                    </a:cubicBezTo>
                    <a:cubicBezTo>
                      <a:pt x="195" y="181"/>
                      <a:pt x="209" y="151"/>
                      <a:pt x="209" y="117"/>
                    </a:cubicBezTo>
                    <a:cubicBezTo>
                      <a:pt x="209" y="52"/>
                      <a:pt x="156" y="0"/>
                      <a:pt x="91" y="0"/>
                    </a:cubicBezTo>
                    <a:cubicBezTo>
                      <a:pt x="54" y="0"/>
                      <a:pt x="21" y="17"/>
                      <a:pt x="0" y="43"/>
                    </a:cubicBezTo>
                    <a:cubicBezTo>
                      <a:pt x="38" y="51"/>
                      <a:pt x="77" y="67"/>
                      <a:pt x="95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23"/>
              <p:cNvSpPr/>
              <p:nvPr/>
            </p:nvSpPr>
            <p:spPr>
              <a:xfrm>
                <a:off x="678240" y="826920"/>
                <a:ext cx="236520" cy="2750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98" h="114">
                    <a:moveTo>
                      <a:pt x="84" y="100"/>
                    </a:moveTo>
                    <a:lnTo>
                      <a:pt x="0" y="0"/>
                    </a:lnTo>
                    <a:lnTo>
                      <a:pt x="14" y="16"/>
                    </a:lnTo>
                    <a:lnTo>
                      <a:pt x="98" y="114"/>
                    </a:lnTo>
                    <a:lnTo>
                      <a:pt x="84" y="100"/>
                    </a:lnTo>
                    <a:close/>
                  </a:path>
                </a:pathLst>
              </a:custGeom>
              <a:solidFill>
                <a:srgbClr val="006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24"/>
              <p:cNvGrpSpPr/>
              <p:nvPr/>
            </p:nvGrpSpPr>
            <p:grpSpPr>
              <a:xfrm>
                <a:off x="352440" y="247680"/>
                <a:ext cx="832320" cy="853560"/>
                <a:chOff x="352440" y="247680"/>
                <a:chExt cx="832320" cy="853560"/>
              </a:xfrm>
            </p:grpSpPr>
            <p:sp>
              <p:nvSpPr>
                <p:cNvPr id="701" name="Freeform 25"/>
                <p:cNvSpPr/>
                <p:nvPr/>
              </p:nvSpPr>
              <p:spPr>
                <a:xfrm>
                  <a:off x="833040" y="247680"/>
                  <a:ext cx="47880" cy="3474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20" h="144">
                      <a:moveTo>
                        <a:pt x="0" y="0"/>
                      </a:moveTo>
                      <a:lnTo>
                        <a:pt x="12" y="16"/>
                      </a:lnTo>
                      <a:lnTo>
                        <a:pt x="20" y="144"/>
                      </a:lnTo>
                      <a:lnTo>
                        <a:pt x="8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26"/>
                <p:cNvSpPr/>
                <p:nvPr/>
              </p:nvSpPr>
              <p:spPr>
                <a:xfrm>
                  <a:off x="386280" y="826200"/>
                  <a:ext cx="325800" cy="159120"/>
                </a:xfrm>
                <a:custGeom>
                  <a:avLst/>
                  <a:gdLst>
                    <a:gd name="textAreaLeft" fmla="*/ 0 w 325800"/>
                    <a:gd name="textAreaRight" fmla="*/ 326160 w 325800"/>
                    <a:gd name="textAreaTop" fmla="*/ 0 h 159120"/>
                    <a:gd name="textAreaBottom" fmla="*/ 159480 h 159120"/>
                  </a:gdLst>
                  <a:ahLst/>
                  <a:rect l="textAreaLeft" t="textAreaTop" r="textAreaRight" b="textAreaBottom"/>
                  <a:pathLst>
                    <a:path w="135" h="66">
                      <a:moveTo>
                        <a:pt x="121" y="0"/>
                      </a:moveTo>
                      <a:lnTo>
                        <a:pt x="135" y="16"/>
                      </a:lnTo>
                      <a:lnTo>
                        <a:pt x="14" y="66"/>
                      </a:lnTo>
                      <a:lnTo>
                        <a:pt x="0" y="5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27"/>
                <p:cNvSpPr/>
                <p:nvPr/>
              </p:nvSpPr>
              <p:spPr>
                <a:xfrm>
                  <a:off x="861480" y="633960"/>
                  <a:ext cx="323280" cy="15408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34" h="64">
                      <a:moveTo>
                        <a:pt x="120" y="0"/>
                      </a:moveTo>
                      <a:lnTo>
                        <a:pt x="134" y="14"/>
                      </a:lnTo>
                      <a:lnTo>
                        <a:pt x="14" y="64"/>
                      </a:lnTo>
                      <a:lnTo>
                        <a:pt x="0" y="48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28"/>
                <p:cNvSpPr/>
                <p:nvPr/>
              </p:nvSpPr>
              <p:spPr>
                <a:xfrm>
                  <a:off x="861480" y="749160"/>
                  <a:ext cx="52920" cy="35208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352080"/>
                    <a:gd name="textAreaBottom" fmla="*/ 352440 h 352080"/>
                  </a:gdLst>
                  <a:ahLst/>
                  <a:rect l="textAreaLeft" t="textAreaTop" r="textAreaRight" b="textAreaBottom"/>
                  <a:pathLst>
                    <a:path w="22" h="146">
                      <a:moveTo>
                        <a:pt x="0" y="0"/>
                      </a:moveTo>
                      <a:lnTo>
                        <a:pt x="14" y="16"/>
                      </a:lnTo>
                      <a:lnTo>
                        <a:pt x="22" y="146"/>
                      </a:lnTo>
                      <a:lnTo>
                        <a:pt x="8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29"/>
                <p:cNvSpPr/>
                <p:nvPr/>
              </p:nvSpPr>
              <p:spPr>
                <a:xfrm>
                  <a:off x="352440" y="247680"/>
                  <a:ext cx="799200" cy="820080"/>
                </a:xfrm>
                <a:custGeom>
                  <a:avLst/>
                  <a:gdLst>
                    <a:gd name="textAreaLeft" fmla="*/ 0 w 799200"/>
                    <a:gd name="textAreaRight" fmla="*/ 799560 w 799200"/>
                    <a:gd name="textAreaTop" fmla="*/ 0 h 820080"/>
                    <a:gd name="textAreaBottom" fmla="*/ 820440 h 820080"/>
                  </a:gdLst>
                  <a:ahLst/>
                  <a:rect l="textAreaLeft" t="textAreaTop" r="textAreaRight" b="textAreaBottom"/>
                  <a:pathLst>
                    <a:path w="331" h="340">
                      <a:moveTo>
                        <a:pt x="14" y="290"/>
                      </a:moveTo>
                      <a:lnTo>
                        <a:pt x="85" y="180"/>
                      </a:lnTo>
                      <a:lnTo>
                        <a:pt x="0" y="80"/>
                      </a:lnTo>
                      <a:lnTo>
                        <a:pt x="129" y="110"/>
                      </a:lnTo>
                      <a:lnTo>
                        <a:pt x="199" y="0"/>
                      </a:lnTo>
                      <a:lnTo>
                        <a:pt x="207" y="128"/>
                      </a:lnTo>
                      <a:lnTo>
                        <a:pt x="331" y="160"/>
                      </a:lnTo>
                      <a:lnTo>
                        <a:pt x="211" y="208"/>
                      </a:lnTo>
                      <a:lnTo>
                        <a:pt x="219" y="340"/>
                      </a:lnTo>
                      <a:lnTo>
                        <a:pt x="135" y="240"/>
                      </a:lnTo>
                      <a:lnTo>
                        <a:pt x="14" y="29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2c2c2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6" name="Freeform 30"/>
              <p:cNvSpPr/>
              <p:nvPr/>
            </p:nvSpPr>
            <p:spPr>
              <a:xfrm>
                <a:off x="333360" y="73800"/>
                <a:ext cx="862200" cy="29916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78" h="62">
                    <a:moveTo>
                      <a:pt x="171" y="54"/>
                    </a:moveTo>
                    <a:cubicBezTo>
                      <a:pt x="178" y="62"/>
                      <a:pt x="178" y="62"/>
                      <a:pt x="178" y="62"/>
                    </a:cubicBezTo>
                    <a:cubicBezTo>
                      <a:pt x="137" y="14"/>
                      <a:pt x="65" y="8"/>
                      <a:pt x="16" y="49"/>
                    </a:cubicBezTo>
                    <a:cubicBezTo>
                      <a:pt x="13" y="52"/>
                      <a:pt x="10" y="54"/>
                      <a:pt x="7" y="57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" y="47"/>
                      <a:pt x="6" y="44"/>
                      <a:pt x="9" y="41"/>
                    </a:cubicBezTo>
                    <a:cubicBezTo>
                      <a:pt x="58" y="0"/>
                      <a:pt x="131" y="6"/>
                      <a:pt x="171" y="54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1"/>
              <p:cNvSpPr/>
              <p:nvPr/>
            </p:nvSpPr>
            <p:spPr>
              <a:xfrm>
                <a:off x="275040" y="310320"/>
                <a:ext cx="91440" cy="1159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2" y="0"/>
                    </a:moveTo>
                    <a:cubicBezTo>
                      <a:pt x="19" y="8"/>
                      <a:pt x="19" y="8"/>
                      <a:pt x="19" y="8"/>
                    </a:cubicBezTo>
                    <a:cubicBezTo>
                      <a:pt x="14" y="13"/>
                      <a:pt x="10" y="18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4" y="11"/>
                      <a:pt x="8" y="5"/>
                      <a:pt x="12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2"/>
              <p:cNvSpPr/>
              <p:nvPr/>
            </p:nvSpPr>
            <p:spPr>
              <a:xfrm>
                <a:off x="231480" y="387360"/>
                <a:ext cx="72720" cy="1058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9" y="0"/>
                    </a:moveTo>
                    <a:cubicBezTo>
                      <a:pt x="15" y="8"/>
                      <a:pt x="15" y="8"/>
                      <a:pt x="15" y="8"/>
                    </a:cubicBezTo>
                    <a:cubicBezTo>
                      <a:pt x="12" y="13"/>
                      <a:pt x="9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" y="10"/>
                      <a:pt x="6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3"/>
              <p:cNvSpPr/>
              <p:nvPr/>
            </p:nvSpPr>
            <p:spPr>
              <a:xfrm>
                <a:off x="202680" y="460080"/>
                <a:ext cx="62280" cy="1058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6" y="0"/>
                    </a:moveTo>
                    <a:cubicBezTo>
                      <a:pt x="13" y="7"/>
                      <a:pt x="13" y="7"/>
                      <a:pt x="13" y="7"/>
                    </a:cubicBezTo>
                    <a:cubicBezTo>
                      <a:pt x="10" y="12"/>
                      <a:pt x="8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2" y="10"/>
                      <a:pt x="4" y="5"/>
                      <a:pt x="6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4"/>
              <p:cNvSpPr/>
              <p:nvPr/>
            </p:nvSpPr>
            <p:spPr>
              <a:xfrm>
                <a:off x="183240" y="532440"/>
                <a:ext cx="52920" cy="115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1" h="24">
                    <a:moveTo>
                      <a:pt x="4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13"/>
                      <a:pt x="8" y="18"/>
                      <a:pt x="7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0"/>
                      <a:pt x="3" y="5"/>
                      <a:pt x="4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5"/>
              <p:cNvSpPr/>
              <p:nvPr/>
            </p:nvSpPr>
            <p:spPr>
              <a:xfrm>
                <a:off x="178200" y="609840"/>
                <a:ext cx="38880" cy="12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8" h="27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7" y="14"/>
                      <a:pt x="6" y="20"/>
                      <a:pt x="6" y="27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3"/>
                      <a:pt x="0" y="6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6"/>
              <p:cNvSpPr/>
              <p:nvPr/>
            </p:nvSpPr>
            <p:spPr>
              <a:xfrm>
                <a:off x="178200" y="701640"/>
                <a:ext cx="48600" cy="1832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10" h="38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6" y="18"/>
                      <a:pt x="7" y="28"/>
                      <a:pt x="10" y="3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1" y="20"/>
                      <a:pt x="0" y="10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"/>
              <p:cNvSpPr/>
              <p:nvPr/>
            </p:nvSpPr>
            <p:spPr>
              <a:xfrm>
                <a:off x="198000" y="846000"/>
                <a:ext cx="96120" cy="188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20" h="39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9" y="19"/>
                      <a:pt x="14" y="29"/>
                      <a:pt x="20" y="39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7" y="21"/>
                      <a:pt x="2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8"/>
              <p:cNvSpPr/>
              <p:nvPr/>
            </p:nvSpPr>
            <p:spPr>
              <a:xfrm>
                <a:off x="260280" y="996120"/>
                <a:ext cx="77040" cy="96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9" y="12"/>
                      <a:pt x="12" y="16"/>
                      <a:pt x="16" y="20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6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9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40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41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42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43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44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45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46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47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8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  <a:moveTo>
                      <a:pt x="234" y="70"/>
                    </a:moveTo>
                    <a:cubicBezTo>
                      <a:pt x="194" y="22"/>
                      <a:pt x="121" y="16"/>
                      <a:pt x="72" y="57"/>
                    </a:cubicBezTo>
                    <a:cubicBezTo>
                      <a:pt x="23" y="98"/>
                      <a:pt x="17" y="171"/>
                      <a:pt x="57" y="219"/>
                    </a:cubicBezTo>
                    <a:cubicBezTo>
                      <a:pt x="97" y="267"/>
                      <a:pt x="170" y="273"/>
                      <a:pt x="219" y="232"/>
                    </a:cubicBezTo>
                    <a:cubicBezTo>
                      <a:pt x="268" y="191"/>
                      <a:pt x="275" y="118"/>
                      <a:pt x="234" y="70"/>
                    </a:cubicBezTo>
                  </a:path>
                </a:pathLst>
              </a:custGeom>
              <a:gradFill rotWithShape="0">
                <a:gsLst>
                  <a:gs pos="0">
                    <a:srgbClr val="e01c1e"/>
                  </a:gs>
                  <a:gs pos="100000">
                    <a:srgbClr val="c0181a"/>
                  </a:gs>
                </a:gsLst>
                <a:lin ang="5400000"/>
              </a:gradFill>
              <a:ln w="3240">
                <a:solidFill>
                  <a:srgbClr val="d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4895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个人经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337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入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参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参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参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4"/>
          <p:cNvGrpSpPr/>
          <p:nvPr/>
        </p:nvGrpSpPr>
        <p:grpSpPr>
          <a:xfrm>
            <a:off x="755640" y="-2473200"/>
            <a:ext cx="7934400" cy="3707280"/>
            <a:chOff x="755640" y="-2473200"/>
            <a:chExt cx="7934400" cy="3707280"/>
          </a:xfrm>
        </p:grpSpPr>
        <p:pic>
          <p:nvPicPr>
            <p:cNvPr id="728" name="Picture 5" descr="usa bar shadow"/>
            <p:cNvPicPr/>
            <p:nvPr/>
          </p:nvPicPr>
          <p:blipFill>
            <a:blip r:embed="rId1"/>
            <a:srcRect l="8687" t="23734" r="8117" b="61836"/>
            <a:stretch/>
          </p:blipFill>
          <p:spPr>
            <a:xfrm>
              <a:off x="1042920" y="-2473200"/>
              <a:ext cx="7647120" cy="162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9" name="Group 6"/>
            <p:cNvGrpSpPr/>
            <p:nvPr/>
          </p:nvGrpSpPr>
          <p:grpSpPr>
            <a:xfrm>
              <a:off x="755640" y="-1348560"/>
              <a:ext cx="7278840" cy="2582640"/>
              <a:chOff x="755640" y="-1348560"/>
              <a:chExt cx="7278840" cy="2582640"/>
            </a:xfrm>
          </p:grpSpPr>
          <p:sp>
            <p:nvSpPr>
              <p:cNvPr id="730" name="Freeform 7"/>
              <p:cNvSpPr/>
              <p:nvPr/>
            </p:nvSpPr>
            <p:spPr>
              <a:xfrm>
                <a:off x="755640" y="252000"/>
                <a:ext cx="7278840" cy="982080"/>
              </a:xfrm>
              <a:custGeom>
                <a:avLst/>
                <a:gdLst>
                  <a:gd name="textAreaLeft" fmla="*/ 0 w 7278840"/>
                  <a:gd name="textAreaRight" fmla="*/ 7279200 w 7278840"/>
                  <a:gd name="textAreaTop" fmla="*/ 0 h 982080"/>
                  <a:gd name="textAreaBottom" fmla="*/ 982440 h 982080"/>
                </a:gdLst>
                <a:ahLst/>
                <a:rect l="textAreaLeft" t="textAreaTop" r="textAreaRight" b="textAreaBottom"/>
                <a:pathLst>
                  <a:path w="2288" h="190">
                    <a:moveTo>
                      <a:pt x="2141" y="0"/>
                    </a:moveTo>
                    <a:cubicBezTo>
                      <a:pt x="77" y="0"/>
                      <a:pt x="77" y="0"/>
                      <a:pt x="7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137"/>
                      <a:pt x="0" y="137"/>
                      <a:pt x="0" y="137"/>
                    </a:cubicBezTo>
                    <a:cubicBezTo>
                      <a:pt x="0" y="190"/>
                      <a:pt x="0" y="190"/>
                      <a:pt x="0" y="190"/>
                    </a:cubicBezTo>
                    <a:cubicBezTo>
                      <a:pt x="2288" y="190"/>
                      <a:pt x="2288" y="190"/>
                      <a:pt x="2288" y="190"/>
                    </a:cubicBezTo>
                    <a:cubicBezTo>
                      <a:pt x="2252" y="127"/>
                      <a:pt x="2209" y="69"/>
                      <a:pt x="2160" y="20"/>
                    </a:cubicBezTo>
                    <a:cubicBezTo>
                      <a:pt x="2154" y="13"/>
                      <a:pt x="2147" y="7"/>
                      <a:pt x="214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70"/>
                  </a:gs>
                  <a:gs pos="100000">
                    <a:srgbClr val="0010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8"/>
              <p:cNvSpPr/>
              <p:nvPr/>
            </p:nvSpPr>
            <p:spPr>
              <a:xfrm>
                <a:off x="873000" y="-1348560"/>
                <a:ext cx="7037640" cy="832680"/>
              </a:xfrm>
              <a:custGeom>
                <a:avLst/>
                <a:gdLst>
                  <a:gd name="textAreaLeft" fmla="*/ 0 w 7037640"/>
                  <a:gd name="textAreaRight" fmla="*/ 7038000 w 7037640"/>
                  <a:gd name="textAreaTop" fmla="*/ 0 h 832680"/>
                  <a:gd name="textAreaBottom" fmla="*/ 833040 h 832680"/>
                </a:gdLst>
                <a:ahLst/>
                <a:rect l="textAreaLeft" t="textAreaTop" r="textAreaRight" b="textAreaBottom"/>
                <a:pathLst>
                  <a:path w="2212" h="161">
                    <a:moveTo>
                      <a:pt x="2009" y="39"/>
                    </a:moveTo>
                    <a:cubicBezTo>
                      <a:pt x="2050" y="45"/>
                      <a:pt x="2117" y="47"/>
                      <a:pt x="2212" y="93"/>
                    </a:cubicBezTo>
                    <a:cubicBezTo>
                      <a:pt x="2191" y="66"/>
                      <a:pt x="2169" y="41"/>
                      <a:pt x="2146" y="17"/>
                    </a:cubicBezTo>
                    <a:cubicBezTo>
                      <a:pt x="2141" y="12"/>
                      <a:pt x="2135" y="6"/>
                      <a:pt x="212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1"/>
                      <a:pt x="0" y="161"/>
                      <a:pt x="0" y="161"/>
                    </a:cubicBezTo>
                    <a:cubicBezTo>
                      <a:pt x="223" y="153"/>
                      <a:pt x="438" y="124"/>
                      <a:pt x="529" y="110"/>
                    </a:cubicBezTo>
                    <a:cubicBezTo>
                      <a:pt x="977" y="39"/>
                      <a:pt x="1814" y="7"/>
                      <a:pt x="2009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7254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Group 9"/>
          <p:cNvGrpSpPr/>
          <p:nvPr/>
        </p:nvGrpSpPr>
        <p:grpSpPr>
          <a:xfrm>
            <a:off x="0" y="-3240"/>
            <a:ext cx="1618920" cy="1518480"/>
            <a:chOff x="0" y="-3240"/>
            <a:chExt cx="1618920" cy="1518480"/>
          </a:xfrm>
        </p:grpSpPr>
        <p:pic>
          <p:nvPicPr>
            <p:cNvPr id="733" name="Picture 10" descr="usa star shadow"/>
            <p:cNvPicPr/>
            <p:nvPr/>
          </p:nvPicPr>
          <p:blipFill>
            <a:blip r:embed="rId2"/>
            <a:srcRect l="44856" t="43396" r="43575" b="42198"/>
            <a:stretch/>
          </p:blipFill>
          <p:spPr>
            <a:xfrm>
              <a:off x="0" y="3600"/>
              <a:ext cx="1618920" cy="151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4" name="Group 11"/>
            <p:cNvGrpSpPr/>
            <p:nvPr/>
          </p:nvGrpSpPr>
          <p:grpSpPr>
            <a:xfrm>
              <a:off x="28800" y="-3240"/>
              <a:ext cx="1408320" cy="1433160"/>
              <a:chOff x="28800" y="-3240"/>
              <a:chExt cx="1408320" cy="1433160"/>
            </a:xfrm>
          </p:grpSpPr>
          <p:sp>
            <p:nvSpPr>
              <p:cNvPr id="735" name="Freeform 12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3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4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5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7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8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9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20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21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556"/>
                  </a:gs>
                  <a:gs pos="100000">
                    <a:srgbClr val="00429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22"/>
              <p:cNvSpPr/>
              <p:nvPr/>
            </p:nvSpPr>
            <p:spPr>
              <a:xfrm>
                <a:off x="333360" y="102600"/>
                <a:ext cx="1011600" cy="979560"/>
              </a:xfrm>
              <a:custGeom>
                <a:avLst/>
                <a:gdLst>
                  <a:gd name="textAreaLeft" fmla="*/ 0 w 1011600"/>
                  <a:gd name="textAreaRight" fmla="*/ 1011960 w 1011600"/>
                  <a:gd name="textAreaTop" fmla="*/ 0 h 979560"/>
                  <a:gd name="textAreaBottom" fmla="*/ 979920 h 979560"/>
                </a:gdLst>
                <a:ahLst/>
                <a:rect l="textAreaLeft" t="textAreaTop" r="textAreaRight" b="textAreaBottom"/>
                <a:pathLst>
                  <a:path w="209" h="203">
                    <a:moveTo>
                      <a:pt x="95" y="98"/>
                    </a:moveTo>
                    <a:cubicBezTo>
                      <a:pt x="117" y="136"/>
                      <a:pt x="135" y="175"/>
                      <a:pt x="172" y="203"/>
                    </a:cubicBezTo>
                    <a:cubicBezTo>
                      <a:pt x="195" y="181"/>
                      <a:pt x="209" y="151"/>
                      <a:pt x="209" y="117"/>
                    </a:cubicBezTo>
                    <a:cubicBezTo>
                      <a:pt x="209" y="52"/>
                      <a:pt x="156" y="0"/>
                      <a:pt x="91" y="0"/>
                    </a:cubicBezTo>
                    <a:cubicBezTo>
                      <a:pt x="54" y="0"/>
                      <a:pt x="21" y="17"/>
                      <a:pt x="0" y="43"/>
                    </a:cubicBezTo>
                    <a:cubicBezTo>
                      <a:pt x="38" y="51"/>
                      <a:pt x="77" y="67"/>
                      <a:pt x="95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67676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23"/>
              <p:cNvSpPr/>
              <p:nvPr/>
            </p:nvSpPr>
            <p:spPr>
              <a:xfrm>
                <a:off x="678240" y="826920"/>
                <a:ext cx="236520" cy="2750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98" h="114">
                    <a:moveTo>
                      <a:pt x="84" y="100"/>
                    </a:moveTo>
                    <a:lnTo>
                      <a:pt x="0" y="0"/>
                    </a:lnTo>
                    <a:lnTo>
                      <a:pt x="14" y="16"/>
                    </a:lnTo>
                    <a:lnTo>
                      <a:pt x="98" y="114"/>
                    </a:lnTo>
                    <a:lnTo>
                      <a:pt x="84" y="100"/>
                    </a:lnTo>
                    <a:close/>
                  </a:path>
                </a:pathLst>
              </a:custGeom>
              <a:solidFill>
                <a:srgbClr val="006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7" name="Group 24"/>
              <p:cNvGrpSpPr/>
              <p:nvPr/>
            </p:nvGrpSpPr>
            <p:grpSpPr>
              <a:xfrm>
                <a:off x="352440" y="247680"/>
                <a:ext cx="832320" cy="853560"/>
                <a:chOff x="352440" y="247680"/>
                <a:chExt cx="832320" cy="853560"/>
              </a:xfrm>
            </p:grpSpPr>
            <p:sp>
              <p:nvSpPr>
                <p:cNvPr id="748" name="Freeform 25"/>
                <p:cNvSpPr/>
                <p:nvPr/>
              </p:nvSpPr>
              <p:spPr>
                <a:xfrm>
                  <a:off x="833040" y="247680"/>
                  <a:ext cx="47880" cy="3474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20" h="144">
                      <a:moveTo>
                        <a:pt x="0" y="0"/>
                      </a:moveTo>
                      <a:lnTo>
                        <a:pt x="12" y="16"/>
                      </a:lnTo>
                      <a:lnTo>
                        <a:pt x="20" y="144"/>
                      </a:lnTo>
                      <a:lnTo>
                        <a:pt x="8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26"/>
                <p:cNvSpPr/>
                <p:nvPr/>
              </p:nvSpPr>
              <p:spPr>
                <a:xfrm>
                  <a:off x="386280" y="826200"/>
                  <a:ext cx="325800" cy="159120"/>
                </a:xfrm>
                <a:custGeom>
                  <a:avLst/>
                  <a:gdLst>
                    <a:gd name="textAreaLeft" fmla="*/ 0 w 325800"/>
                    <a:gd name="textAreaRight" fmla="*/ 326160 w 325800"/>
                    <a:gd name="textAreaTop" fmla="*/ 0 h 159120"/>
                    <a:gd name="textAreaBottom" fmla="*/ 159480 h 159120"/>
                  </a:gdLst>
                  <a:ahLst/>
                  <a:rect l="textAreaLeft" t="textAreaTop" r="textAreaRight" b="textAreaBottom"/>
                  <a:pathLst>
                    <a:path w="135" h="66">
                      <a:moveTo>
                        <a:pt x="121" y="0"/>
                      </a:moveTo>
                      <a:lnTo>
                        <a:pt x="135" y="16"/>
                      </a:lnTo>
                      <a:lnTo>
                        <a:pt x="14" y="66"/>
                      </a:lnTo>
                      <a:lnTo>
                        <a:pt x="0" y="5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27"/>
                <p:cNvSpPr/>
                <p:nvPr/>
              </p:nvSpPr>
              <p:spPr>
                <a:xfrm>
                  <a:off x="861480" y="633960"/>
                  <a:ext cx="323280" cy="15408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34" h="64">
                      <a:moveTo>
                        <a:pt x="120" y="0"/>
                      </a:moveTo>
                      <a:lnTo>
                        <a:pt x="134" y="14"/>
                      </a:lnTo>
                      <a:lnTo>
                        <a:pt x="14" y="64"/>
                      </a:lnTo>
                      <a:lnTo>
                        <a:pt x="0" y="48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28"/>
                <p:cNvSpPr/>
                <p:nvPr/>
              </p:nvSpPr>
              <p:spPr>
                <a:xfrm>
                  <a:off x="861480" y="749160"/>
                  <a:ext cx="52920" cy="35208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352080"/>
                    <a:gd name="textAreaBottom" fmla="*/ 352440 h 352080"/>
                  </a:gdLst>
                  <a:ahLst/>
                  <a:rect l="textAreaLeft" t="textAreaTop" r="textAreaRight" b="textAreaBottom"/>
                  <a:pathLst>
                    <a:path w="22" h="146">
                      <a:moveTo>
                        <a:pt x="0" y="0"/>
                      </a:moveTo>
                      <a:lnTo>
                        <a:pt x="14" y="16"/>
                      </a:lnTo>
                      <a:lnTo>
                        <a:pt x="22" y="146"/>
                      </a:lnTo>
                      <a:lnTo>
                        <a:pt x="8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29"/>
                <p:cNvSpPr/>
                <p:nvPr/>
              </p:nvSpPr>
              <p:spPr>
                <a:xfrm>
                  <a:off x="352440" y="247680"/>
                  <a:ext cx="799200" cy="820080"/>
                </a:xfrm>
                <a:custGeom>
                  <a:avLst/>
                  <a:gdLst>
                    <a:gd name="textAreaLeft" fmla="*/ 0 w 799200"/>
                    <a:gd name="textAreaRight" fmla="*/ 799560 w 799200"/>
                    <a:gd name="textAreaTop" fmla="*/ 0 h 820080"/>
                    <a:gd name="textAreaBottom" fmla="*/ 820440 h 820080"/>
                  </a:gdLst>
                  <a:ahLst/>
                  <a:rect l="textAreaLeft" t="textAreaTop" r="textAreaRight" b="textAreaBottom"/>
                  <a:pathLst>
                    <a:path w="331" h="340">
                      <a:moveTo>
                        <a:pt x="14" y="290"/>
                      </a:moveTo>
                      <a:lnTo>
                        <a:pt x="85" y="180"/>
                      </a:lnTo>
                      <a:lnTo>
                        <a:pt x="0" y="80"/>
                      </a:lnTo>
                      <a:lnTo>
                        <a:pt x="129" y="110"/>
                      </a:lnTo>
                      <a:lnTo>
                        <a:pt x="199" y="0"/>
                      </a:lnTo>
                      <a:lnTo>
                        <a:pt x="207" y="128"/>
                      </a:lnTo>
                      <a:lnTo>
                        <a:pt x="331" y="160"/>
                      </a:lnTo>
                      <a:lnTo>
                        <a:pt x="211" y="208"/>
                      </a:lnTo>
                      <a:lnTo>
                        <a:pt x="219" y="340"/>
                      </a:lnTo>
                      <a:lnTo>
                        <a:pt x="135" y="240"/>
                      </a:lnTo>
                      <a:lnTo>
                        <a:pt x="14" y="29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2c2c2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Freeform 30"/>
              <p:cNvSpPr/>
              <p:nvPr/>
            </p:nvSpPr>
            <p:spPr>
              <a:xfrm>
                <a:off x="333360" y="73800"/>
                <a:ext cx="862200" cy="29916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78" h="62">
                    <a:moveTo>
                      <a:pt x="171" y="54"/>
                    </a:moveTo>
                    <a:cubicBezTo>
                      <a:pt x="178" y="62"/>
                      <a:pt x="178" y="62"/>
                      <a:pt x="178" y="62"/>
                    </a:cubicBezTo>
                    <a:cubicBezTo>
                      <a:pt x="137" y="14"/>
                      <a:pt x="65" y="8"/>
                      <a:pt x="16" y="49"/>
                    </a:cubicBezTo>
                    <a:cubicBezTo>
                      <a:pt x="13" y="52"/>
                      <a:pt x="10" y="54"/>
                      <a:pt x="7" y="57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" y="47"/>
                      <a:pt x="6" y="44"/>
                      <a:pt x="9" y="41"/>
                    </a:cubicBezTo>
                    <a:cubicBezTo>
                      <a:pt x="58" y="0"/>
                      <a:pt x="131" y="6"/>
                      <a:pt x="171" y="54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1"/>
              <p:cNvSpPr/>
              <p:nvPr/>
            </p:nvSpPr>
            <p:spPr>
              <a:xfrm>
                <a:off x="275040" y="310320"/>
                <a:ext cx="91440" cy="1159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2" y="0"/>
                    </a:moveTo>
                    <a:cubicBezTo>
                      <a:pt x="19" y="8"/>
                      <a:pt x="19" y="8"/>
                      <a:pt x="19" y="8"/>
                    </a:cubicBezTo>
                    <a:cubicBezTo>
                      <a:pt x="14" y="13"/>
                      <a:pt x="10" y="18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4" y="11"/>
                      <a:pt x="8" y="5"/>
                      <a:pt x="12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2"/>
              <p:cNvSpPr/>
              <p:nvPr/>
            </p:nvSpPr>
            <p:spPr>
              <a:xfrm>
                <a:off x="231480" y="387360"/>
                <a:ext cx="72720" cy="1058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9" y="0"/>
                    </a:moveTo>
                    <a:cubicBezTo>
                      <a:pt x="15" y="8"/>
                      <a:pt x="15" y="8"/>
                      <a:pt x="15" y="8"/>
                    </a:cubicBezTo>
                    <a:cubicBezTo>
                      <a:pt x="12" y="13"/>
                      <a:pt x="9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" y="10"/>
                      <a:pt x="6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33"/>
              <p:cNvSpPr/>
              <p:nvPr/>
            </p:nvSpPr>
            <p:spPr>
              <a:xfrm>
                <a:off x="202680" y="460080"/>
                <a:ext cx="62280" cy="1058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6" y="0"/>
                    </a:moveTo>
                    <a:cubicBezTo>
                      <a:pt x="13" y="7"/>
                      <a:pt x="13" y="7"/>
                      <a:pt x="13" y="7"/>
                    </a:cubicBezTo>
                    <a:cubicBezTo>
                      <a:pt x="10" y="12"/>
                      <a:pt x="8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2" y="10"/>
                      <a:pt x="4" y="5"/>
                      <a:pt x="6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34"/>
              <p:cNvSpPr/>
              <p:nvPr/>
            </p:nvSpPr>
            <p:spPr>
              <a:xfrm>
                <a:off x="183240" y="532440"/>
                <a:ext cx="52920" cy="115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1" h="24">
                    <a:moveTo>
                      <a:pt x="4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13"/>
                      <a:pt x="8" y="18"/>
                      <a:pt x="7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0"/>
                      <a:pt x="3" y="5"/>
                      <a:pt x="4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35"/>
              <p:cNvSpPr/>
              <p:nvPr/>
            </p:nvSpPr>
            <p:spPr>
              <a:xfrm>
                <a:off x="178200" y="609840"/>
                <a:ext cx="38880" cy="12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8" h="27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7" y="14"/>
                      <a:pt x="6" y="20"/>
                      <a:pt x="6" y="27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3"/>
                      <a:pt x="0" y="6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36"/>
              <p:cNvSpPr/>
              <p:nvPr/>
            </p:nvSpPr>
            <p:spPr>
              <a:xfrm>
                <a:off x="178200" y="701640"/>
                <a:ext cx="48600" cy="1832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10" h="38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6" y="18"/>
                      <a:pt x="7" y="28"/>
                      <a:pt x="10" y="3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1" y="20"/>
                      <a:pt x="0" y="10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37"/>
              <p:cNvSpPr/>
              <p:nvPr/>
            </p:nvSpPr>
            <p:spPr>
              <a:xfrm>
                <a:off x="198000" y="846000"/>
                <a:ext cx="96120" cy="188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20" h="39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9" y="19"/>
                      <a:pt x="14" y="29"/>
                      <a:pt x="20" y="39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7" y="21"/>
                      <a:pt x="2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38"/>
              <p:cNvSpPr/>
              <p:nvPr/>
            </p:nvSpPr>
            <p:spPr>
              <a:xfrm>
                <a:off x="260280" y="996120"/>
                <a:ext cx="77040" cy="96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9" y="12"/>
                      <a:pt x="12" y="16"/>
                      <a:pt x="16" y="20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6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39"/>
              <p:cNvSpPr/>
              <p:nvPr/>
            </p:nvSpPr>
            <p:spPr>
              <a:xfrm>
                <a:off x="1219680" y="29124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0"/>
              <p:cNvSpPr/>
              <p:nvPr/>
            </p:nvSpPr>
            <p:spPr>
              <a:xfrm>
                <a:off x="1262880" y="353880"/>
                <a:ext cx="110880" cy="207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1"/>
              <p:cNvSpPr/>
              <p:nvPr/>
            </p:nvSpPr>
            <p:spPr>
              <a:xfrm>
                <a:off x="1340280" y="522720"/>
                <a:ext cx="52920" cy="203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2"/>
              <p:cNvSpPr/>
              <p:nvPr/>
            </p:nvSpPr>
            <p:spPr>
              <a:xfrm>
                <a:off x="1355040" y="686880"/>
                <a:ext cx="38160" cy="140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3"/>
              <p:cNvSpPr/>
              <p:nvPr/>
            </p:nvSpPr>
            <p:spPr>
              <a:xfrm>
                <a:off x="1330920" y="793080"/>
                <a:ext cx="52920" cy="125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4"/>
              <p:cNvSpPr/>
              <p:nvPr/>
            </p:nvSpPr>
            <p:spPr>
              <a:xfrm>
                <a:off x="1296720" y="880200"/>
                <a:ext cx="67680" cy="1202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45"/>
              <p:cNvSpPr/>
              <p:nvPr/>
            </p:nvSpPr>
            <p:spPr>
              <a:xfrm>
                <a:off x="1253520" y="962280"/>
                <a:ext cx="77040" cy="115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46"/>
              <p:cNvSpPr/>
              <p:nvPr/>
            </p:nvSpPr>
            <p:spPr>
              <a:xfrm>
                <a:off x="1180800" y="1039320"/>
                <a:ext cx="101880" cy="1252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7"/>
              <p:cNvSpPr/>
              <p:nvPr/>
            </p:nvSpPr>
            <p:spPr>
              <a:xfrm>
                <a:off x="250920" y="1102320"/>
                <a:ext cx="963360" cy="3276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8"/>
              <p:cNvSpPr/>
              <p:nvPr/>
            </p:nvSpPr>
            <p:spPr>
              <a:xfrm>
                <a:off x="28800" y="-3240"/>
                <a:ext cx="1408320" cy="1395360"/>
              </a:xfrm>
              <a:custGeom>
                <a:avLst/>
                <a:gdLst>
                  <a:gd name="textAreaLeft" fmla="*/ 0 w 1408320"/>
                  <a:gd name="textAreaRight" fmla="*/ 1408680 w 1408320"/>
                  <a:gd name="textAreaTop" fmla="*/ 0 h 1395360"/>
                  <a:gd name="textAreaBottom" fmla="*/ 1395720 h 1395360"/>
                </a:gdLst>
                <a:ahLst/>
                <a:rect l="textAreaLeft" t="textAreaTop" r="textAreaRight" b="textAreaBottom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  <a:moveTo>
                      <a:pt x="234" y="70"/>
                    </a:moveTo>
                    <a:cubicBezTo>
                      <a:pt x="194" y="22"/>
                      <a:pt x="121" y="16"/>
                      <a:pt x="72" y="57"/>
                    </a:cubicBezTo>
                    <a:cubicBezTo>
                      <a:pt x="23" y="98"/>
                      <a:pt x="17" y="171"/>
                      <a:pt x="57" y="219"/>
                    </a:cubicBezTo>
                    <a:cubicBezTo>
                      <a:pt x="97" y="267"/>
                      <a:pt x="170" y="273"/>
                      <a:pt x="219" y="232"/>
                    </a:cubicBezTo>
                    <a:cubicBezTo>
                      <a:pt x="268" y="191"/>
                      <a:pt x="275" y="118"/>
                      <a:pt x="234" y="70"/>
                    </a:cubicBezTo>
                  </a:path>
                </a:pathLst>
              </a:custGeom>
              <a:gradFill rotWithShape="0">
                <a:gsLst>
                  <a:gs pos="0">
                    <a:srgbClr val="e01c1e"/>
                  </a:gs>
                  <a:gs pos="100000">
                    <a:srgbClr val="c0181a"/>
                  </a:gs>
                </a:gsLst>
                <a:lin ang="5400000"/>
              </a:gradFill>
              <a:ln w="3240">
                <a:solidFill>
                  <a:srgbClr val="d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0722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是</a:t>
            </a:r>
            <a:r>
              <a:rPr b="0" lang="en-US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xxx, I c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337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有             英语四级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级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机国家二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想             日企翻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热情开朗是我的标签，技术过硬是我的底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想，我敢，我能  是我的座右铭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私は貴社に参加することができることを望ん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私は会社の発展のために力を尽くし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希望能够加入贵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愿意为公司的发展尽一份力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右箭头 48"/>
          <p:cNvSpPr/>
          <p:nvPr/>
        </p:nvSpPr>
        <p:spPr>
          <a:xfrm>
            <a:off x="1042920" y="1700280"/>
            <a:ext cx="936720" cy="144360"/>
          </a:xfrm>
          <a:prstGeom prst="rightArrow">
            <a:avLst>
              <a:gd name="adj1" fmla="val 50000"/>
              <a:gd name="adj2" fmla="val 49927"/>
            </a:avLst>
          </a:prstGeom>
          <a:solidFill>
            <a:srgbClr val="001d70"/>
          </a:solidFill>
          <a:ln w="25560">
            <a:solidFill>
              <a:srgbClr val="001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右箭头 49"/>
          <p:cNvSpPr/>
          <p:nvPr/>
        </p:nvSpPr>
        <p:spPr>
          <a:xfrm>
            <a:off x="1042920" y="2133720"/>
            <a:ext cx="936720" cy="142920"/>
          </a:xfrm>
          <a:prstGeom prst="rightArrow">
            <a:avLst>
              <a:gd name="adj1" fmla="val 50000"/>
              <a:gd name="adj2" fmla="val 50431"/>
            </a:avLst>
          </a:prstGeom>
          <a:solidFill>
            <a:srgbClr val="001d70"/>
          </a:solidFill>
          <a:ln w="25560">
            <a:solidFill>
              <a:srgbClr val="001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7" name="矩形 4"/>
            <p:cNvSpPr/>
            <p:nvPr/>
          </p:nvSpPr>
          <p:spPr>
            <a:xfrm>
              <a:off x="9363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TextBox 7"/>
            <p:cNvSpPr/>
            <p:nvPr/>
          </p:nvSpPr>
          <p:spPr>
            <a:xfrm rot="20926800">
              <a:off x="2037600" y="3390840"/>
              <a:ext cx="50407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6:30:42Z</dcterms:created>
  <dc:creator>new</dc:creator>
  <dc:description/>
  <cp:keywords/>
  <dc:language>en-US</dc:language>
  <cp:lastModifiedBy>a</cp:lastModifiedBy>
  <dcterms:modified xsi:type="dcterms:W3CDTF">2014-05-20T07:28:15Z</dcterms:modified>
  <cp:revision>5</cp:revision>
  <dc:subject/>
  <dc:title>个人简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