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56D-77B6-4534-B7ED-4B28790D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809-694E-4305-BC44-BE5C69F9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81B-0F77-4462-90B4-5631E2EE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B26-3130-44B8-8EE8-8F11D162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8741-4ECF-4F8D-A157-BCF36FBF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E714-BC93-470C-8B6E-7C629CDB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C567-93F5-47DB-BE21-D6A79A28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AFC7-AD77-47ED-8B17-8CD3865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CC7F-A4E3-475B-9768-AE6ED7DB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73B1-246F-4D79-86C1-46706018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4AF8-54FE-4F27-B604-95182CB5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AE0-12CC-4037-8D01-0EF9ED10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5ECF-F55B-4A9E-B46E-220F2EBA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42EE-54D3-4043-834A-FDC325A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7E9C-C400-47C8-8746-12EF6CD6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E095-F2F4-4E0F-90FE-E486291C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5975-1EB9-4B7F-B6AE-439CA01C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1BB-4E44-4E07-B726-FAE4889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BC1-920A-49FE-8BE2-2D38F191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4FA-4207-4585-9DCF-A6019B55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880-3483-45EB-9709-1693AEC6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670-7187-466D-BF7C-170072BE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9B9-5A5D-4B46-A16C-35C121F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4B7-958A-4D7C-BFAA-EFC4AD26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639D-D231-493A-8625-F37C87EEF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491D-52DA-453B-BC96-098A34326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3942" r="0" b="72933"/>
          <a:stretch/>
        </p:blipFill>
        <p:spPr>
          <a:xfrm>
            <a:off x="0" y="1440"/>
            <a:ext cx="9150480" cy="158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296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6:42:33Z</dcterms:created>
  <dc:creator>Administrator</dc:creator>
  <dc:description/>
  <dc:language>en-US</dc:language>
  <cp:lastModifiedBy/>
  <cp:lastPrinted>1899-12-30T00:00:00Z</cp:lastPrinted>
  <dcterms:modified xsi:type="dcterms:W3CDTF">2014-06-02T14:28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