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3027-72ED-45EF-913E-E97B6FAD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A638-7DFE-4011-8C5D-EC2D7365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EA98-690D-4A02-AD96-395B28BE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9340-315E-4409-BF9E-EEA6D3D3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6D66-523D-489C-8E0B-78D752DC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A778-70E6-4166-B485-9A6BAD90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A545-CCB0-4126-AB5A-28ECF91B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B9D5-11E3-4C9B-B4F9-BBB0F937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1315-1DF0-409F-9905-6D14E453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4D3A-F1FF-48D8-B3E1-02C406E9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F75C-372E-4115-9C7B-E3889DD4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F14F-5B5B-4892-833B-5CB04A24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E505-2B02-46A7-A617-1F9DEA85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2F3C-506A-49A1-B231-C80F7FB5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3027-B6D3-44B1-9CCF-17A9CF42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CB40-15EF-41C4-A1A6-0552FFA1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28E1-AB3C-4B9B-A5E0-D276AB1D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5989-C40D-4C70-9449-1E54EA1C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1E38-5659-4805-B119-B39B898F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A13F-8B8C-42AB-B15E-2E25F841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0F8B-D6D4-49C4-990F-EDE9FAB5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DF90-05C5-4499-B8A4-8F7A3B59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327A-6CE0-4C80-AD2A-328B6E42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8E13-5D1C-42C1-A280-FF818D14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dministrator\Desktop\新建文件夹\1291286264594.jpg"/>
          <p:cNvPicPr/>
          <p:nvPr/>
        </p:nvPicPr>
        <p:blipFill>
          <a:blip r:embed="rId2"/>
          <a:srcRect l="0" t="0" r="0" b="9829"/>
          <a:stretch/>
        </p:blipFill>
        <p:spPr>
          <a:xfrm>
            <a:off x="0" y="1440"/>
            <a:ext cx="913608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69F1-2E49-404A-AD4F-EC3A9B34DA36}" type="datetime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小田 </a:t>
            </a: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@ www.ilovepp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1856-6FBB-4220-94D2-DC17225ACA3A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Administrator\Desktop\新建文件夹\1291286264594.jpg"/>
          <p:cNvPicPr/>
          <p:nvPr/>
        </p:nvPicPr>
        <p:blipFill>
          <a:blip r:embed="rId2"/>
          <a:srcRect l="0" t="0" r="0" b="9829"/>
          <a:stretch/>
        </p:blipFill>
        <p:spPr>
          <a:xfrm>
            <a:off x="0" y="1440"/>
            <a:ext cx="9136080" cy="685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Administrator\Desktop\新建文件夹\1291286264594.jpg"/>
          <p:cNvPicPr/>
          <p:nvPr/>
        </p:nvPicPr>
        <p:blipFill>
          <a:blip r:embed="rId3"/>
          <a:stretch/>
        </p:blipFill>
        <p:spPr>
          <a:xfrm>
            <a:off x="0" y="1440"/>
            <a:ext cx="915840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DF14-427F-4B11-A144-351C3F7B0616}" type="datetime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小田 </a:t>
            </a: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@ www.ilovepp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5E28-4148-4F3B-8484-4683719A77D0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353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红白经典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3840" y="2708280"/>
            <a:ext cx="8356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点击此处添加副标题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376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点击此处添加标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点击此处添加文本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6ED7-5617-4AC5-B314-C6FD27EAB7F7}" type="slidenum">
              <a:rPr b="0" lang="zh-CN" sz="1200" spc="-1" strike="noStrike">
                <a:solidFill>
                  <a:srgbClr val="7f7f7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1506960" y="6453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9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22Z</dcterms:created>
  <dc:creator>ilovePPT.ORG</dc:creator>
  <dc:description/>
  <cp:keywords>ppt ppt模版 ppt设计</cp:keywords>
  <dc:language>en-US</dc:language>
  <cp:lastModifiedBy>willon</cp:lastModifiedBy>
  <dcterms:modified xsi:type="dcterms:W3CDTF">2014-12-04T15:12:48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