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9179-915E-4858-91BC-34A103C46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6770-29FB-412D-B6CC-3F6A9F5C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3DA7-A833-4BA5-A862-CB34D49FF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DDCB-CD9C-4CA5-91FE-F737B666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2780-2244-4D5A-810B-FBC196621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A863-1545-48AC-8832-B9B60A16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7FC2-9514-4B05-8383-2E572464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25D7-A699-40C5-9069-23E5DE7A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15F0-BA8A-43B4-9984-4C217481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A997-B238-4E60-A0CA-B74BE037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0810-60FB-4794-99E5-521E47AE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6362-A2D3-47DA-B6A0-A6325064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1C34-DB81-4F20-86A7-2B0306D6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87A9-9075-4764-8D97-DBD65F97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138D-FF0D-4C99-8815-9548D63F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94E2-648B-4A6C-AC83-B8F919072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9007-9A4D-42FD-91B3-3D7F80B8A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DF9F-B820-4FC5-8EF3-E4FC4EC7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B2BF-C83F-49E2-93B2-C6A51CA8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21BB-DAA8-4274-AF16-9ECE13EE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6245-6A77-4483-8181-DF2F08E4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D60D-AD71-44DB-88F2-B1F78994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666F-1102-4496-9F3B-4E4675B0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6BEC-CBA4-4CE7-AA8F-0AB757C5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0" y="-9360"/>
            <a:ext cx="9177480" cy="6881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cccc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cccc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cccc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cccc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cccc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6AD9-5EFB-45D8-B34C-274181A6529B}" type="slidenum">
              <a:rPr b="0" lang="en-US" sz="1400" spc="-1" strike="noStrike">
                <a:solidFill>
                  <a:srgbClr val="cccc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14400" y="-9360"/>
            <a:ext cx="9177480" cy="6881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E851-C32D-465F-879B-34ACDFB409E3}" type="slidenum">
              <a:rPr b="0" lang="en-US" sz="1400" spc="-1" strike="noStrike">
                <a:solidFill>
                  <a:srgbClr val="cccc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9237200">
            <a:off x="4608360" y="47952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ccc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cccc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cc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cccc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cccc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cccc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cccc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70360" y="171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80000" y="3625920"/>
            <a:ext cx="19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cccc"/>
                </a:solidFill>
                <a:latin typeface="Arial"/>
                <a:ea typeface="宋体"/>
              </a:rPr>
              <a:t>15</a:t>
            </a:r>
            <a:r>
              <a:rPr b="1" lang="en-US" sz="3600" spc="-1" strike="noStrike">
                <a:solidFill>
                  <a:srgbClr val="cccccc"/>
                </a:solidFill>
                <a:latin typeface="Arial"/>
              </a:rPr>
              <a:t>/</a:t>
            </a:r>
            <a:r>
              <a:rPr b="1" lang="en-US" sz="3600" spc="-1" strike="noStrike">
                <a:solidFill>
                  <a:srgbClr val="ff6fcf"/>
                </a:solidFill>
                <a:latin typeface="Arial"/>
              </a:rPr>
              <a:t>07</a:t>
            </a:r>
            <a:r>
              <a:rPr b="1" lang="en-US" sz="3600" spc="-1" strike="noStrike">
                <a:solidFill>
                  <a:srgbClr val="cccccc"/>
                </a:solidFill>
                <a:latin typeface="Arial"/>
              </a:rPr>
              <a:t>/</a:t>
            </a: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07</a:t>
            </a: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98560" y="301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98560" y="259092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黑白泼墨</a:t>
            </a:r>
            <a:r>
              <a:rPr b="1" lang="zh-CN" sz="72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模板</a:t>
            </a:r>
            <a:endParaRPr b="0" lang="en-US" sz="7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6120" y="645336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Times New Roman"/>
              </a:rPr>
              <a:t>Example of a </a:t>
            </a:r>
            <a:br>
              <a:rPr sz="6600"/>
            </a:br>
            <a:r>
              <a:rPr b="1" lang="en-GB" sz="6600" spc="-1" strike="noStrike">
                <a:solidFill>
                  <a:srgbClr val="ffffff"/>
                </a:solidFill>
                <a:latin typeface="Times New Roman"/>
              </a:rPr>
              <a:t>Bullet Point Slid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270000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6666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6666"/>
                </a:solidFill>
                <a:latin typeface="Times New Roman"/>
              </a:rPr>
              <a:t>Bullet Point</a:t>
            </a: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6666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6666"/>
                </a:solidFill>
                <a:latin typeface="Times New Roman"/>
              </a:rPr>
              <a:t>Bullet Point</a:t>
            </a: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6666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6666"/>
                </a:solidFill>
                <a:latin typeface="Times New Roman"/>
              </a:rPr>
              <a:t>Sub Bullet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Example of a cha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752480" y="1390680"/>
            <a:ext cx="606276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Pictur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943600" cy="3962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0760" y="6453360"/>
            <a:ext cx="162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Examples of default sty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71280" y="1417320"/>
            <a:ext cx="403884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cc"/>
                </a:solidFill>
                <a:latin typeface="Times New Roman"/>
              </a:rPr>
              <a:t>Text and lines are like this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666666"/>
                </a:solidFill>
                <a:uFillTx/>
                <a:latin typeface="Times New Roman"/>
              </a:rPr>
              <a:t>Hyperlinks like this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3333"/>
                </a:solidFill>
                <a:uFillTx/>
                <a:latin typeface="Times New Roman"/>
              </a:rPr>
              <a:t>Visited hyperlinks like this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886200" y="3962520"/>
          <a:ext cx="3630600" cy="1726920"/>
        </p:xfrm>
        <a:graphic>
          <a:graphicData uri="http://schemas.openxmlformats.org/drawingml/2006/table">
            <a:tbl>
              <a:tblPr/>
              <a:tblGrid>
                <a:gridCol w="1816200"/>
                <a:gridCol w="1814400"/>
              </a:tblGrid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cccccc"/>
                          </a:solidFill>
                          <a:latin typeface="Arial"/>
                        </a:rPr>
                        <a:t>Table</a:t>
                      </a:r>
                      <a:endParaRPr b="0" lang="en-US" sz="2800" spc="-1" strike="noStrike">
                        <a:solidFill>
                          <a:srgbClr val="cccc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1368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cc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cc"/>
                      </a:solidFill>
                    </a:lnL>
                    <a:lnR w="13680">
                      <a:solidFill>
                        <a:srgbClr val="cccccc"/>
                      </a:solidFill>
                    </a:lnR>
                    <a:lnT w="1368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cc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1368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cc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cc"/>
                      </a:solidFill>
                    </a:lnL>
                    <a:lnR w="1368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13680">
                      <a:solidFill>
                        <a:srgbClr val="cccc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1220760" y="4114800"/>
            <a:ext cx="2232000" cy="1368360"/>
          </a:xfrm>
          <a:prstGeom prst="rect">
            <a:avLst/>
          </a:prstGeom>
          <a:solidFill>
            <a:srgbClr val="66ccff">
              <a:alpha val="59000"/>
            </a:srgbClr>
          </a:solidFill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cccc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35440" y="6489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6666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cccccc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cccccc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cccccc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cccccc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cccccc"/>
                </a:solidFill>
                <a:latin typeface="Arial"/>
              </a:endParaRPr>
            </a:p>
          </p:txBody>
        </p:sp>
        <p:pic>
          <p:nvPicPr>
            <p:cNvPr id="10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666666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666666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666666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cccc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2T07:27:21Z</dcterms:created>
  <dc:creator>Presentation helper</dc:creator>
  <dc:description/>
  <dc:language>en-US</dc:language>
  <cp:lastModifiedBy>Pearce</cp:lastModifiedBy>
  <dcterms:modified xsi:type="dcterms:W3CDTF">2014-11-24T15:08:43Z</dcterms:modified>
  <cp:revision>61</cp:revision>
  <dc:subject/>
  <dc:title>Grunge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