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B24-8364-440A-86D3-2970816C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8915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640" y="3616200"/>
            <a:ext cx="8915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173-ADEF-4004-9D83-48482938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640" y="361620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040" y="361620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2D5-D694-42CE-9A8B-D7622B58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6280" y="90756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90920" y="90756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640" y="361620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6280" y="361620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90920" y="361620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33A-4E2A-41B2-9ED2-C2461394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E2C4-DB1D-4810-B6E8-F74C08E5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640" y="907560"/>
            <a:ext cx="891540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DB74-A779-4E29-A2C3-AED37854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8915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10CA-0BA5-4B67-9E61-0F66A701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F89F-BA61-4A75-AEFD-44EE0735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086E-1B3A-4370-A4C9-2FDC3654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55640" y="223920"/>
            <a:ext cx="6543720" cy="22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0704-DDD8-4A7A-8E6B-AE47BB5C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1640" y="361620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4775-18A1-494F-A9D7-16F4490F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640" y="907560"/>
            <a:ext cx="891540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B65-F2F6-4C31-B56F-E1A229EB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0040" y="361620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53F7-3D35-4574-AFCA-C7499CAB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1640" y="3616200"/>
            <a:ext cx="8915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296C-FBA0-47A8-95A3-1DB0A48C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8915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1640" y="3616200"/>
            <a:ext cx="8915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47BB-D7BE-4F97-A205-BEC9FEE0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1640" y="361620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0040" y="361620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7BA2-64F4-4F5C-B42A-772B7475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6280" y="90756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90920" y="90756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1640" y="361620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6280" y="361620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90920" y="361620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A293-C554-4AB4-8368-16E07298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8915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BDC-4F87-4BC6-99B8-BAE5D3F6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ACB-2414-4B4E-9C20-081A1604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D72-3BCA-4F65-9145-0464EB89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5640" y="223920"/>
            <a:ext cx="6543720" cy="22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F5A-C5E6-4C0E-BD33-C9AA35FA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640" y="361620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2EE-B78B-4A82-98CA-B5D568D0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040" y="361620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700-037E-41AB-9800-CFED260C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640" y="3616200"/>
            <a:ext cx="8915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D99-0CA5-4574-861B-A2BCEBB8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640" y="907560"/>
            <a:ext cx="8915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3120" y="6337080"/>
            <a:ext cx="1492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54120" y="6337080"/>
            <a:ext cx="491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97640" y="6337080"/>
            <a:ext cx="898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6A54-099A-47D3-94C4-D2BFAC009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496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3120" y="6337080"/>
            <a:ext cx="1492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1554120" y="6337080"/>
            <a:ext cx="491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97640" y="6337080"/>
            <a:ext cx="898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8F84-63DB-4D92-B5C8-74FBA080EB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496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黑白条形码通用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6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60400" y="44280"/>
            <a:ext cx="8286840" cy="2009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8915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3060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0c0c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0c0c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0c0c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0c0c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4:25:22Z</dcterms:created>
  <dc:creator/>
  <dc:description/>
  <dc:language>en-US</dc:language>
  <cp:lastModifiedBy>graphics07</cp:lastModifiedBy>
  <dcterms:modified xsi:type="dcterms:W3CDTF">2014-12-05T00:52:3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