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94560" y="68040"/>
            <a:ext cx="571680" cy="51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923760"/>
            <a:ext cx="791064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161160"/>
            <a:ext cx="791064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494560" y="68040"/>
            <a:ext cx="571680" cy="51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923760"/>
            <a:ext cx="386028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10800" y="923760"/>
            <a:ext cx="386028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161160"/>
            <a:ext cx="386028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10800" y="3161160"/>
            <a:ext cx="386028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494560" y="68040"/>
            <a:ext cx="571680" cy="51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923760"/>
            <a:ext cx="254700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32000" y="923760"/>
            <a:ext cx="254700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06800" y="923760"/>
            <a:ext cx="254700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161160"/>
            <a:ext cx="254700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32000" y="3161160"/>
            <a:ext cx="254700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06800" y="3161160"/>
            <a:ext cx="254700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494560" y="68040"/>
            <a:ext cx="571680" cy="51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923760"/>
            <a:ext cx="7910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494560" y="68040"/>
            <a:ext cx="571680" cy="51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923760"/>
            <a:ext cx="7910640" cy="42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494560" y="68040"/>
            <a:ext cx="571680" cy="51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923760"/>
            <a:ext cx="3860280" cy="42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10800" y="923760"/>
            <a:ext cx="3860280" cy="42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94560" y="68040"/>
            <a:ext cx="571680" cy="51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8494560" y="6220800"/>
            <a:ext cx="571680" cy="114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94560" y="68040"/>
            <a:ext cx="571680" cy="51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923760"/>
            <a:ext cx="386028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0800" y="923760"/>
            <a:ext cx="3860280" cy="42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161160"/>
            <a:ext cx="386028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494560" y="68040"/>
            <a:ext cx="571680" cy="51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923760"/>
            <a:ext cx="791064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494560" y="68040"/>
            <a:ext cx="571680" cy="51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923760"/>
            <a:ext cx="3860280" cy="42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10800" y="923760"/>
            <a:ext cx="386028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10800" y="3161160"/>
            <a:ext cx="386028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494560" y="68040"/>
            <a:ext cx="571680" cy="51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923760"/>
            <a:ext cx="386028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10800" y="923760"/>
            <a:ext cx="386028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161160"/>
            <a:ext cx="791064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494560" y="68040"/>
            <a:ext cx="571680" cy="51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923760"/>
            <a:ext cx="791064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161160"/>
            <a:ext cx="791064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94560" y="68040"/>
            <a:ext cx="571680" cy="51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923760"/>
            <a:ext cx="386028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10800" y="923760"/>
            <a:ext cx="386028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161160"/>
            <a:ext cx="386028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510800" y="3161160"/>
            <a:ext cx="386028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494560" y="68040"/>
            <a:ext cx="571680" cy="51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923760"/>
            <a:ext cx="254700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32000" y="923760"/>
            <a:ext cx="254700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806800" y="923760"/>
            <a:ext cx="254700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161160"/>
            <a:ext cx="254700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32000" y="3161160"/>
            <a:ext cx="254700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806800" y="3161160"/>
            <a:ext cx="254700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94560" y="68040"/>
            <a:ext cx="571680" cy="51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923760"/>
            <a:ext cx="7910640" cy="42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94560" y="68040"/>
            <a:ext cx="571680" cy="51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23760"/>
            <a:ext cx="3860280" cy="42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10800" y="923760"/>
            <a:ext cx="3860280" cy="42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494560" y="68040"/>
            <a:ext cx="571680" cy="51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494560" y="6220800"/>
            <a:ext cx="571680" cy="114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94560" y="68040"/>
            <a:ext cx="571680" cy="51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923760"/>
            <a:ext cx="386028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10800" y="923760"/>
            <a:ext cx="3860280" cy="42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161160"/>
            <a:ext cx="386028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94560" y="68040"/>
            <a:ext cx="571680" cy="51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923760"/>
            <a:ext cx="3860280" cy="42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10800" y="923760"/>
            <a:ext cx="386028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10800" y="3161160"/>
            <a:ext cx="386028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94560" y="68040"/>
            <a:ext cx="571680" cy="51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923760"/>
            <a:ext cx="386028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10800" y="923760"/>
            <a:ext cx="386028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161160"/>
            <a:ext cx="7910640" cy="20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11.png"/>
          <p:cNvPicPr/>
          <p:nvPr/>
        </p:nvPicPr>
        <p:blipFill>
          <a:blip r:embed="rId2"/>
          <a:stretch/>
        </p:blipFill>
        <p:spPr>
          <a:xfrm>
            <a:off x="4680" y="4680"/>
            <a:ext cx="9134640" cy="5708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494560" y="68040"/>
            <a:ext cx="571680" cy="51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923760"/>
            <a:ext cx="7910640" cy="42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图片 5" descr="1.pn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399000" y="748800"/>
            <a:ext cx="2716200" cy="23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337400"/>
            <a:ext cx="8229240" cy="331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2" marL="914400" algn="ctr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3" marL="1371600" algn="ctr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388200" y="752400"/>
            <a:ext cx="2730240" cy="23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Calibri"/>
              </a:rPr>
              <a:t>海岛旅游介绍</a:t>
            </a:r>
            <a:r>
              <a:rPr b="1" lang="zh-CN" sz="2600" spc="-1" strike="noStrike">
                <a:solidFill>
                  <a:srgbClr val="ffffff"/>
                </a:solidFill>
                <a:latin typeface="Calibri"/>
              </a:rPr>
              <a:t>PPT</a:t>
            </a:r>
            <a:endParaRPr b="1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6953400" y="516564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"/>
          <p:cNvGrpSpPr/>
          <p:nvPr/>
        </p:nvGrpSpPr>
        <p:grpSpPr>
          <a:xfrm>
            <a:off x="0" y="0"/>
            <a:ext cx="8466120" cy="5714640"/>
            <a:chOff x="0" y="0"/>
            <a:chExt cx="8466120" cy="5714640"/>
          </a:xfrm>
        </p:grpSpPr>
        <p:sp>
          <p:nvSpPr>
            <p:cNvPr id="228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428480"/>
              <a:ext cx="8466120" cy="42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Box 7"/>
            <p:cNvSpPr/>
            <p:nvPr/>
          </p:nvSpPr>
          <p:spPr>
            <a:xfrm rot="20926800">
              <a:off x="1938240" y="297504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500040" y="1754280"/>
            <a:ext cx="7572240" cy="2460600"/>
            <a:chOff x="500040" y="1754280"/>
            <a:chExt cx="7572240" cy="2460600"/>
          </a:xfrm>
        </p:grpSpPr>
        <p:grpSp>
          <p:nvGrpSpPr>
            <p:cNvPr id="81" name=""/>
            <p:cNvGrpSpPr/>
            <p:nvPr/>
          </p:nvGrpSpPr>
          <p:grpSpPr>
            <a:xfrm>
              <a:off x="500040" y="1754280"/>
              <a:ext cx="7572240" cy="2460600"/>
              <a:chOff x="500040" y="1754280"/>
              <a:chExt cx="7572240" cy="2460600"/>
            </a:xfrm>
          </p:grpSpPr>
          <p:sp>
            <p:nvSpPr>
              <p:cNvPr id="82" name="AutoShape 3"/>
              <p:cNvSpPr/>
              <p:nvPr/>
            </p:nvSpPr>
            <p:spPr>
              <a:xfrm>
                <a:off x="500040" y="1754280"/>
                <a:ext cx="7572240" cy="2460600"/>
              </a:xfrm>
              <a:prstGeom prst="roundRect">
                <a:avLst>
                  <a:gd name="adj" fmla="val 2449"/>
                </a:avLst>
              </a:prstGeom>
              <a:gradFill rotWithShape="0">
                <a:gsLst>
                  <a:gs pos="0">
                    <a:srgbClr val="00b0f0"/>
                  </a:gs>
                  <a:gs pos="100000">
                    <a:srgbClr val="004376"/>
                  </a:gs>
                </a:gsLst>
                <a:lin ang="8100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AutoShape 3"/>
              <p:cNvSpPr/>
              <p:nvPr/>
            </p:nvSpPr>
            <p:spPr>
              <a:xfrm>
                <a:off x="502920" y="1839960"/>
                <a:ext cx="7566120" cy="2289240"/>
              </a:xfrm>
              <a:prstGeom prst="roundRect">
                <a:avLst>
                  <a:gd name="adj" fmla="val 2731"/>
                </a:avLst>
              </a:prstGeom>
              <a:solidFill>
                <a:srgbClr val="f2f2f2">
                  <a:alpha val="92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Text Box 11"/>
            <p:cNvSpPr/>
            <p:nvPr/>
          </p:nvSpPr>
          <p:spPr>
            <a:xfrm>
              <a:off x="709560" y="2138040"/>
              <a:ext cx="72201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添加文字！！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 Box 26"/>
          <p:cNvSpPr/>
          <p:nvPr/>
        </p:nvSpPr>
        <p:spPr>
          <a:xfrm>
            <a:off x="8429760" y="142920"/>
            <a:ext cx="48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前  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6"/>
          <p:cNvSpPr/>
          <p:nvPr/>
        </p:nvSpPr>
        <p:spPr>
          <a:xfrm>
            <a:off x="8429760" y="142920"/>
            <a:ext cx="48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147840" y="1311120"/>
            <a:ext cx="2928960" cy="794880"/>
            <a:chOff x="3147840" y="1311120"/>
            <a:chExt cx="2928960" cy="794880"/>
          </a:xfrm>
        </p:grpSpPr>
        <p:grpSp>
          <p:nvGrpSpPr>
            <p:cNvPr id="88" name=""/>
            <p:cNvGrpSpPr/>
            <p:nvPr/>
          </p:nvGrpSpPr>
          <p:grpSpPr>
            <a:xfrm>
              <a:off x="3147840" y="1311120"/>
              <a:ext cx="2928960" cy="794880"/>
              <a:chOff x="3147840" y="1311120"/>
              <a:chExt cx="2928960" cy="794880"/>
            </a:xfrm>
          </p:grpSpPr>
          <p:sp>
            <p:nvSpPr>
              <p:cNvPr id="89" name="TextBox 15"/>
              <p:cNvSpPr/>
              <p:nvPr/>
            </p:nvSpPr>
            <p:spPr>
              <a:xfrm>
                <a:off x="3147840" y="1311120"/>
                <a:ext cx="571320" cy="79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600" spc="-1" strike="noStrike">
                    <a:solidFill>
                      <a:srgbClr val="ffffff"/>
                    </a:solidFill>
                    <a:latin typeface="方正综艺简体"/>
                    <a:ea typeface="方正综艺简体"/>
                  </a:rPr>
                  <a:t>1</a:t>
                </a:r>
                <a:endParaRPr b="0" lang="en-US" sz="4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TextBox 16"/>
              <p:cNvSpPr/>
              <p:nvPr/>
            </p:nvSpPr>
            <p:spPr>
              <a:xfrm>
                <a:off x="3647880" y="1591920"/>
                <a:ext cx="242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矩形 34"/>
            <p:cNvSpPr/>
            <p:nvPr/>
          </p:nvSpPr>
          <p:spPr>
            <a:xfrm>
              <a:off x="3597120" y="1512720"/>
              <a:ext cx="102960" cy="10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147840" y="2093760"/>
            <a:ext cx="2928960" cy="794880"/>
            <a:chOff x="3147840" y="2093760"/>
            <a:chExt cx="2928960" cy="794880"/>
          </a:xfrm>
        </p:grpSpPr>
        <p:grpSp>
          <p:nvGrpSpPr>
            <p:cNvPr id="93" name=""/>
            <p:cNvGrpSpPr/>
            <p:nvPr/>
          </p:nvGrpSpPr>
          <p:grpSpPr>
            <a:xfrm>
              <a:off x="3147840" y="2093760"/>
              <a:ext cx="2928960" cy="794880"/>
              <a:chOff x="3147840" y="2093760"/>
              <a:chExt cx="2928960" cy="794880"/>
            </a:xfrm>
          </p:grpSpPr>
          <p:sp>
            <p:nvSpPr>
              <p:cNvPr id="94" name="TextBox 69"/>
              <p:cNvSpPr/>
              <p:nvPr/>
            </p:nvSpPr>
            <p:spPr>
              <a:xfrm>
                <a:off x="3147840" y="2093760"/>
                <a:ext cx="571320" cy="79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600" spc="-1" strike="noStrike">
                    <a:solidFill>
                      <a:srgbClr val="ffffff"/>
                    </a:solidFill>
                    <a:latin typeface="方正综艺简体"/>
                    <a:ea typeface="方正综艺简体"/>
                  </a:rPr>
                  <a:t>2</a:t>
                </a:r>
                <a:endParaRPr b="0" lang="en-US" sz="4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TextBox 70"/>
              <p:cNvSpPr/>
              <p:nvPr/>
            </p:nvSpPr>
            <p:spPr>
              <a:xfrm>
                <a:off x="3647880" y="2374920"/>
                <a:ext cx="242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6" name="矩形 68"/>
            <p:cNvSpPr/>
            <p:nvPr/>
          </p:nvSpPr>
          <p:spPr>
            <a:xfrm>
              <a:off x="3597120" y="2295360"/>
              <a:ext cx="102960" cy="10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3147840" y="2878200"/>
            <a:ext cx="2928960" cy="794880"/>
            <a:chOff x="3147840" y="2878200"/>
            <a:chExt cx="2928960" cy="794880"/>
          </a:xfrm>
        </p:grpSpPr>
        <p:grpSp>
          <p:nvGrpSpPr>
            <p:cNvPr id="98" name=""/>
            <p:cNvGrpSpPr/>
            <p:nvPr/>
          </p:nvGrpSpPr>
          <p:grpSpPr>
            <a:xfrm>
              <a:off x="3147840" y="2878200"/>
              <a:ext cx="2928960" cy="794880"/>
              <a:chOff x="3147840" y="2878200"/>
              <a:chExt cx="2928960" cy="794880"/>
            </a:xfrm>
          </p:grpSpPr>
          <p:sp>
            <p:nvSpPr>
              <p:cNvPr id="99" name="TextBox 74"/>
              <p:cNvSpPr/>
              <p:nvPr/>
            </p:nvSpPr>
            <p:spPr>
              <a:xfrm>
                <a:off x="3147840" y="2878200"/>
                <a:ext cx="571320" cy="79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600" spc="-1" strike="noStrike">
                    <a:solidFill>
                      <a:srgbClr val="ffffff"/>
                    </a:solidFill>
                    <a:latin typeface="方正综艺简体"/>
                    <a:ea typeface="方正综艺简体"/>
                  </a:rPr>
                  <a:t>3</a:t>
                </a:r>
                <a:endParaRPr b="0" lang="en-US" sz="4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extBox 75"/>
              <p:cNvSpPr/>
              <p:nvPr/>
            </p:nvSpPr>
            <p:spPr>
              <a:xfrm>
                <a:off x="3647880" y="3159000"/>
                <a:ext cx="242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矩形 73"/>
            <p:cNvSpPr/>
            <p:nvPr/>
          </p:nvSpPr>
          <p:spPr>
            <a:xfrm>
              <a:off x="3597120" y="3079800"/>
              <a:ext cx="102960" cy="10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3147840" y="3660840"/>
            <a:ext cx="2928960" cy="794880"/>
            <a:chOff x="3147840" y="3660840"/>
            <a:chExt cx="2928960" cy="794880"/>
          </a:xfrm>
        </p:grpSpPr>
        <p:grpSp>
          <p:nvGrpSpPr>
            <p:cNvPr id="103" name=""/>
            <p:cNvGrpSpPr/>
            <p:nvPr/>
          </p:nvGrpSpPr>
          <p:grpSpPr>
            <a:xfrm>
              <a:off x="3147840" y="3660840"/>
              <a:ext cx="2928960" cy="794880"/>
              <a:chOff x="3147840" y="3660840"/>
              <a:chExt cx="2928960" cy="794880"/>
            </a:xfrm>
          </p:grpSpPr>
          <p:sp>
            <p:nvSpPr>
              <p:cNvPr id="104" name="TextBox 79"/>
              <p:cNvSpPr/>
              <p:nvPr/>
            </p:nvSpPr>
            <p:spPr>
              <a:xfrm>
                <a:off x="3147840" y="3660840"/>
                <a:ext cx="571320" cy="79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600" spc="-1" strike="noStrike">
                    <a:solidFill>
                      <a:srgbClr val="ffffff"/>
                    </a:solidFill>
                    <a:latin typeface="方正综艺简体"/>
                    <a:ea typeface="方正综艺简体"/>
                  </a:rPr>
                  <a:t>4</a:t>
                </a:r>
                <a:endParaRPr b="0" lang="en-US" sz="4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TextBox 80"/>
              <p:cNvSpPr/>
              <p:nvPr/>
            </p:nvSpPr>
            <p:spPr>
              <a:xfrm>
                <a:off x="3647880" y="3941640"/>
                <a:ext cx="242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矩形 78"/>
            <p:cNvSpPr/>
            <p:nvPr/>
          </p:nvSpPr>
          <p:spPr>
            <a:xfrm>
              <a:off x="3597120" y="3862440"/>
              <a:ext cx="102960" cy="10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3147840" y="2441520"/>
            <a:ext cx="2928960" cy="794880"/>
            <a:chOff x="3147840" y="2441520"/>
            <a:chExt cx="2928960" cy="794880"/>
          </a:xfrm>
        </p:grpSpPr>
        <p:grpSp>
          <p:nvGrpSpPr>
            <p:cNvPr id="108" name=""/>
            <p:cNvGrpSpPr/>
            <p:nvPr/>
          </p:nvGrpSpPr>
          <p:grpSpPr>
            <a:xfrm>
              <a:off x="3147840" y="2441520"/>
              <a:ext cx="2928960" cy="794880"/>
              <a:chOff x="3147840" y="2441520"/>
              <a:chExt cx="2928960" cy="794880"/>
            </a:xfrm>
          </p:grpSpPr>
          <p:sp>
            <p:nvSpPr>
              <p:cNvPr id="109" name="TextBox 7"/>
              <p:cNvSpPr/>
              <p:nvPr/>
            </p:nvSpPr>
            <p:spPr>
              <a:xfrm>
                <a:off x="3147840" y="2441520"/>
                <a:ext cx="571320" cy="79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600" spc="-1" strike="noStrike">
                    <a:solidFill>
                      <a:srgbClr val="ffffff"/>
                    </a:solidFill>
                    <a:latin typeface="方正综艺简体"/>
                    <a:ea typeface="方正综艺简体"/>
                  </a:rPr>
                  <a:t>1</a:t>
                </a:r>
                <a:endParaRPr b="0" lang="en-US" sz="4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8"/>
              <p:cNvSpPr/>
              <p:nvPr/>
            </p:nvSpPr>
            <p:spPr>
              <a:xfrm>
                <a:off x="3647880" y="2722680"/>
                <a:ext cx="242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矩形 6"/>
            <p:cNvSpPr/>
            <p:nvPr/>
          </p:nvSpPr>
          <p:spPr>
            <a:xfrm>
              <a:off x="3597120" y="2643120"/>
              <a:ext cx="102960" cy="10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04920" y="519120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494560" y="68040"/>
            <a:ext cx="571680" cy="51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923760"/>
            <a:ext cx="7910640" cy="42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820800" y="1434960"/>
            <a:ext cx="6883200" cy="3252600"/>
            <a:chOff x="820800" y="1434960"/>
            <a:chExt cx="6883200" cy="3252600"/>
          </a:xfrm>
        </p:grpSpPr>
        <p:grpSp>
          <p:nvGrpSpPr>
            <p:cNvPr id="116" name=""/>
            <p:cNvGrpSpPr/>
            <p:nvPr/>
          </p:nvGrpSpPr>
          <p:grpSpPr>
            <a:xfrm>
              <a:off x="3517920" y="2319120"/>
              <a:ext cx="1503360" cy="1477440"/>
              <a:chOff x="3517920" y="2319120"/>
              <a:chExt cx="1503360" cy="147744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3517920" y="2319120"/>
                <a:ext cx="1503360" cy="1477440"/>
                <a:chOff x="3517920" y="2319120"/>
                <a:chExt cx="1503360" cy="1477440"/>
              </a:xfrm>
            </p:grpSpPr>
            <p:sp>
              <p:nvSpPr>
                <p:cNvPr id="118" name="Oval 93"/>
                <p:cNvSpPr/>
                <p:nvPr/>
              </p:nvSpPr>
              <p:spPr>
                <a:xfrm>
                  <a:off x="3517920" y="2319120"/>
                  <a:ext cx="1503360" cy="147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333333"/>
                    </a:gs>
                    <a:gs pos="100000">
                      <a:srgbClr val="808080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Oval 94"/>
                <p:cNvSpPr/>
                <p:nvPr/>
              </p:nvSpPr>
              <p:spPr>
                <a:xfrm>
                  <a:off x="3578040" y="2368080"/>
                  <a:ext cx="1295640" cy="1271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b0f0"/>
                    </a:gs>
                    <a:gs pos="100000">
                      <a:srgbClr val="004376"/>
                    </a:gs>
                  </a:gsLst>
                  <a:lin ang="8100000"/>
                </a:gradFill>
                <a:ln w="25560">
                  <a:solidFill>
                    <a:srgbClr val="ffffff"/>
                  </a:solidFill>
                  <a:miter/>
                </a:ln>
                <a:effectLst>
                  <a:outerShdw dist="38183" dir="27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0" name="Text Box 18"/>
              <p:cNvSpPr/>
              <p:nvPr/>
            </p:nvSpPr>
            <p:spPr>
              <a:xfrm>
                <a:off x="3592800" y="2705040"/>
                <a:ext cx="119556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添加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1508040" y="1434960"/>
              <a:ext cx="2779200" cy="1262160"/>
              <a:chOff x="1508040" y="1434960"/>
              <a:chExt cx="2779200" cy="1262160"/>
            </a:xfrm>
          </p:grpSpPr>
          <p:grpSp>
            <p:nvGrpSpPr>
              <p:cNvPr id="122" name=""/>
              <p:cNvGrpSpPr/>
              <p:nvPr/>
            </p:nvGrpSpPr>
            <p:grpSpPr>
              <a:xfrm>
                <a:off x="1508040" y="1434960"/>
                <a:ext cx="2779200" cy="1262160"/>
                <a:chOff x="1508040" y="1434960"/>
                <a:chExt cx="2779200" cy="1262160"/>
              </a:xfrm>
            </p:grpSpPr>
            <p:grpSp>
              <p:nvGrpSpPr>
                <p:cNvPr id="123" name=""/>
                <p:cNvGrpSpPr/>
                <p:nvPr/>
              </p:nvGrpSpPr>
              <p:grpSpPr>
                <a:xfrm>
                  <a:off x="1508040" y="1434960"/>
                  <a:ext cx="2779200" cy="1262160"/>
                  <a:chOff x="1508040" y="1434960"/>
                  <a:chExt cx="2779200" cy="1262160"/>
                </a:xfrm>
              </p:grpSpPr>
              <p:sp>
                <p:nvSpPr>
                  <p:cNvPr id="124" name="AutoShape 73"/>
                  <p:cNvSpPr/>
                  <p:nvPr/>
                </p:nvSpPr>
                <p:spPr>
                  <a:xfrm rot="2700000">
                    <a:off x="3293280" y="1585800"/>
                    <a:ext cx="754560" cy="988920"/>
                  </a:xfrm>
                  <a:prstGeom prst="rightArrow">
                    <a:avLst>
                      <a:gd name="adj1" fmla="val 70389"/>
                      <a:gd name="adj2" fmla="val 63769"/>
                    </a:avLst>
                  </a:prstGeom>
                  <a:solidFill>
                    <a:srgbClr val="ffffff">
                      <a:alpha val="72000"/>
                    </a:srgbClr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圆角矩形 14"/>
                  <p:cNvSpPr/>
                  <p:nvPr/>
                </p:nvSpPr>
                <p:spPr>
                  <a:xfrm>
                    <a:off x="1508040" y="1434960"/>
                    <a:ext cx="1836720" cy="68904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ffffff">
                      <a:alpha val="72000"/>
                    </a:srgbClr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6" name=""/>
                <p:cNvGrpSpPr/>
                <p:nvPr/>
              </p:nvGrpSpPr>
              <p:grpSpPr>
                <a:xfrm>
                  <a:off x="3015720" y="1434960"/>
                  <a:ext cx="702000" cy="689760"/>
                  <a:chOff x="3015720" y="1434960"/>
                  <a:chExt cx="702000" cy="689760"/>
                </a:xfrm>
              </p:grpSpPr>
              <p:sp>
                <p:nvSpPr>
                  <p:cNvPr id="127" name="椭圆 11"/>
                  <p:cNvSpPr/>
                  <p:nvPr/>
                </p:nvSpPr>
                <p:spPr>
                  <a:xfrm>
                    <a:off x="3015720" y="1434960"/>
                    <a:ext cx="702000" cy="689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808080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" name="椭圆 117"/>
                  <p:cNvSpPr/>
                  <p:nvPr/>
                </p:nvSpPr>
                <p:spPr>
                  <a:xfrm>
                    <a:off x="3038040" y="1453680"/>
                    <a:ext cx="600120" cy="590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b0f0"/>
                      </a:gs>
                      <a:gs pos="100000">
                        <a:srgbClr val="004376"/>
                      </a:gs>
                    </a:gsLst>
                    <a:lin ang="8100000"/>
                  </a:gradFill>
                  <a:ln w="25560">
                    <a:solidFill>
                      <a:srgbClr val="ffffff"/>
                    </a:solidFill>
                    <a:miter/>
                  </a:ln>
                  <a:effectLst>
                    <a:outerShdw dist="38183" dir="2700000" blurRad="0" rotWithShape="0">
                      <a:srgbClr val="000000">
                        <a:alpha val="38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9" name="Text Box 18"/>
              <p:cNvSpPr/>
              <p:nvPr/>
            </p:nvSpPr>
            <p:spPr>
              <a:xfrm>
                <a:off x="1588320" y="1625400"/>
                <a:ext cx="1444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6"/>
              <p:cNvSpPr/>
              <p:nvPr/>
            </p:nvSpPr>
            <p:spPr>
              <a:xfrm>
                <a:off x="3152160" y="161784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4326480" y="1434960"/>
              <a:ext cx="2679120" cy="1343520"/>
              <a:chOff x="4326480" y="1434960"/>
              <a:chExt cx="2679120" cy="1343520"/>
            </a:xfrm>
          </p:grpSpPr>
          <p:grpSp>
            <p:nvGrpSpPr>
              <p:cNvPr id="132" name=""/>
              <p:cNvGrpSpPr/>
              <p:nvPr/>
            </p:nvGrpSpPr>
            <p:grpSpPr>
              <a:xfrm>
                <a:off x="4326480" y="1434960"/>
                <a:ext cx="2679120" cy="1343520"/>
                <a:chOff x="4326480" y="1434960"/>
                <a:chExt cx="2679120" cy="1343520"/>
              </a:xfrm>
            </p:grpSpPr>
            <p:grpSp>
              <p:nvGrpSpPr>
                <p:cNvPr id="133" name=""/>
                <p:cNvGrpSpPr/>
                <p:nvPr/>
              </p:nvGrpSpPr>
              <p:grpSpPr>
                <a:xfrm>
                  <a:off x="4326480" y="1434960"/>
                  <a:ext cx="2679120" cy="1343520"/>
                  <a:chOff x="4326480" y="1434960"/>
                  <a:chExt cx="2679120" cy="1343520"/>
                </a:xfrm>
              </p:grpSpPr>
              <p:grpSp>
                <p:nvGrpSpPr>
                  <p:cNvPr id="134" name=""/>
                  <p:cNvGrpSpPr/>
                  <p:nvPr/>
                </p:nvGrpSpPr>
                <p:grpSpPr>
                  <a:xfrm>
                    <a:off x="4326480" y="1434960"/>
                    <a:ext cx="2679120" cy="1343520"/>
                    <a:chOff x="4326480" y="1434960"/>
                    <a:chExt cx="2679120" cy="1343520"/>
                  </a:xfrm>
                </p:grpSpPr>
                <p:sp>
                  <p:nvSpPr>
                    <p:cNvPr id="135" name="AutoShape 67"/>
                    <p:cNvSpPr/>
                    <p:nvPr/>
                  </p:nvSpPr>
                  <p:spPr>
                    <a:xfrm flipH="1" rot="18900000">
                      <a:off x="4538880" y="1675440"/>
                      <a:ext cx="834480" cy="946440"/>
                    </a:xfrm>
                    <a:prstGeom prst="rightArrow">
                      <a:avLst>
                        <a:gd name="adj1" fmla="val 70389"/>
                        <a:gd name="adj2" fmla="val 63769"/>
                      </a:avLst>
                    </a:prstGeom>
                    <a:solidFill>
                      <a:srgbClr val="ffffff">
                        <a:alpha val="72000"/>
                      </a:srgbClr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圆角矩形 54"/>
                    <p:cNvSpPr/>
                    <p:nvPr/>
                  </p:nvSpPr>
                  <p:spPr>
                    <a:xfrm>
                      <a:off x="5245200" y="1434960"/>
                      <a:ext cx="1760400" cy="762120"/>
                    </a:xfrm>
                    <a:prstGeom prst="roundRect">
                      <a:avLst>
                        <a:gd name="adj" fmla="val 3278"/>
                      </a:avLst>
                    </a:prstGeom>
                    <a:solidFill>
                      <a:srgbClr val="ffffff">
                        <a:alpha val="72000"/>
                      </a:srgbClr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4798080" y="1434960"/>
                    <a:ext cx="701640" cy="689760"/>
                    <a:chOff x="4798080" y="1434960"/>
                    <a:chExt cx="701640" cy="689760"/>
                  </a:xfrm>
                </p:grpSpPr>
                <p:sp>
                  <p:nvSpPr>
                    <p:cNvPr id="138" name="椭圆 51"/>
                    <p:cNvSpPr/>
                    <p:nvPr/>
                  </p:nvSpPr>
                  <p:spPr>
                    <a:xfrm>
                      <a:off x="4798080" y="1434960"/>
                      <a:ext cx="701640" cy="6897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333333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椭圆 117"/>
                    <p:cNvSpPr/>
                    <p:nvPr/>
                  </p:nvSpPr>
                  <p:spPr>
                    <a:xfrm>
                      <a:off x="4819320" y="1453680"/>
                      <a:ext cx="601560" cy="5922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b0f0"/>
                        </a:gs>
                        <a:gs pos="100000">
                          <a:srgbClr val="004376"/>
                        </a:gs>
                      </a:gsLst>
                      <a:lin ang="8100000"/>
                    </a:gradFill>
                    <a:ln w="25560">
                      <a:solidFill>
                        <a:srgbClr val="ffffff"/>
                      </a:solidFill>
                      <a:miter/>
                    </a:ln>
                    <a:effectLst>
                      <a:outerShdw dist="38183" dir="2700000" blurRad="0" rotWithShape="0">
                        <a:srgbClr val="00000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40" name="Rectangle 26"/>
                <p:cNvSpPr/>
                <p:nvPr/>
              </p:nvSpPr>
              <p:spPr>
                <a:xfrm>
                  <a:off x="4944960" y="161784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ffffff"/>
                      </a:solidFill>
                      <a:latin typeface="Calibri"/>
                      <a:ea typeface="微软雅黑"/>
                    </a:rPr>
                    <a:t>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" name="Text Box 18"/>
              <p:cNvSpPr/>
              <p:nvPr/>
            </p:nvSpPr>
            <p:spPr>
              <a:xfrm>
                <a:off x="5546520" y="1625400"/>
                <a:ext cx="1444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5067360" y="2572200"/>
              <a:ext cx="2636640" cy="970920"/>
              <a:chOff x="5067360" y="2572200"/>
              <a:chExt cx="2636640" cy="97092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5067360" y="2572200"/>
                <a:ext cx="2636640" cy="970920"/>
                <a:chOff x="5067360" y="2572200"/>
                <a:chExt cx="2636640" cy="970920"/>
              </a:xfrm>
            </p:grpSpPr>
            <p:grpSp>
              <p:nvGrpSpPr>
                <p:cNvPr id="144" name=""/>
                <p:cNvGrpSpPr/>
                <p:nvPr/>
              </p:nvGrpSpPr>
              <p:grpSpPr>
                <a:xfrm>
                  <a:off x="5067360" y="2572200"/>
                  <a:ext cx="2636640" cy="970920"/>
                  <a:chOff x="5067360" y="2572200"/>
                  <a:chExt cx="2636640" cy="970920"/>
                </a:xfrm>
              </p:grpSpPr>
              <p:grpSp>
                <p:nvGrpSpPr>
                  <p:cNvPr id="145" name=""/>
                  <p:cNvGrpSpPr/>
                  <p:nvPr/>
                </p:nvGrpSpPr>
                <p:grpSpPr>
                  <a:xfrm>
                    <a:off x="5067360" y="2572200"/>
                    <a:ext cx="2636640" cy="970920"/>
                    <a:chOff x="5067360" y="2572200"/>
                    <a:chExt cx="2636640" cy="970920"/>
                  </a:xfrm>
                </p:grpSpPr>
                <p:sp>
                  <p:nvSpPr>
                    <p:cNvPr id="146" name="AutoShape 49"/>
                    <p:cNvSpPr/>
                    <p:nvPr/>
                  </p:nvSpPr>
                  <p:spPr>
                    <a:xfrm flipH="1">
                      <a:off x="5067360" y="2572200"/>
                      <a:ext cx="768240" cy="970920"/>
                    </a:xfrm>
                    <a:prstGeom prst="rightArrow">
                      <a:avLst>
                        <a:gd name="adj1" fmla="val 70389"/>
                        <a:gd name="adj2" fmla="val 68255"/>
                      </a:avLst>
                    </a:prstGeom>
                    <a:solidFill>
                      <a:srgbClr val="ffffff">
                        <a:alpha val="72000"/>
                      </a:srgbClr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" name="圆角矩形 47"/>
                    <p:cNvSpPr/>
                    <p:nvPr/>
                  </p:nvSpPr>
                  <p:spPr>
                    <a:xfrm>
                      <a:off x="5867280" y="2712240"/>
                      <a:ext cx="1836720" cy="690480"/>
                    </a:xfrm>
                    <a:prstGeom prst="roundRect">
                      <a:avLst>
                        <a:gd name="adj" fmla="val 3278"/>
                      </a:avLst>
                    </a:prstGeom>
                    <a:solidFill>
                      <a:srgbClr val="ffffff">
                        <a:alpha val="72000"/>
                      </a:srgbClr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8" name=""/>
                  <p:cNvGrpSpPr/>
                  <p:nvPr/>
                </p:nvGrpSpPr>
                <p:grpSpPr>
                  <a:xfrm>
                    <a:off x="5506560" y="2712960"/>
                    <a:ext cx="702000" cy="689040"/>
                    <a:chOff x="5506560" y="2712960"/>
                    <a:chExt cx="702000" cy="689040"/>
                  </a:xfrm>
                </p:grpSpPr>
                <p:sp>
                  <p:nvSpPr>
                    <p:cNvPr id="149" name="椭圆 42"/>
                    <p:cNvSpPr/>
                    <p:nvPr/>
                  </p:nvSpPr>
                  <p:spPr>
                    <a:xfrm>
                      <a:off x="5506560" y="2712960"/>
                      <a:ext cx="702000" cy="68904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333333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椭圆 117"/>
                    <p:cNvSpPr/>
                    <p:nvPr/>
                  </p:nvSpPr>
                  <p:spPr>
                    <a:xfrm>
                      <a:off x="5528880" y="2731680"/>
                      <a:ext cx="600120" cy="59220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b0f0"/>
                        </a:gs>
                        <a:gs pos="100000">
                          <a:srgbClr val="004376"/>
                        </a:gs>
                      </a:gsLst>
                      <a:lin ang="8100000"/>
                    </a:gradFill>
                    <a:ln w="25560">
                      <a:solidFill>
                        <a:srgbClr val="ffffff"/>
                      </a:solidFill>
                      <a:miter/>
                    </a:ln>
                    <a:effectLst>
                      <a:outerShdw dist="38183" dir="2700000" blurRad="0" rotWithShape="0">
                        <a:srgbClr val="00000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51" name="Rectangle 26"/>
                <p:cNvSpPr/>
                <p:nvPr/>
              </p:nvSpPr>
              <p:spPr>
                <a:xfrm>
                  <a:off x="5643000" y="288540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ffffff"/>
                      </a:solidFill>
                      <a:latin typeface="Calibri"/>
                      <a:ea typeface="微软雅黑"/>
                    </a:rPr>
                    <a:t>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2" name="Text Box 18"/>
              <p:cNvSpPr/>
              <p:nvPr/>
            </p:nvSpPr>
            <p:spPr>
              <a:xfrm>
                <a:off x="6216840" y="2903400"/>
                <a:ext cx="1444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820800" y="2572200"/>
              <a:ext cx="2647800" cy="970920"/>
              <a:chOff x="820800" y="2572200"/>
              <a:chExt cx="2647800" cy="970920"/>
            </a:xfrm>
          </p:grpSpPr>
          <p:grpSp>
            <p:nvGrpSpPr>
              <p:cNvPr id="154" name=""/>
              <p:cNvGrpSpPr/>
              <p:nvPr/>
            </p:nvGrpSpPr>
            <p:grpSpPr>
              <a:xfrm>
                <a:off x="820800" y="2572200"/>
                <a:ext cx="2647800" cy="970920"/>
                <a:chOff x="820800" y="2572200"/>
                <a:chExt cx="2647800" cy="970920"/>
              </a:xfrm>
            </p:grpSpPr>
            <p:grpSp>
              <p:nvGrpSpPr>
                <p:cNvPr id="155" name=""/>
                <p:cNvGrpSpPr/>
                <p:nvPr/>
              </p:nvGrpSpPr>
              <p:grpSpPr>
                <a:xfrm>
                  <a:off x="820800" y="2572200"/>
                  <a:ext cx="2647800" cy="970920"/>
                  <a:chOff x="820800" y="2572200"/>
                  <a:chExt cx="2647800" cy="970920"/>
                </a:xfrm>
              </p:grpSpPr>
              <p:sp>
                <p:nvSpPr>
                  <p:cNvPr id="156" name="AutoShape 71"/>
                  <p:cNvSpPr/>
                  <p:nvPr/>
                </p:nvSpPr>
                <p:spPr>
                  <a:xfrm>
                    <a:off x="2700360" y="2572200"/>
                    <a:ext cx="768240" cy="970920"/>
                  </a:xfrm>
                  <a:prstGeom prst="rightArrow">
                    <a:avLst>
                      <a:gd name="adj1" fmla="val 70389"/>
                      <a:gd name="adj2" fmla="val 62116"/>
                    </a:avLst>
                  </a:prstGeom>
                  <a:solidFill>
                    <a:srgbClr val="ffffff">
                      <a:alpha val="72000"/>
                    </a:srgbClr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圆角矩形 21"/>
                  <p:cNvSpPr/>
                  <p:nvPr/>
                </p:nvSpPr>
                <p:spPr>
                  <a:xfrm>
                    <a:off x="820800" y="2712240"/>
                    <a:ext cx="1836720" cy="69048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ffffff">
                      <a:alpha val="72000"/>
                    </a:srgbClr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"/>
                <p:cNvGrpSpPr/>
                <p:nvPr/>
              </p:nvGrpSpPr>
              <p:grpSpPr>
                <a:xfrm>
                  <a:off x="2328120" y="2712960"/>
                  <a:ext cx="702000" cy="689040"/>
                  <a:chOff x="2328120" y="2712960"/>
                  <a:chExt cx="702000" cy="689040"/>
                </a:xfrm>
              </p:grpSpPr>
              <p:sp>
                <p:nvSpPr>
                  <p:cNvPr id="159" name="椭圆 18"/>
                  <p:cNvSpPr/>
                  <p:nvPr/>
                </p:nvSpPr>
                <p:spPr>
                  <a:xfrm>
                    <a:off x="2328120" y="2712960"/>
                    <a:ext cx="702000" cy="68904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808080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椭圆 117"/>
                  <p:cNvSpPr/>
                  <p:nvPr/>
                </p:nvSpPr>
                <p:spPr>
                  <a:xfrm>
                    <a:off x="2350800" y="2731680"/>
                    <a:ext cx="600120" cy="5922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b0f0"/>
                      </a:gs>
                      <a:gs pos="100000">
                        <a:srgbClr val="004376"/>
                      </a:gs>
                    </a:gsLst>
                    <a:lin ang="8100000"/>
                  </a:gradFill>
                  <a:ln w="25560">
                    <a:solidFill>
                      <a:srgbClr val="ffffff"/>
                    </a:solidFill>
                    <a:miter/>
                  </a:ln>
                  <a:effectLst>
                    <a:outerShdw dist="38183" dir="2700000" blurRad="0" rotWithShape="0">
                      <a:srgbClr val="000000">
                        <a:alpha val="38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61" name="Text Box 18"/>
              <p:cNvSpPr/>
              <p:nvPr/>
            </p:nvSpPr>
            <p:spPr>
              <a:xfrm>
                <a:off x="933480" y="2903400"/>
                <a:ext cx="1458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26"/>
              <p:cNvSpPr/>
              <p:nvPr/>
            </p:nvSpPr>
            <p:spPr>
              <a:xfrm>
                <a:off x="2464560" y="288540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1508040" y="3414600"/>
              <a:ext cx="2777400" cy="1244880"/>
              <a:chOff x="1508040" y="3414600"/>
              <a:chExt cx="2777400" cy="1244880"/>
            </a:xfrm>
          </p:grpSpPr>
          <p:grpSp>
            <p:nvGrpSpPr>
              <p:cNvPr id="164" name=""/>
              <p:cNvGrpSpPr/>
              <p:nvPr/>
            </p:nvGrpSpPr>
            <p:grpSpPr>
              <a:xfrm>
                <a:off x="1508040" y="3414600"/>
                <a:ext cx="2777400" cy="1244880"/>
                <a:chOff x="1508040" y="3414600"/>
                <a:chExt cx="2777400" cy="1244880"/>
              </a:xfrm>
            </p:grpSpPr>
            <p:grpSp>
              <p:nvGrpSpPr>
                <p:cNvPr id="165" name=""/>
                <p:cNvGrpSpPr/>
                <p:nvPr/>
              </p:nvGrpSpPr>
              <p:grpSpPr>
                <a:xfrm>
                  <a:off x="1508040" y="3414600"/>
                  <a:ext cx="2777400" cy="1244880"/>
                  <a:chOff x="1508040" y="3414600"/>
                  <a:chExt cx="2777400" cy="1244880"/>
                </a:xfrm>
              </p:grpSpPr>
              <p:sp>
                <p:nvSpPr>
                  <p:cNvPr id="166" name="AutoShape 75"/>
                  <p:cNvSpPr/>
                  <p:nvPr/>
                </p:nvSpPr>
                <p:spPr>
                  <a:xfrm rot="18900000">
                    <a:off x="3281040" y="3541680"/>
                    <a:ext cx="768240" cy="984960"/>
                  </a:xfrm>
                  <a:prstGeom prst="rightArrow">
                    <a:avLst>
                      <a:gd name="adj1" fmla="val 70389"/>
                      <a:gd name="adj2" fmla="val 65694"/>
                    </a:avLst>
                  </a:prstGeom>
                  <a:solidFill>
                    <a:srgbClr val="ffffff">
                      <a:alpha val="72000"/>
                    </a:srgbClr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圆角矩形 31"/>
                  <p:cNvSpPr/>
                  <p:nvPr/>
                </p:nvSpPr>
                <p:spPr>
                  <a:xfrm>
                    <a:off x="1508040" y="3970440"/>
                    <a:ext cx="1836720" cy="689040"/>
                  </a:xfrm>
                  <a:prstGeom prst="roundRect">
                    <a:avLst>
                      <a:gd name="adj" fmla="val 3278"/>
                    </a:avLst>
                  </a:prstGeom>
                  <a:solidFill>
                    <a:srgbClr val="ffffff">
                      <a:alpha val="72000"/>
                    </a:srgbClr>
                  </a:solidFill>
                  <a:ln w="64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3015360" y="3969720"/>
                  <a:ext cx="702000" cy="689760"/>
                  <a:chOff x="3015360" y="3969720"/>
                  <a:chExt cx="702000" cy="689760"/>
                </a:xfrm>
              </p:grpSpPr>
              <p:sp>
                <p:nvSpPr>
                  <p:cNvPr id="169" name="椭圆 26"/>
                  <p:cNvSpPr/>
                  <p:nvPr/>
                </p:nvSpPr>
                <p:spPr>
                  <a:xfrm>
                    <a:off x="3015360" y="3969720"/>
                    <a:ext cx="702000" cy="6897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808080"/>
                      </a:gs>
                    </a:gsLst>
                    <a:lin ang="81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椭圆 117"/>
                  <p:cNvSpPr/>
                  <p:nvPr/>
                </p:nvSpPr>
                <p:spPr>
                  <a:xfrm>
                    <a:off x="3036960" y="3990960"/>
                    <a:ext cx="601920" cy="5893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00b0f0"/>
                      </a:gs>
                      <a:gs pos="100000">
                        <a:srgbClr val="004376"/>
                      </a:gs>
                    </a:gsLst>
                    <a:lin ang="8100000"/>
                  </a:gradFill>
                  <a:ln w="25560">
                    <a:solidFill>
                      <a:srgbClr val="ffffff"/>
                    </a:solidFill>
                    <a:miter/>
                  </a:ln>
                  <a:effectLst>
                    <a:outerShdw dist="38183" dir="2700000" blurRad="0" rotWithShape="0">
                      <a:srgbClr val="000000">
                        <a:alpha val="38000"/>
                      </a:srgbClr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71" name="Text Box 18"/>
              <p:cNvSpPr/>
              <p:nvPr/>
            </p:nvSpPr>
            <p:spPr>
              <a:xfrm>
                <a:off x="1539720" y="4160160"/>
                <a:ext cx="1451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26"/>
              <p:cNvSpPr/>
              <p:nvPr/>
            </p:nvSpPr>
            <p:spPr>
              <a:xfrm>
                <a:off x="3151440" y="414216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178520" y="3499560"/>
              <a:ext cx="2826720" cy="1188000"/>
              <a:chOff x="4178520" y="3499560"/>
              <a:chExt cx="2826720" cy="118800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4178520" y="3499560"/>
                <a:ext cx="2826720" cy="1188000"/>
                <a:chOff x="4178520" y="3499560"/>
                <a:chExt cx="2826720" cy="1188000"/>
              </a:xfrm>
            </p:grpSpPr>
            <p:grpSp>
              <p:nvGrpSpPr>
                <p:cNvPr id="175" name=""/>
                <p:cNvGrpSpPr/>
                <p:nvPr/>
              </p:nvGrpSpPr>
              <p:grpSpPr>
                <a:xfrm>
                  <a:off x="4178520" y="3499560"/>
                  <a:ext cx="2826720" cy="1188000"/>
                  <a:chOff x="4178520" y="3499560"/>
                  <a:chExt cx="2826720" cy="1188000"/>
                </a:xfrm>
              </p:grpSpPr>
              <p:grpSp>
                <p:nvGrpSpPr>
                  <p:cNvPr id="176" name=""/>
                  <p:cNvGrpSpPr/>
                  <p:nvPr/>
                </p:nvGrpSpPr>
                <p:grpSpPr>
                  <a:xfrm>
                    <a:off x="4178520" y="3499560"/>
                    <a:ext cx="2826720" cy="1188000"/>
                    <a:chOff x="4178520" y="3499560"/>
                    <a:chExt cx="2826720" cy="1188000"/>
                  </a:xfrm>
                </p:grpSpPr>
                <p:sp>
                  <p:nvSpPr>
                    <p:cNvPr id="177" name="AutoShape 69"/>
                    <p:cNvSpPr/>
                    <p:nvPr/>
                  </p:nvSpPr>
                  <p:spPr>
                    <a:xfrm flipH="1" rot="2700000">
                      <a:off x="4371480" y="3654360"/>
                      <a:ext cx="801720" cy="878400"/>
                    </a:xfrm>
                    <a:prstGeom prst="rightArrow">
                      <a:avLst>
                        <a:gd name="adj1" fmla="val 70389"/>
                        <a:gd name="adj2" fmla="val 64583"/>
                      </a:avLst>
                    </a:prstGeom>
                    <a:solidFill>
                      <a:srgbClr val="ffffff">
                        <a:alpha val="72000"/>
                      </a:srgbClr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圆角矩形 38"/>
                    <p:cNvSpPr/>
                    <p:nvPr/>
                  </p:nvSpPr>
                  <p:spPr>
                    <a:xfrm>
                      <a:off x="5088960" y="4035960"/>
                      <a:ext cx="1916280" cy="623520"/>
                    </a:xfrm>
                    <a:prstGeom prst="roundRect">
                      <a:avLst>
                        <a:gd name="adj" fmla="val 3278"/>
                      </a:avLst>
                    </a:prstGeom>
                    <a:solidFill>
                      <a:srgbClr val="ffffff">
                        <a:alpha val="72000"/>
                      </a:srgbClr>
                    </a:solidFill>
                    <a:ln w="6480">
                      <a:solidFill>
                        <a:srgbClr val="ffff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9" name=""/>
                  <p:cNvGrpSpPr/>
                  <p:nvPr/>
                </p:nvGrpSpPr>
                <p:grpSpPr>
                  <a:xfrm>
                    <a:off x="4797000" y="3969360"/>
                    <a:ext cx="702000" cy="690120"/>
                    <a:chOff x="4797000" y="3969360"/>
                    <a:chExt cx="702000" cy="690120"/>
                  </a:xfrm>
                </p:grpSpPr>
                <p:sp>
                  <p:nvSpPr>
                    <p:cNvPr id="180" name="椭圆 35"/>
                    <p:cNvSpPr/>
                    <p:nvPr/>
                  </p:nvSpPr>
                  <p:spPr>
                    <a:xfrm>
                      <a:off x="4797000" y="3969360"/>
                      <a:ext cx="702000" cy="69012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333333"/>
                        </a:gs>
                        <a:gs pos="100000">
                          <a:srgbClr val="808080"/>
                        </a:gs>
                      </a:gsLst>
                      <a:lin ang="81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椭圆 117"/>
                    <p:cNvSpPr/>
                    <p:nvPr/>
                  </p:nvSpPr>
                  <p:spPr>
                    <a:xfrm>
                      <a:off x="4819320" y="3987360"/>
                      <a:ext cx="600120" cy="592560"/>
                    </a:xfrm>
                    <a:prstGeom prst="ellipse">
                      <a:avLst/>
                    </a:prstGeom>
                    <a:gradFill rotWithShape="0">
                      <a:gsLst>
                        <a:gs pos="0">
                          <a:srgbClr val="00b0f0"/>
                        </a:gs>
                        <a:gs pos="100000">
                          <a:srgbClr val="004376"/>
                        </a:gs>
                      </a:gsLst>
                      <a:lin ang="8100000"/>
                    </a:gradFill>
                    <a:ln w="25560">
                      <a:solidFill>
                        <a:srgbClr val="ffffff"/>
                      </a:solidFill>
                      <a:miter/>
                    </a:ln>
                    <a:effectLst>
                      <a:outerShdw dist="38183" dir="2700000" blurRad="0" rotWithShape="0">
                        <a:srgbClr val="000000">
                          <a:alpha val="38000"/>
                        </a:srgbClr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82" name="Rectangle 26"/>
                <p:cNvSpPr/>
                <p:nvPr/>
              </p:nvSpPr>
              <p:spPr>
                <a:xfrm>
                  <a:off x="4933080" y="4142160"/>
                  <a:ext cx="3942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400" spc="-1" strike="noStrike">
                      <a:solidFill>
                        <a:srgbClr val="ffffff"/>
                      </a:solidFill>
                      <a:latin typeface="Calibri"/>
                      <a:ea typeface="微软雅黑"/>
                    </a:rPr>
                    <a:t>文本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Text Box 18"/>
              <p:cNvSpPr/>
              <p:nvPr/>
            </p:nvSpPr>
            <p:spPr>
              <a:xfrm>
                <a:off x="5449320" y="4160160"/>
                <a:ext cx="1513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点击添加文本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Text Box 26"/>
          <p:cNvSpPr/>
          <p:nvPr/>
        </p:nvSpPr>
        <p:spPr>
          <a:xfrm>
            <a:off x="8429760" y="142920"/>
            <a:ext cx="48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797040" y="1235160"/>
            <a:ext cx="7000920" cy="3781440"/>
            <a:chOff x="797040" y="1235160"/>
            <a:chExt cx="7000920" cy="3781440"/>
          </a:xfrm>
        </p:grpSpPr>
        <p:grpSp>
          <p:nvGrpSpPr>
            <p:cNvPr id="186" name=""/>
            <p:cNvGrpSpPr/>
            <p:nvPr/>
          </p:nvGrpSpPr>
          <p:grpSpPr>
            <a:xfrm>
              <a:off x="797040" y="1492920"/>
              <a:ext cx="7000920" cy="3523680"/>
              <a:chOff x="797040" y="1492920"/>
              <a:chExt cx="7000920" cy="3523680"/>
            </a:xfrm>
          </p:grpSpPr>
          <p:sp>
            <p:nvSpPr>
              <p:cNvPr id="187" name="AutoShape 5"/>
              <p:cNvSpPr/>
              <p:nvPr/>
            </p:nvSpPr>
            <p:spPr>
              <a:xfrm>
                <a:off x="797040" y="1492920"/>
                <a:ext cx="7000920" cy="3523680"/>
              </a:xfrm>
              <a:prstGeom prst="roundRect">
                <a:avLst>
                  <a:gd name="adj" fmla="val 3231"/>
                </a:avLst>
              </a:prstGeom>
              <a:noFill/>
              <a:ln w="2556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pPr algn="ctr">
                  <a:lnSpc>
                    <a:spcPct val="1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Rectangle 9"/>
              <p:cNvSpPr/>
              <p:nvPr/>
            </p:nvSpPr>
            <p:spPr>
              <a:xfrm>
                <a:off x="911880" y="1598400"/>
                <a:ext cx="6770880" cy="3312000"/>
              </a:xfrm>
              <a:prstGeom prst="roundRect">
                <a:avLst>
                  <a:gd name="adj" fmla="val 3486"/>
                </a:avLst>
              </a:prstGeom>
              <a:solidFill>
                <a:srgbClr val="ffffff">
                  <a:alpha val="72000"/>
                </a:srgbClr>
              </a:solidFill>
              <a:ln w="64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1437480" y="1235160"/>
              <a:ext cx="5765400" cy="508680"/>
              <a:chOff x="1437480" y="1235160"/>
              <a:chExt cx="5765400" cy="508680"/>
            </a:xfrm>
          </p:grpSpPr>
          <p:grpSp>
            <p:nvGrpSpPr>
              <p:cNvPr id="190" name=""/>
              <p:cNvGrpSpPr/>
              <p:nvPr/>
            </p:nvGrpSpPr>
            <p:grpSpPr>
              <a:xfrm>
                <a:off x="1437480" y="1235160"/>
                <a:ext cx="5765400" cy="508680"/>
                <a:chOff x="1437480" y="1235160"/>
                <a:chExt cx="5765400" cy="508680"/>
              </a:xfrm>
            </p:grpSpPr>
            <p:sp>
              <p:nvSpPr>
                <p:cNvPr id="191" name="AutoShape 3"/>
                <p:cNvSpPr/>
                <p:nvPr/>
              </p:nvSpPr>
              <p:spPr>
                <a:xfrm>
                  <a:off x="1437840" y="1235160"/>
                  <a:ext cx="5765040" cy="50868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333333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AutoShape 3"/>
                <p:cNvSpPr/>
                <p:nvPr/>
              </p:nvSpPr>
              <p:spPr>
                <a:xfrm>
                  <a:off x="1437480" y="1312920"/>
                  <a:ext cx="5763600" cy="354240"/>
                </a:xfrm>
                <a:prstGeom prst="roundRect">
                  <a:avLst>
                    <a:gd name="adj" fmla="val 16667"/>
                  </a:avLst>
                </a:prstGeom>
                <a:gradFill rotWithShape="0">
                  <a:gsLst>
                    <a:gs pos="0">
                      <a:srgbClr val="00b0f0"/>
                    </a:gs>
                    <a:gs pos="100000">
                      <a:srgbClr val="004376"/>
                    </a:gs>
                  </a:gsLst>
                  <a:lin ang="8100000"/>
                </a:gradFill>
                <a:ln w="25560">
                  <a:solidFill>
                    <a:srgbClr val="ffffff"/>
                  </a:solidFill>
                  <a:miter/>
                </a:ln>
                <a:effectLst>
                  <a:outerShdw dist="38183" dir="2700000" blurRad="0" rotWithShape="0">
                    <a:srgbClr val="000000">
                      <a:alpha val="38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" name="Rectangle 13"/>
              <p:cNvSpPr/>
              <p:nvPr/>
            </p:nvSpPr>
            <p:spPr>
              <a:xfrm>
                <a:off x="3815640" y="130968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1200240" y="2079360"/>
              <a:ext cx="6119280" cy="2663640"/>
              <a:chOff x="1200240" y="2079360"/>
              <a:chExt cx="6119280" cy="2663640"/>
            </a:xfrm>
          </p:grpSpPr>
          <p:sp>
            <p:nvSpPr>
              <p:cNvPr id="195" name="Line 11"/>
              <p:cNvSpPr/>
              <p:nvPr/>
            </p:nvSpPr>
            <p:spPr>
              <a:xfrm>
                <a:off x="2719800" y="2474640"/>
                <a:ext cx="1080" cy="191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12"/>
              <p:cNvSpPr/>
              <p:nvPr/>
            </p:nvSpPr>
            <p:spPr>
              <a:xfrm>
                <a:off x="4289040" y="2474640"/>
                <a:ext cx="1080" cy="191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13"/>
              <p:cNvSpPr/>
              <p:nvPr/>
            </p:nvSpPr>
            <p:spPr>
              <a:xfrm>
                <a:off x="5848200" y="2474640"/>
                <a:ext cx="2520" cy="1917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Text Box 56"/>
              <p:cNvSpPr/>
              <p:nvPr/>
            </p:nvSpPr>
            <p:spPr>
              <a:xfrm>
                <a:off x="1648440" y="44359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57"/>
              <p:cNvSpPr/>
              <p:nvPr/>
            </p:nvSpPr>
            <p:spPr>
              <a:xfrm>
                <a:off x="3216600" y="44359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58"/>
              <p:cNvSpPr/>
              <p:nvPr/>
            </p:nvSpPr>
            <p:spPr>
              <a:xfrm>
                <a:off x="4787280" y="44359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Text Box 59"/>
              <p:cNvSpPr/>
              <p:nvPr/>
            </p:nvSpPr>
            <p:spPr>
              <a:xfrm>
                <a:off x="6364800" y="44359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添加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AutoShape 25"/>
              <p:cNvSpPr/>
              <p:nvPr/>
            </p:nvSpPr>
            <p:spPr>
              <a:xfrm>
                <a:off x="1485720" y="4275360"/>
                <a:ext cx="452160" cy="12060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1260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AutoShape 26"/>
              <p:cNvSpPr/>
              <p:nvPr/>
            </p:nvSpPr>
            <p:spPr>
              <a:xfrm>
                <a:off x="3048120" y="3999240"/>
                <a:ext cx="450720" cy="39672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1260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AutoShape 27"/>
              <p:cNvSpPr/>
              <p:nvPr/>
            </p:nvSpPr>
            <p:spPr>
              <a:xfrm>
                <a:off x="4618080" y="3608640"/>
                <a:ext cx="452160" cy="78732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1260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AutoShape 28"/>
              <p:cNvSpPr/>
              <p:nvPr/>
            </p:nvSpPr>
            <p:spPr>
              <a:xfrm>
                <a:off x="6179040" y="3490920"/>
                <a:ext cx="450720" cy="905040"/>
              </a:xfrm>
              <a:prstGeom prst="rect">
                <a:avLst/>
              </a:prstGeom>
              <a:solidFill>
                <a:srgbClr val="ffffff">
                  <a:alpha val="70000"/>
                </a:srgbClr>
              </a:solidFill>
              <a:ln w="1260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AutoShape 29"/>
              <p:cNvSpPr/>
              <p:nvPr/>
            </p:nvSpPr>
            <p:spPr>
              <a:xfrm>
                <a:off x="1938600" y="3413160"/>
                <a:ext cx="439920" cy="983160"/>
              </a:xfrm>
              <a:prstGeom prst="rect">
                <a:avLst/>
              </a:prstGeom>
              <a:solidFill>
                <a:srgbClr val="0070c0">
                  <a:alpha val="50000"/>
                </a:srgbClr>
              </a:solidFill>
              <a:ln w="1260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AutoShape 30"/>
              <p:cNvSpPr/>
              <p:nvPr/>
            </p:nvSpPr>
            <p:spPr>
              <a:xfrm>
                <a:off x="3498120" y="3568320"/>
                <a:ext cx="452880" cy="828000"/>
              </a:xfrm>
              <a:prstGeom prst="rect">
                <a:avLst/>
              </a:prstGeom>
              <a:solidFill>
                <a:srgbClr val="0070c0">
                  <a:alpha val="50000"/>
                </a:srgbClr>
              </a:solidFill>
              <a:ln w="1260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AutoShape 31"/>
              <p:cNvSpPr/>
              <p:nvPr/>
            </p:nvSpPr>
            <p:spPr>
              <a:xfrm>
                <a:off x="5070240" y="3092400"/>
                <a:ext cx="439920" cy="1303920"/>
              </a:xfrm>
              <a:prstGeom prst="rect">
                <a:avLst/>
              </a:prstGeom>
              <a:solidFill>
                <a:srgbClr val="0070c0">
                  <a:alpha val="50000"/>
                </a:srgbClr>
              </a:solidFill>
              <a:ln w="1260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AutoShape 32"/>
              <p:cNvSpPr/>
              <p:nvPr/>
            </p:nvSpPr>
            <p:spPr>
              <a:xfrm>
                <a:off x="6629400" y="3329640"/>
                <a:ext cx="442800" cy="1066680"/>
              </a:xfrm>
              <a:prstGeom prst="rect">
                <a:avLst/>
              </a:prstGeom>
              <a:solidFill>
                <a:srgbClr val="0070c0">
                  <a:alpha val="50000"/>
                </a:srgbClr>
              </a:solidFill>
              <a:ln w="1260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 Box 56"/>
              <p:cNvSpPr/>
              <p:nvPr/>
            </p:nvSpPr>
            <p:spPr>
              <a:xfrm>
                <a:off x="1967760" y="31510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Text Box 56"/>
              <p:cNvSpPr/>
              <p:nvPr/>
            </p:nvSpPr>
            <p:spPr>
              <a:xfrm>
                <a:off x="1524960" y="401652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Text Box 56"/>
              <p:cNvSpPr/>
              <p:nvPr/>
            </p:nvSpPr>
            <p:spPr>
              <a:xfrm>
                <a:off x="3343320" y="3292560"/>
                <a:ext cx="75564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Text Box 56"/>
              <p:cNvSpPr/>
              <p:nvPr/>
            </p:nvSpPr>
            <p:spPr>
              <a:xfrm>
                <a:off x="3082320" y="373068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Text Box 56"/>
              <p:cNvSpPr/>
              <p:nvPr/>
            </p:nvSpPr>
            <p:spPr>
              <a:xfrm>
                <a:off x="4962600" y="2793960"/>
                <a:ext cx="6840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Text Box 56"/>
              <p:cNvSpPr/>
              <p:nvPr/>
            </p:nvSpPr>
            <p:spPr>
              <a:xfrm>
                <a:off x="4638240" y="334332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Text Box 56"/>
              <p:cNvSpPr/>
              <p:nvPr/>
            </p:nvSpPr>
            <p:spPr>
              <a:xfrm>
                <a:off x="6601320" y="3079800"/>
                <a:ext cx="5904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56"/>
              <p:cNvSpPr/>
              <p:nvPr/>
            </p:nvSpPr>
            <p:spPr>
              <a:xfrm>
                <a:off x="6206760" y="3225960"/>
                <a:ext cx="394200" cy="30708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2f4d71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Calibri"/>
                    <a:ea typeface="微软雅黑"/>
                  </a:rPr>
                  <a:t>文本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8"/>
              <p:cNvSpPr/>
              <p:nvPr/>
            </p:nvSpPr>
            <p:spPr>
              <a:xfrm>
                <a:off x="1208520" y="2079360"/>
                <a:ext cx="0" cy="231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8"/>
              <p:cNvSpPr/>
              <p:nvPr/>
            </p:nvSpPr>
            <p:spPr>
              <a:xfrm>
                <a:off x="1200240" y="4391640"/>
                <a:ext cx="6119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Text Box 26"/>
          <p:cNvSpPr/>
          <p:nvPr/>
        </p:nvSpPr>
        <p:spPr>
          <a:xfrm>
            <a:off x="8429760" y="142920"/>
            <a:ext cx="48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52545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26"/>
          <p:cNvSpPr/>
          <p:nvPr/>
        </p:nvSpPr>
        <p:spPr>
          <a:xfrm>
            <a:off x="8429760" y="142920"/>
            <a:ext cx="48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9" descr=""/>
          <p:cNvPicPr/>
          <p:nvPr/>
        </p:nvPicPr>
        <p:blipFill>
          <a:blip r:embed="rId1"/>
          <a:stretch/>
        </p:blipFill>
        <p:spPr>
          <a:xfrm>
            <a:off x="1725480" y="828720"/>
            <a:ext cx="5681880" cy="3762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图片 5" descr="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pic>
        <p:nvPicPr>
          <p:cNvPr id="225" name="TextBox 6" descr=""/>
          <p:cNvPicPr/>
          <p:nvPr/>
        </p:nvPicPr>
        <p:blipFill>
          <a:blip r:embed="rId2"/>
          <a:stretch/>
        </p:blipFill>
        <p:spPr>
          <a:xfrm>
            <a:off x="6192720" y="4572000"/>
            <a:ext cx="2963880" cy="84780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958680" y="5099040"/>
            <a:ext cx="44247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4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07:16:09Z</dcterms:created>
  <dc:creator/>
  <dc:description/>
  <dc:language>en-US</dc:language>
  <cp:lastModifiedBy>chenkui</cp:lastModifiedBy>
  <dcterms:modified xsi:type="dcterms:W3CDTF">2014-11-21T01:21:34Z</dcterms:modified>
  <cp:revision>2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