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282-B423-4AE7-9A97-A79B28DD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312-C2DA-4303-85CE-1A99317A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B66-9679-474B-A2A3-6CB400FB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AA7-C2CE-48F6-A29B-60ACCD3D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65BF-E362-4D5E-A0AB-30EE4528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C639-CE09-47BE-A8B4-1E8641A6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9CA4-4466-47EF-A0F7-67950248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A71E-38F1-4E19-8CD0-A4C5F3AB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74C2-0B74-4136-813E-F689BBF9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B338-84D5-4B7E-BF50-C3D097F8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9B95-280F-4D12-9F9F-885DF060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BB6-901E-46E9-BEE2-25A5A3BA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B106-8356-4C40-8507-58B30A8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0D38-3C01-4EFC-9663-9D1DD09F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4F2A-4235-41C8-997E-2759C0D9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457F-8A17-488B-88ED-85EE1A87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C265-F383-4CED-A5A4-636DAEAF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CE4-C1D0-4483-B355-1C819739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CE0-5769-455E-84B2-E287624C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3D4-65F1-46F2-9F50-4E68DE00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AED-D30C-40C0-B2D2-914C346A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8AE-A971-4EF6-B888-86B649C9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AE6-0634-4574-A5E8-B14CD2BD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163-B8C3-4656-9E9A-4EF16B0D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0D41-64B8-42D4-B5BD-6AE610348D1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3B05-D2F2-4836-AAA6-7F5B68CA0D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9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9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00080" y="-74520"/>
            <a:ext cx="9282240" cy="695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37402" t="38709" r="35835" b="21386"/>
          <a:stretch/>
        </p:blipFill>
        <p:spPr>
          <a:xfrm>
            <a:off x="3060720" y="2298600"/>
            <a:ext cx="2685960" cy="3002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73942" r="80252" b="0"/>
          <a:stretch/>
        </p:blipFill>
        <p:spPr>
          <a:xfrm>
            <a:off x="-101520" y="5045040"/>
            <a:ext cx="1973160" cy="1959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15764" t="54593" r="59031" b="0"/>
          <a:stretch/>
        </p:blipFill>
        <p:spPr>
          <a:xfrm>
            <a:off x="1476360" y="3862440"/>
            <a:ext cx="2270160" cy="3068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rcRect l="57472" t="47832" r="17331" b="2142"/>
          <a:stretch/>
        </p:blipFill>
        <p:spPr>
          <a:xfrm>
            <a:off x="5627520" y="3139920"/>
            <a:ext cx="2544840" cy="3791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rcRect l="79591" t="60241" r="0" b="0"/>
          <a:stretch/>
        </p:blipFill>
        <p:spPr>
          <a:xfrm>
            <a:off x="7254720" y="4222800"/>
            <a:ext cx="1854360" cy="2709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rcRect l="34764" t="46457" r="32283" b="0"/>
          <a:stretch/>
        </p:blipFill>
        <p:spPr>
          <a:xfrm>
            <a:off x="2844720" y="2997360"/>
            <a:ext cx="3167280" cy="38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rcRect l="22228" t="22509" r="20976" b="13837"/>
          <a:stretch/>
        </p:blipFill>
        <p:spPr>
          <a:xfrm>
            <a:off x="1692360" y="1254240"/>
            <a:ext cx="5327640" cy="4479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37402" t="38709" r="35835" b="21386"/>
          <a:stretch/>
        </p:blipFill>
        <p:spPr>
          <a:xfrm>
            <a:off x="3276720" y="2227320"/>
            <a:ext cx="2685960" cy="300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34764" t="46457" r="32283" b="0"/>
          <a:stretch/>
        </p:blipFill>
        <p:spPr>
          <a:xfrm>
            <a:off x="3060720" y="2997360"/>
            <a:ext cx="3166920" cy="3862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rcRect l="22228" t="22509" r="20976" b="13837"/>
          <a:stretch/>
        </p:blipFill>
        <p:spPr>
          <a:xfrm>
            <a:off x="1908000" y="1197000"/>
            <a:ext cx="5328000" cy="4479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69320" y="20750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93120" y="20750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98000" y="3422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1120" y="3422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24600" y="4646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93120" y="4646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7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8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8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9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10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8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74488" t="25753" r="0" b="0"/>
          <a:stretch/>
        </p:blipFill>
        <p:spPr>
          <a:xfrm>
            <a:off x="8353440" y="4294080"/>
            <a:ext cx="790560" cy="172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74488" t="25753" r="0" b="0"/>
          <a:stretch/>
        </p:blipFill>
        <p:spPr>
          <a:xfrm>
            <a:off x="77598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74488" t="25753" r="0" b="0"/>
          <a:stretch/>
        </p:blipFill>
        <p:spPr>
          <a:xfrm>
            <a:off x="4446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rcRect l="74488" t="25753" r="0" b="0"/>
          <a:stretch/>
        </p:blipFill>
        <p:spPr>
          <a:xfrm>
            <a:off x="49320" y="4510080"/>
            <a:ext cx="691920" cy="151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32748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rcRect l="0" t="50931" r="0" b="38339"/>
          <a:stretch/>
        </p:blipFill>
        <p:spPr>
          <a:xfrm>
            <a:off x="-27000" y="6045120"/>
            <a:ext cx="9171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81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74488" t="25753" r="0" b="0"/>
          <a:stretch/>
        </p:blipFill>
        <p:spPr>
          <a:xfrm>
            <a:off x="8353440" y="4294080"/>
            <a:ext cx="790560" cy="1727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74488" t="25753" r="0" b="0"/>
          <a:stretch/>
        </p:blipFill>
        <p:spPr>
          <a:xfrm>
            <a:off x="77598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rcRect l="74488" t="25753" r="0" b="0"/>
          <a:stretch/>
        </p:blipFill>
        <p:spPr>
          <a:xfrm>
            <a:off x="4446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rcRect l="74488" t="25753" r="0" b="0"/>
          <a:stretch/>
        </p:blipFill>
        <p:spPr>
          <a:xfrm>
            <a:off x="49320" y="4510080"/>
            <a:ext cx="691920" cy="1511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32748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rcRect l="40945" t="45795" r="38583" b="31118"/>
          <a:stretch/>
        </p:blipFill>
        <p:spPr>
          <a:xfrm>
            <a:off x="444600" y="1808280"/>
            <a:ext cx="468360" cy="396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rcRect l="40945" t="45795" r="38583" b="31118"/>
          <a:stretch/>
        </p:blipFill>
        <p:spPr>
          <a:xfrm>
            <a:off x="444600" y="285264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rcRect l="40945" t="45795" r="38583" b="31118"/>
          <a:stretch/>
        </p:blipFill>
        <p:spPr>
          <a:xfrm>
            <a:off x="457200" y="386064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rcRect l="0" t="50931" r="0" b="38339"/>
          <a:stretch/>
        </p:blipFill>
        <p:spPr>
          <a:xfrm>
            <a:off x="912960" y="1736640"/>
            <a:ext cx="7559640" cy="46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rcRect l="0" t="50931" r="0" b="38339"/>
          <a:stretch/>
        </p:blipFill>
        <p:spPr>
          <a:xfrm>
            <a:off x="-27000" y="6045120"/>
            <a:ext cx="9171000" cy="836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67320" y="183816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1"/>
          <a:srcRect l="0" t="50931" r="0" b="38339"/>
          <a:stretch/>
        </p:blipFill>
        <p:spPr>
          <a:xfrm>
            <a:off x="925560" y="2781360"/>
            <a:ext cx="7559640" cy="46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rcRect l="0" t="50931" r="0" b="38339"/>
          <a:stretch/>
        </p:blipFill>
        <p:spPr>
          <a:xfrm>
            <a:off x="912960" y="3860640"/>
            <a:ext cx="7559640" cy="468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67320" y="28526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7320" y="38606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124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20808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74488" t="25753" r="0" b="0"/>
          <a:stretch/>
        </p:blipFill>
        <p:spPr>
          <a:xfrm>
            <a:off x="8353440" y="4294080"/>
            <a:ext cx="790560" cy="172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74488" t="25753" r="0" b="0"/>
          <a:stretch/>
        </p:blipFill>
        <p:spPr>
          <a:xfrm>
            <a:off x="77598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74488" t="25753" r="0" b="0"/>
          <a:stretch/>
        </p:blipFill>
        <p:spPr>
          <a:xfrm>
            <a:off x="4446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rcRect l="74488" t="25753" r="0" b="0"/>
          <a:stretch/>
        </p:blipFill>
        <p:spPr>
          <a:xfrm>
            <a:off x="49320" y="4510080"/>
            <a:ext cx="69192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1038240" y="1700280"/>
            <a:ext cx="44704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rcRect l="0" t="50931" r="0" b="38339"/>
          <a:stretch/>
        </p:blipFill>
        <p:spPr>
          <a:xfrm>
            <a:off x="2627280" y="2781360"/>
            <a:ext cx="4321080" cy="468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4356000" y="3825720"/>
            <a:ext cx="4498920" cy="46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rcRect l="0" t="0" r="90630" b="0"/>
          <a:stretch/>
        </p:blipFill>
        <p:spPr>
          <a:xfrm>
            <a:off x="444600" y="1700280"/>
            <a:ext cx="419040" cy="468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rcRect l="0" t="50931" r="96504" b="38339"/>
          <a:stretch/>
        </p:blipFill>
        <p:spPr>
          <a:xfrm>
            <a:off x="2089080" y="2781360"/>
            <a:ext cx="395280" cy="468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rcRect l="0" t="0" r="90630" b="0"/>
          <a:stretch/>
        </p:blipFill>
        <p:spPr>
          <a:xfrm>
            <a:off x="3780000" y="3825720"/>
            <a:ext cx="419040" cy="46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71480" y="54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74488" t="25753" r="0" b="0"/>
          <a:stretch/>
        </p:blipFill>
        <p:spPr>
          <a:xfrm>
            <a:off x="8353440" y="4294080"/>
            <a:ext cx="790560" cy="172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74488" t="25753" r="0" b="0"/>
          <a:stretch/>
        </p:blipFill>
        <p:spPr>
          <a:xfrm>
            <a:off x="77598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rcRect l="74488" t="25753" r="0" b="0"/>
          <a:stretch/>
        </p:blipFill>
        <p:spPr>
          <a:xfrm>
            <a:off x="4446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rcRect l="74488" t="25753" r="0" b="0"/>
          <a:stretch/>
        </p:blipFill>
        <p:spPr>
          <a:xfrm>
            <a:off x="49320" y="4510080"/>
            <a:ext cx="69192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2748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rcRect l="40945" t="45795" r="38583" b="31118"/>
          <a:stretch/>
        </p:blipFill>
        <p:spPr>
          <a:xfrm>
            <a:off x="444600" y="1808280"/>
            <a:ext cx="468360" cy="396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rcRect l="40945" t="45795" r="38583" b="31118"/>
          <a:stretch/>
        </p:blipFill>
        <p:spPr>
          <a:xfrm>
            <a:off x="444600" y="285264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rcRect l="40945" t="45795" r="38583" b="31118"/>
          <a:stretch/>
        </p:blipFill>
        <p:spPr>
          <a:xfrm>
            <a:off x="457200" y="386064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rcRect l="0" t="50931" r="0" b="38339"/>
          <a:stretch/>
        </p:blipFill>
        <p:spPr>
          <a:xfrm>
            <a:off x="912960" y="1736640"/>
            <a:ext cx="7559640" cy="46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rcRect l="0" t="50931" r="0" b="38339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7320" y="183816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0"/>
          <a:srcRect l="0" t="50931" r="0" b="38339"/>
          <a:stretch/>
        </p:blipFill>
        <p:spPr>
          <a:xfrm>
            <a:off x="925560" y="2781360"/>
            <a:ext cx="7559640" cy="46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rcRect l="0" t="50931" r="0" b="38339"/>
          <a:stretch/>
        </p:blipFill>
        <p:spPr>
          <a:xfrm>
            <a:off x="912960" y="3860640"/>
            <a:ext cx="7559640" cy="468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67320" y="28526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67320" y="38606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011480" y="1770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b05"/>
                </a:solidFill>
                <a:latin typeface="Arial"/>
                <a:ea typeface="经典综艺体简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32920" y="257004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ANK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45640" y="61722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Dell</cp:lastModifiedBy>
  <cp:lastPrinted>1899-12-30T00:00:00Z</cp:lastPrinted>
  <dcterms:modified xsi:type="dcterms:W3CDTF">2014-06-03T08:38:30Z</dcterms:modified>
  <cp:revision>10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