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BC1-264F-4963-889A-5C2A52B3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29A-2409-4690-9EFE-A8B93884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171-B286-4D06-B4FD-A4EEF98E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718-B6D3-4543-9305-86A3C2CB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052C-3027-46F9-978A-09EE5B32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6236-E21C-4D10-AD00-09B4997D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41E8-DA6C-4682-B6A5-849DC484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6350-2FE5-4151-B71B-F8207F6C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48AF-98F2-48EE-B365-C4549B5B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07E0-350F-4AD8-A749-3FA06191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3CFC-6F6A-445F-AB64-2B49EAC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963-6EF6-4F59-AE46-BC805EFE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188A-657F-4841-8CA4-7447ADAF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006-2B92-4820-B10C-913B436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B34C-E6C4-4F0F-BBFA-2F454F00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486E-4882-4F0E-9AF7-C6F8AA61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04E7-E3DB-43C2-BE80-34B7682F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AC24-46E2-4D13-803D-94C99F2D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6E9B6-A3AA-486A-8029-A77E0F6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BF83F-525D-4D35-9588-7E55425C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220F-6DF6-4AE6-83D2-4EA670F6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68A41-3734-4D51-A5D7-2297D4D6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04D-C264-4BFE-B198-13C17D2F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28D2D-52BF-47DD-9181-31E2306D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79081-E987-4DD1-A7D7-98D37FB4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8267-3685-4E06-A2F3-5190164A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BAEB3-A202-43E9-A733-A50953FB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7FB9-85D7-4673-AB2E-A94CBF04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4DDE-C3C4-47AF-ADFC-C4328B94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0B2C-971A-4BA2-928C-AA537F3E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679-71DB-4B99-942E-1848D879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29A-59B6-4587-B99E-62593525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AFD-DEE2-4325-BBDE-E3979426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A62-C3C9-4C50-A90F-726B99BC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E97-DEBB-4EC8-924E-DBF3747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462-FF37-4704-A622-C762E80A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9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57DC-06A4-4B23-AF3E-D05AA537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F82A-0874-439D-A874-A30403CB9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80360" cy="6907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94E4-F4FA-4518-AFA2-125DDEC53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2988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4:23:16Z</dcterms:created>
  <dc:creator>Administrator</dc:creator>
  <dc:description/>
  <dc:language>en-US</dc:language>
  <cp:lastModifiedBy/>
  <cp:lastPrinted>1899-12-30T00:00:00Z</cp:lastPrinted>
  <dcterms:modified xsi:type="dcterms:W3CDTF">2014-05-21T03:21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