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FB43-08D5-4CE9-A24C-06FE19A2E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85CC-B0ED-4776-AF4E-2CE7680CF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06AB-A5CA-40DD-A229-68A05D654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6329-17DE-4D57-9C1F-52D024DEA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692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BB7B-1D82-476E-BC9F-6C807CCF3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0EE1-5488-4197-93B1-C792A5DD9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6228-BF44-47A7-A5AC-A9B2CFD27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A709-B3E4-4AFE-86DC-361ECF53E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19692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1C01-A391-44B2-A272-2DBCF6490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992A-34C2-4417-AE19-9E5099C21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9CC6-FA11-473C-8899-454CD4B32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6744-346C-4D84-BE10-63AAD35B8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d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774D984-B7DB-4E97-BB70-D130218C499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9800" y="3726000"/>
            <a:ext cx="5399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de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de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9800" y="3726000"/>
            <a:ext cx="5399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480492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98200" y="6486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727E-DF65-4114-A00E-F6DEBAD0E8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9800" y="3726000"/>
            <a:ext cx="5399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谢谢观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480492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7200" y="615312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4800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4800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4800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4800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BA74-96B4-4809-B1C1-FD50F22129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cp:lastPrinted>1899-12-30T00:00:00Z</cp:lastPrinted>
  <dcterms:modified xsi:type="dcterms:W3CDTF">2014-05-16T06:50:41Z</dcterms:modified>
  <cp:revision>1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