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3799-32C3-48FC-AD4E-A44171642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C96A-8504-4AC9-9330-27A6E9848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27FB-4818-4F19-9788-EEE505CCA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EC9-0BD0-4BF2-9CEF-279B52956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7440"/>
            <a:ext cx="7772400" cy="45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E196-CC4C-4CAA-906A-9709766D3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3526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36313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F1DF-F05E-4638-8F20-7783EA9DF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471C-9267-4348-99C8-5917F2E6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F003-CC68-415D-B199-8E983D0D8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7440"/>
            <a:ext cx="7772400" cy="45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0A90-F204-4F54-B22C-5982A7C29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55B0-BBB5-4CFC-A103-46C970650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36313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0E51-9EB5-46C0-A4EC-B63596003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3526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6313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3782-B6D7-4104-AE3C-702413746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3d81bf"/>
              </a:gs>
              <a:gs pos="100000">
                <a:srgbClr val="b4ce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ebf1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4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581280" y="6536880"/>
            <a:ext cx="22860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d81b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27C5-24E8-4AAD-9F1A-1B10BD66F4C3}" type="slidenum">
              <a:rPr b="0" lang="en-US" sz="1400" spc="-1" strike="noStrike">
                <a:solidFill>
                  <a:srgbClr val="3d81b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d4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ad4c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1d1d3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81b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ad4c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81b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3d81b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d81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d81b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7440"/>
            <a:ext cx="77724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Verdana"/>
              </a:rPr>
              <a:t>韩国风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i="1" lang="zh-CN" sz="36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83" name="未知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3f615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563868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68add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6b098"/>
              </a:gs>
              <a:gs pos="100000">
                <a:srgbClr val="e1c7b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d4cd"/>
              </a:gs>
              <a:gs pos="100000">
                <a:srgbClr val="ace0d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219320" y="1219320"/>
            <a:ext cx="5786280" cy="5077800"/>
            <a:chOff x="1219320" y="1219320"/>
            <a:chExt cx="5786280" cy="5077800"/>
          </a:xfrm>
        </p:grpSpPr>
        <p:sp>
          <p:nvSpPr>
            <p:cNvPr id="218" name=""/>
            <p:cNvSpPr/>
            <p:nvPr/>
          </p:nvSpPr>
          <p:spPr>
            <a:xfrm>
              <a:off x="5133960" y="20793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8400" y="37652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840" y="57909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44272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3770000">
              <a:off x="4678560" y="365328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856000">
              <a:off x="2695320" y="32079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633840" y="1901520"/>
              <a:ext cx="1699200" cy="1836000"/>
              <a:chOff x="3633840" y="1901520"/>
              <a:chExt cx="1699200" cy="1836000"/>
            </a:xfrm>
          </p:grpSpPr>
          <p:sp>
            <p:nvSpPr>
              <p:cNvPr id="225" name=""/>
              <p:cNvSpPr/>
              <p:nvPr/>
            </p:nvSpPr>
            <p:spPr>
              <a:xfrm rot="18394200">
                <a:off x="4805640" y="2113560"/>
                <a:ext cx="5943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633840" y="2152800"/>
                <a:ext cx="1609560" cy="1584720"/>
                <a:chOff x="3633840" y="2152800"/>
                <a:chExt cx="1609560" cy="1584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33840" y="2152800"/>
                  <a:ext cx="1609560" cy="158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>
                  <a:off x="3817800" y="2179080"/>
                  <a:ext cx="1241640" cy="59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3720600" y="2842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043600" y="1219320"/>
              <a:ext cx="891720" cy="861480"/>
              <a:chOff x="5043600" y="1219320"/>
              <a:chExt cx="891720" cy="86148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043600" y="1219320"/>
                <a:ext cx="871560" cy="861480"/>
                <a:chOff x="5043600" y="1219320"/>
                <a:chExt cx="871560" cy="861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043600" y="12193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>
                  <a:off x="5142960" y="12333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5064120" y="1550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219320" y="2544480"/>
              <a:ext cx="1744560" cy="1790280"/>
              <a:chOff x="1219320" y="2544480"/>
              <a:chExt cx="1744560" cy="17902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219320" y="2544480"/>
                <a:ext cx="1744560" cy="1790280"/>
                <a:chOff x="1219320" y="2544480"/>
                <a:chExt cx="1744560" cy="1790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219320" y="25444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9a7f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>
                  <a:off x="1418760" y="25740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313640" y="3339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75200" y="3804840"/>
              <a:ext cx="2013120" cy="1989000"/>
              <a:chOff x="4975200" y="3804840"/>
              <a:chExt cx="2013120" cy="19890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975200" y="3804840"/>
                <a:ext cx="2013120" cy="1989000"/>
                <a:chOff x="4975200" y="3804840"/>
                <a:chExt cx="2013120" cy="1989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975200" y="38048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4a73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205240" y="38376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263560" y="46666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68ad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276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20876400">
            <a:off x="317196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0356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4172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3388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2116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20826600">
            <a:off x="132876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52440" y="3352680"/>
            <a:ext cx="1371240" cy="1441080"/>
            <a:chOff x="1252440" y="3352680"/>
            <a:chExt cx="1371240" cy="1441080"/>
          </a:xfrm>
        </p:grpSpPr>
        <p:sp>
          <p:nvSpPr>
            <p:cNvPr id="258" name=""/>
            <p:cNvSpPr/>
            <p:nvPr/>
          </p:nvSpPr>
          <p:spPr>
            <a:xfrm>
              <a:off x="125244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7044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8340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5504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288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21932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198108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0824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1904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7304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9256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5800" y="1295280"/>
            <a:ext cx="7848360" cy="4404960"/>
            <a:chOff x="685800" y="1295280"/>
            <a:chExt cx="7848360" cy="4404960"/>
          </a:xfrm>
        </p:grpSpPr>
        <p:sp>
          <p:nvSpPr>
            <p:cNvPr id="278" name=""/>
            <p:cNvSpPr/>
            <p:nvPr/>
          </p:nvSpPr>
          <p:spPr>
            <a:xfrm>
              <a:off x="2683800" y="1994400"/>
              <a:ext cx="3781440" cy="370584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68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1160" y="2921040"/>
              <a:ext cx="1926360" cy="1995120"/>
              <a:chOff x="3611160" y="2921040"/>
              <a:chExt cx="1926360" cy="1995120"/>
            </a:xfrm>
          </p:grpSpPr>
          <p:sp>
            <p:nvSpPr>
              <p:cNvPr id="280" name=""/>
              <p:cNvSpPr/>
              <p:nvPr/>
            </p:nvSpPr>
            <p:spPr>
              <a:xfrm>
                <a:off x="3611160" y="2921040"/>
                <a:ext cx="1926360" cy="19951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3d81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3831120" y="2954160"/>
                <a:ext cx="1486080" cy="75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3913920" y="3704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182120" y="1638360"/>
              <a:ext cx="641880" cy="615960"/>
              <a:chOff x="4182120" y="1638360"/>
              <a:chExt cx="641880" cy="6159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4182120" y="1638360"/>
                <a:ext cx="641880" cy="615960"/>
                <a:chOff x="4182120" y="1638360"/>
                <a:chExt cx="641880" cy="615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182120" y="1638360"/>
                  <a:ext cx="64188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b098"/>
                    </a:gs>
                    <a:gs pos="100000">
                      <a:srgbClr val="5a4a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86" name="未知"/>
                <p:cNvSpPr/>
                <p:nvPr/>
              </p:nvSpPr>
              <p:spPr>
                <a:xfrm>
                  <a:off x="4255200" y="1648440"/>
                  <a:ext cx="4953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6b09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4323600" y="17330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557880" y="4710600"/>
              <a:ext cx="345240" cy="312480"/>
              <a:chOff x="3557880" y="4710600"/>
              <a:chExt cx="345240" cy="312480"/>
            </a:xfrm>
          </p:grpSpPr>
          <p:sp>
            <p:nvSpPr>
              <p:cNvPr id="289" name=""/>
              <p:cNvSpPr/>
              <p:nvPr/>
            </p:nvSpPr>
            <p:spPr>
              <a:xfrm rot="18226800">
                <a:off x="3584880" y="4869000"/>
                <a:ext cx="124200" cy="13176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226800">
                <a:off x="3751200" y="4732920"/>
                <a:ext cx="124560" cy="131760"/>
              </a:xfrm>
              <a:prstGeom prst="ellipse">
                <a:avLst/>
              </a:prstGeom>
              <a:gradFill rotWithShape="0">
                <a:gsLst>
                  <a:gs pos="0">
                    <a:srgbClr val="84b09a"/>
                  </a:gs>
                  <a:gs pos="100000">
                    <a:srgbClr val="57746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968920" y="4983120"/>
              <a:ext cx="641880" cy="641160"/>
              <a:chOff x="2968920" y="4983120"/>
              <a:chExt cx="641880" cy="6411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968920" y="4983120"/>
                <a:ext cx="641880" cy="641160"/>
                <a:chOff x="2968920" y="4983120"/>
                <a:chExt cx="641880" cy="6411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968920" y="498312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4b09a"/>
                    </a:gs>
                    <a:gs pos="100000">
                      <a:srgbClr val="1f2a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3042000" y="499356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b0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3105360" y="5103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111360" y="2921040"/>
              <a:ext cx="639360" cy="648720"/>
              <a:chOff x="6111360" y="2921040"/>
              <a:chExt cx="639360" cy="6487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6111360" y="2921040"/>
                <a:ext cx="639360" cy="648720"/>
                <a:chOff x="6111360" y="2921040"/>
                <a:chExt cx="639360" cy="648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111360" y="2921040"/>
                  <a:ext cx="63936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d4cd"/>
                    </a:gs>
                    <a:gs pos="100000">
                      <a:srgbClr val="bae5e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6184440" y="2931480"/>
                  <a:ext cx="4932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d4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6236640" y="30099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537520" y="4987800"/>
              <a:ext cx="612360" cy="582120"/>
              <a:chOff x="5537520" y="4987800"/>
              <a:chExt cx="612360" cy="58212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537520" y="4987800"/>
                <a:ext cx="612360" cy="582120"/>
                <a:chOff x="5537520" y="4987800"/>
                <a:chExt cx="612360" cy="582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537520" y="4987800"/>
                  <a:ext cx="612360" cy="58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607360" y="4997160"/>
                  <a:ext cx="47232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671440" y="5018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469600" y="2921040"/>
              <a:ext cx="641880" cy="641160"/>
              <a:chOff x="2469600" y="2921040"/>
              <a:chExt cx="641880" cy="6411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469600" y="2921040"/>
                <a:ext cx="641880" cy="641160"/>
                <a:chOff x="2469600" y="2921040"/>
                <a:chExt cx="641880" cy="6411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469600" y="2921040"/>
                  <a:ext cx="64188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addc"/>
                    </a:gs>
                    <a:gs pos="100000">
                      <a:srgbClr val="2f4e6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2542680" y="2931480"/>
                  <a:ext cx="4953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8ad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d81b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607840" y="29923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 rot="18226800">
              <a:off x="5464080" y="483516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8226800">
              <a:off x="5321160" y="4692600"/>
              <a:ext cx="121320" cy="1288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159000" y="3322800"/>
              <a:ext cx="390600" cy="244080"/>
              <a:chOff x="3159000" y="3322800"/>
              <a:chExt cx="390600" cy="244080"/>
            </a:xfrm>
          </p:grpSpPr>
          <p:sp>
            <p:nvSpPr>
              <p:cNvPr id="314" name=""/>
              <p:cNvSpPr/>
              <p:nvPr/>
            </p:nvSpPr>
            <p:spPr>
              <a:xfrm rot="18226800">
                <a:off x="3185640" y="3345480"/>
                <a:ext cx="125280" cy="13140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b637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8226800">
                <a:off x="3397320" y="3412440"/>
                <a:ext cx="125280" cy="131400"/>
              </a:xfrm>
              <a:prstGeom prst="ellipse">
                <a:avLst/>
              </a:prstGeom>
              <a:gradFill rotWithShape="0">
                <a:gsLst>
                  <a:gs pos="0">
                    <a:srgbClr val="68addc"/>
                  </a:gs>
                  <a:gs pos="100000">
                    <a:srgbClr val="32536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43840" y="2367000"/>
              <a:ext cx="176040" cy="436320"/>
              <a:chOff x="4443840" y="2367000"/>
              <a:chExt cx="176040" cy="436320"/>
            </a:xfrm>
          </p:grpSpPr>
          <p:sp>
            <p:nvSpPr>
              <p:cNvPr id="317" name=""/>
              <p:cNvSpPr/>
              <p:nvPr/>
            </p:nvSpPr>
            <p:spPr>
              <a:xfrm rot="18226800">
                <a:off x="4470120" y="2389320"/>
                <a:ext cx="1234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04f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226800">
                <a:off x="4470120" y="2651040"/>
                <a:ext cx="123480" cy="129240"/>
              </a:xfrm>
              <a:prstGeom prst="ellipse">
                <a:avLst/>
              </a:prstGeom>
              <a:gradFill rotWithShape="0">
                <a:gsLst>
                  <a:gs pos="0">
                    <a:srgbClr val="d6b098"/>
                  </a:gs>
                  <a:gs pos="100000">
                    <a:srgbClr val="67554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rot="18226800">
              <a:off x="5838480" y="336528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226800">
              <a:off x="5606640" y="348084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a5ddd8"/>
                </a:gs>
                <a:gs pos="100000">
                  <a:srgbClr val="8ad4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0636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11160" y="1295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50720" y="307692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2200" y="5201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79760" y="52012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329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336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0188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344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3880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628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6420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7032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0560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64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085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528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358" name=""/>
            <p:cNvSpPr/>
            <p:nvPr/>
          </p:nvSpPr>
          <p:spPr>
            <a:xfrm>
              <a:off x="586764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1840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1840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612120" y="1679400"/>
              <a:ext cx="642960" cy="642960"/>
              <a:chOff x="6612120" y="1679400"/>
              <a:chExt cx="642960" cy="642960"/>
            </a:xfrm>
          </p:grpSpPr>
          <p:sp>
            <p:nvSpPr>
              <p:cNvPr id="363" name=""/>
              <p:cNvSpPr/>
              <p:nvPr/>
            </p:nvSpPr>
            <p:spPr>
              <a:xfrm>
                <a:off x="661212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1860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652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3300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6684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d81bf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054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1905120"/>
            <a:ext cx="6858000" cy="3428640"/>
            <a:chOff x="1295280" y="1905120"/>
            <a:chExt cx="6858000" cy="3428640"/>
          </a:xfrm>
        </p:grpSpPr>
        <p:sp>
          <p:nvSpPr>
            <p:cNvPr id="375" name=""/>
            <p:cNvSpPr/>
            <p:nvPr/>
          </p:nvSpPr>
          <p:spPr>
            <a:xfrm>
              <a:off x="5590080" y="26744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d6b098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42680" y="26744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4b09a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26744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8ad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0300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8ad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152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84b09a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28680" y="19051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d6b098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未知"/>
          <p:cNvSpPr/>
          <p:nvPr/>
        </p:nvSpPr>
        <p:spPr>
          <a:xfrm>
            <a:off x="5073480" y="9907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93d7d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4320" y="24242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d6b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2286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25146"/>
              </a:gs>
              <a:gs pos="50000">
                <a:srgbClr val="d6b098"/>
              </a:gs>
              <a:gs pos="100000">
                <a:srgbClr val="6251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3400" y="23623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742560" y="23526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34240" y="19224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ad4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49880" y="17794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f615e"/>
              </a:gs>
              <a:gs pos="5000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835040" y="18511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253200" y="18511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2" name="未知"/>
          <p:cNvSpPr/>
          <p:nvPr/>
        </p:nvSpPr>
        <p:spPr>
          <a:xfrm>
            <a:off x="2492280" y="14922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4b09a"/>
              </a:gs>
              <a:gs pos="100000">
                <a:srgbClr val="b7d0c4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13200" y="22575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1762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14400" y="2685960"/>
            <a:ext cx="2295360" cy="3324240"/>
            <a:chOff x="914400" y="2685960"/>
            <a:chExt cx="2295360" cy="3324240"/>
          </a:xfrm>
        </p:grpSpPr>
        <p:sp>
          <p:nvSpPr>
            <p:cNvPr id="396" name=""/>
            <p:cNvSpPr/>
            <p:nvPr/>
          </p:nvSpPr>
          <p:spPr>
            <a:xfrm>
              <a:off x="914400" y="28540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4b0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400" y="27115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3b"/>
                </a:gs>
                <a:gs pos="50000">
                  <a:srgbClr val="84b09a"/>
                </a:gs>
                <a:gs pos="100000">
                  <a:srgbClr val="3344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813760" y="27828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231200" y="27828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98600" y="26859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0720" y="31147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5053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21240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533520" y="190512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d6b09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ad4c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>
                      <a:noFill/>
                    </a:lnT>
                    <a:lnB w="5760">
                      <a:solidFill>
                        <a:srgbClr val="4b86c7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84b09a"/>
                        </a:gs>
                      </a:gsLst>
                      <a:lin ang="54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b86c7"/>
                          </a:solidFill>
                          <a:latin typeface="Arial"/>
                          <a:ea typeface="宋体"/>
                        </a:rPr>
                        <a:t>Add Title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3d81b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86c7"/>
                      </a:solidFill>
                    </a:lnL>
                    <a:lnR w="5760">
                      <a:solidFill>
                        <a:srgbClr val="4b86c7"/>
                      </a:solidFill>
                    </a:lnR>
                    <a:lnT w="5760">
                      <a:solidFill>
                        <a:srgbClr val="4b86c7"/>
                      </a:solidFill>
                    </a:lnT>
                    <a:lnB w="5760">
                      <a:solidFill>
                        <a:srgbClr val="4b86c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09680" y="3389400"/>
            <a:ext cx="5167440" cy="1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c1d1d3"/>
                </a:solidFill>
                <a:latin typeface="Verdana"/>
              </a:rPr>
              <a:t>www.themegallery.com </a:t>
            </a:r>
            <a:endParaRPr b="1" lang="en-US" sz="400" spc="-1" strike="noStrike">
              <a:solidFill>
                <a:srgbClr val="c1d1d3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512720" y="2708280"/>
            <a:ext cx="633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ddc"/>
                    </a:gs>
                    <a:gs pos="100000">
                      <a:srgbClr val="8ad4cd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ddc"/>
                  </a:gs>
                  <a:gs pos="100000">
                    <a:srgbClr val="8ad4cd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4492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ad4cd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38280" y="1981080"/>
            <a:ext cx="4495680" cy="701640"/>
            <a:chOff x="2438280" y="1981080"/>
            <a:chExt cx="4495680" cy="701640"/>
          </a:xfrm>
        </p:grpSpPr>
        <p:sp>
          <p:nvSpPr>
            <p:cNvPr id="90" name="未知"/>
            <p:cNvSpPr/>
            <p:nvPr/>
          </p:nvSpPr>
          <p:spPr>
            <a:xfrm>
              <a:off x="2438280" y="198108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5240" y="211428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438280" y="2819520"/>
            <a:ext cx="4495680" cy="701640"/>
            <a:chOff x="2438280" y="2819520"/>
            <a:chExt cx="4495680" cy="701640"/>
          </a:xfrm>
        </p:grpSpPr>
        <p:sp>
          <p:nvSpPr>
            <p:cNvPr id="93" name="未知"/>
            <p:cNvSpPr/>
            <p:nvPr/>
          </p:nvSpPr>
          <p:spPr>
            <a:xfrm>
              <a:off x="2438280" y="281952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5240" y="295272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3657600"/>
            <a:ext cx="4495680" cy="701640"/>
            <a:chOff x="2438280" y="3657600"/>
            <a:chExt cx="4495680" cy="701640"/>
          </a:xfrm>
        </p:grpSpPr>
        <p:sp>
          <p:nvSpPr>
            <p:cNvPr id="96" name="未知"/>
            <p:cNvSpPr/>
            <p:nvPr/>
          </p:nvSpPr>
          <p:spPr>
            <a:xfrm>
              <a:off x="2438280" y="365760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5240" y="379080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d9eaf5"/>
                </a:gs>
                <a:gs pos="100000">
                  <a:srgbClr val="68add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4572000"/>
            <a:ext cx="4495680" cy="701640"/>
            <a:chOff x="2438280" y="4572000"/>
            <a:chExt cx="4495680" cy="701640"/>
          </a:xfrm>
        </p:grpSpPr>
        <p:sp>
          <p:nvSpPr>
            <p:cNvPr id="99" name="未知"/>
            <p:cNvSpPr/>
            <p:nvPr/>
          </p:nvSpPr>
          <p:spPr>
            <a:xfrm>
              <a:off x="2438280" y="4572000"/>
              <a:ext cx="4495680" cy="701640"/>
            </a:xfrm>
            <a:custGeom>
              <a:avLst/>
              <a:gdLst/>
              <a:ahLst/>
              <a:rect l="l" t="t" r="r" b="b"/>
              <a:pathLst>
                <a:path w="4864" h="769">
                  <a:moveTo>
                    <a:pt x="306" y="4"/>
                  </a:moveTo>
                  <a:cubicBezTo>
                    <a:pt x="265" y="21"/>
                    <a:pt x="307" y="25"/>
                    <a:pt x="266" y="42"/>
                  </a:cubicBezTo>
                  <a:cubicBezTo>
                    <a:pt x="228" y="27"/>
                    <a:pt x="225" y="21"/>
                    <a:pt x="167" y="42"/>
                  </a:cubicBezTo>
                  <a:cubicBezTo>
                    <a:pt x="141" y="52"/>
                    <a:pt x="142" y="90"/>
                    <a:pt x="107" y="103"/>
                  </a:cubicBezTo>
                  <a:cubicBezTo>
                    <a:pt x="84" y="130"/>
                    <a:pt x="69" y="156"/>
                    <a:pt x="46" y="182"/>
                  </a:cubicBezTo>
                  <a:cubicBezTo>
                    <a:pt x="53" y="188"/>
                    <a:pt x="61" y="196"/>
                    <a:pt x="69" y="200"/>
                  </a:cubicBezTo>
                  <a:cubicBezTo>
                    <a:pt x="76" y="204"/>
                    <a:pt x="94" y="200"/>
                    <a:pt x="91" y="209"/>
                  </a:cubicBezTo>
                  <a:cubicBezTo>
                    <a:pt x="89" y="218"/>
                    <a:pt x="47" y="232"/>
                    <a:pt x="38" y="235"/>
                  </a:cubicBezTo>
                  <a:cubicBezTo>
                    <a:pt x="20" y="298"/>
                    <a:pt x="37" y="278"/>
                    <a:pt x="0" y="306"/>
                  </a:cubicBezTo>
                  <a:cubicBezTo>
                    <a:pt x="5" y="314"/>
                    <a:pt x="11" y="322"/>
                    <a:pt x="15" y="332"/>
                  </a:cubicBezTo>
                  <a:cubicBezTo>
                    <a:pt x="27" y="345"/>
                    <a:pt x="65" y="366"/>
                    <a:pt x="69" y="385"/>
                  </a:cubicBezTo>
                  <a:cubicBezTo>
                    <a:pt x="71" y="398"/>
                    <a:pt x="28" y="428"/>
                    <a:pt x="38" y="447"/>
                  </a:cubicBezTo>
                  <a:cubicBezTo>
                    <a:pt x="28" y="480"/>
                    <a:pt x="110" y="494"/>
                    <a:pt x="129" y="499"/>
                  </a:cubicBezTo>
                  <a:cubicBezTo>
                    <a:pt x="157" y="521"/>
                    <a:pt x="162" y="579"/>
                    <a:pt x="198" y="587"/>
                  </a:cubicBezTo>
                  <a:cubicBezTo>
                    <a:pt x="275" y="607"/>
                    <a:pt x="321" y="631"/>
                    <a:pt x="400" y="635"/>
                  </a:cubicBezTo>
                  <a:cubicBezTo>
                    <a:pt x="471" y="643"/>
                    <a:pt x="513" y="654"/>
                    <a:pt x="568" y="655"/>
                  </a:cubicBezTo>
                  <a:cubicBezTo>
                    <a:pt x="628" y="661"/>
                    <a:pt x="700" y="664"/>
                    <a:pt x="760" y="671"/>
                  </a:cubicBezTo>
                  <a:cubicBezTo>
                    <a:pt x="817" y="693"/>
                    <a:pt x="869" y="677"/>
                    <a:pt x="928" y="699"/>
                  </a:cubicBezTo>
                  <a:cubicBezTo>
                    <a:pt x="1070" y="753"/>
                    <a:pt x="1355" y="693"/>
                    <a:pt x="1355" y="693"/>
                  </a:cubicBezTo>
                  <a:cubicBezTo>
                    <a:pt x="1539" y="731"/>
                    <a:pt x="1520" y="737"/>
                    <a:pt x="1751" y="746"/>
                  </a:cubicBezTo>
                  <a:cubicBezTo>
                    <a:pt x="1912" y="769"/>
                    <a:pt x="1924" y="727"/>
                    <a:pt x="2228" y="743"/>
                  </a:cubicBezTo>
                  <a:cubicBezTo>
                    <a:pt x="2298" y="752"/>
                    <a:pt x="2337" y="736"/>
                    <a:pt x="2388" y="739"/>
                  </a:cubicBezTo>
                  <a:cubicBezTo>
                    <a:pt x="2439" y="742"/>
                    <a:pt x="2496" y="758"/>
                    <a:pt x="2535" y="762"/>
                  </a:cubicBezTo>
                  <a:cubicBezTo>
                    <a:pt x="2574" y="766"/>
                    <a:pt x="2586" y="753"/>
                    <a:pt x="2624" y="761"/>
                  </a:cubicBezTo>
                  <a:cubicBezTo>
                    <a:pt x="2654" y="767"/>
                    <a:pt x="2674" y="747"/>
                    <a:pt x="2710" y="746"/>
                  </a:cubicBezTo>
                  <a:cubicBezTo>
                    <a:pt x="2816" y="740"/>
                    <a:pt x="2923" y="740"/>
                    <a:pt x="3030" y="737"/>
                  </a:cubicBezTo>
                  <a:cubicBezTo>
                    <a:pt x="3165" y="698"/>
                    <a:pt x="3192" y="700"/>
                    <a:pt x="3372" y="693"/>
                  </a:cubicBezTo>
                  <a:cubicBezTo>
                    <a:pt x="3491" y="677"/>
                    <a:pt x="3585" y="649"/>
                    <a:pt x="3707" y="640"/>
                  </a:cubicBezTo>
                  <a:cubicBezTo>
                    <a:pt x="3778" y="612"/>
                    <a:pt x="3647" y="661"/>
                    <a:pt x="3814" y="623"/>
                  </a:cubicBezTo>
                  <a:cubicBezTo>
                    <a:pt x="3939" y="593"/>
                    <a:pt x="3882" y="589"/>
                    <a:pt x="4057" y="579"/>
                  </a:cubicBezTo>
                  <a:cubicBezTo>
                    <a:pt x="4154" y="551"/>
                    <a:pt x="4197" y="549"/>
                    <a:pt x="4316" y="543"/>
                  </a:cubicBezTo>
                  <a:cubicBezTo>
                    <a:pt x="4293" y="535"/>
                    <a:pt x="4233" y="529"/>
                    <a:pt x="4225" y="526"/>
                  </a:cubicBezTo>
                  <a:cubicBezTo>
                    <a:pt x="4217" y="523"/>
                    <a:pt x="4240" y="518"/>
                    <a:pt x="4247" y="517"/>
                  </a:cubicBezTo>
                  <a:cubicBezTo>
                    <a:pt x="4275" y="513"/>
                    <a:pt x="4303" y="511"/>
                    <a:pt x="4331" y="508"/>
                  </a:cubicBezTo>
                  <a:cubicBezTo>
                    <a:pt x="4303" y="505"/>
                    <a:pt x="4275" y="504"/>
                    <a:pt x="4247" y="499"/>
                  </a:cubicBezTo>
                  <a:cubicBezTo>
                    <a:pt x="4240" y="498"/>
                    <a:pt x="4221" y="499"/>
                    <a:pt x="4225" y="491"/>
                  </a:cubicBezTo>
                  <a:cubicBezTo>
                    <a:pt x="4230" y="480"/>
                    <a:pt x="4245" y="485"/>
                    <a:pt x="4255" y="482"/>
                  </a:cubicBezTo>
                  <a:cubicBezTo>
                    <a:pt x="4318" y="494"/>
                    <a:pt x="4297" y="507"/>
                    <a:pt x="4346" y="526"/>
                  </a:cubicBezTo>
                  <a:cubicBezTo>
                    <a:pt x="4398" y="511"/>
                    <a:pt x="4453" y="470"/>
                    <a:pt x="4506" y="464"/>
                  </a:cubicBezTo>
                  <a:cubicBezTo>
                    <a:pt x="4552" y="460"/>
                    <a:pt x="4598" y="458"/>
                    <a:pt x="4643" y="455"/>
                  </a:cubicBezTo>
                  <a:cubicBezTo>
                    <a:pt x="4690" y="420"/>
                    <a:pt x="4742" y="423"/>
                    <a:pt x="4795" y="411"/>
                  </a:cubicBezTo>
                  <a:cubicBezTo>
                    <a:pt x="4834" y="382"/>
                    <a:pt x="4813" y="403"/>
                    <a:pt x="4849" y="341"/>
                  </a:cubicBezTo>
                  <a:cubicBezTo>
                    <a:pt x="4854" y="332"/>
                    <a:pt x="4864" y="314"/>
                    <a:pt x="4864" y="314"/>
                  </a:cubicBezTo>
                  <a:cubicBezTo>
                    <a:pt x="4803" y="279"/>
                    <a:pt x="4742" y="285"/>
                    <a:pt x="4674" y="279"/>
                  </a:cubicBezTo>
                  <a:cubicBezTo>
                    <a:pt x="4490" y="287"/>
                    <a:pt x="4499" y="279"/>
                    <a:pt x="4384" y="306"/>
                  </a:cubicBezTo>
                  <a:cubicBezTo>
                    <a:pt x="4293" y="303"/>
                    <a:pt x="4202" y="303"/>
                    <a:pt x="4110" y="297"/>
                  </a:cubicBezTo>
                  <a:cubicBezTo>
                    <a:pt x="4103" y="297"/>
                    <a:pt x="4126" y="288"/>
                    <a:pt x="4133" y="288"/>
                  </a:cubicBezTo>
                  <a:cubicBezTo>
                    <a:pt x="4187" y="288"/>
                    <a:pt x="4240" y="294"/>
                    <a:pt x="4293" y="297"/>
                  </a:cubicBezTo>
                  <a:cubicBezTo>
                    <a:pt x="4391" y="282"/>
                    <a:pt x="4444" y="268"/>
                    <a:pt x="4552" y="262"/>
                  </a:cubicBezTo>
                  <a:cubicBezTo>
                    <a:pt x="4601" y="247"/>
                    <a:pt x="4610" y="232"/>
                    <a:pt x="4651" y="200"/>
                  </a:cubicBezTo>
                  <a:cubicBezTo>
                    <a:pt x="4609" y="188"/>
                    <a:pt x="4562" y="193"/>
                    <a:pt x="4521" y="174"/>
                  </a:cubicBezTo>
                  <a:cubicBezTo>
                    <a:pt x="4514" y="171"/>
                    <a:pt x="4516" y="156"/>
                    <a:pt x="4514" y="147"/>
                  </a:cubicBezTo>
                  <a:cubicBezTo>
                    <a:pt x="4141" y="166"/>
                    <a:pt x="4291" y="156"/>
                    <a:pt x="4065" y="174"/>
                  </a:cubicBezTo>
                  <a:cubicBezTo>
                    <a:pt x="4015" y="182"/>
                    <a:pt x="3972" y="194"/>
                    <a:pt x="3920" y="174"/>
                  </a:cubicBezTo>
                  <a:cubicBezTo>
                    <a:pt x="3911" y="171"/>
                    <a:pt x="3935" y="160"/>
                    <a:pt x="3943" y="156"/>
                  </a:cubicBezTo>
                  <a:cubicBezTo>
                    <a:pt x="3951" y="152"/>
                    <a:pt x="3958" y="150"/>
                    <a:pt x="3966" y="147"/>
                  </a:cubicBezTo>
                  <a:cubicBezTo>
                    <a:pt x="3918" y="110"/>
                    <a:pt x="3968" y="135"/>
                    <a:pt x="3935" y="77"/>
                  </a:cubicBezTo>
                  <a:cubicBezTo>
                    <a:pt x="3812" y="86"/>
                    <a:pt x="3702" y="113"/>
                    <a:pt x="3578" y="121"/>
                  </a:cubicBezTo>
                  <a:cubicBezTo>
                    <a:pt x="3524" y="128"/>
                    <a:pt x="3477" y="135"/>
                    <a:pt x="3425" y="156"/>
                  </a:cubicBezTo>
                  <a:cubicBezTo>
                    <a:pt x="3342" y="188"/>
                    <a:pt x="3248" y="162"/>
                    <a:pt x="3159" y="165"/>
                  </a:cubicBezTo>
                  <a:cubicBezTo>
                    <a:pt x="2928" y="254"/>
                    <a:pt x="2813" y="169"/>
                    <a:pt x="2544" y="191"/>
                  </a:cubicBezTo>
                  <a:cubicBezTo>
                    <a:pt x="2445" y="200"/>
                    <a:pt x="2305" y="198"/>
                    <a:pt x="2260" y="187"/>
                  </a:cubicBezTo>
                  <a:cubicBezTo>
                    <a:pt x="2172" y="153"/>
                    <a:pt x="2149" y="194"/>
                    <a:pt x="2056" y="195"/>
                  </a:cubicBezTo>
                  <a:cubicBezTo>
                    <a:pt x="1964" y="187"/>
                    <a:pt x="1913" y="188"/>
                    <a:pt x="1880" y="175"/>
                  </a:cubicBezTo>
                  <a:cubicBezTo>
                    <a:pt x="1790" y="181"/>
                    <a:pt x="1677" y="212"/>
                    <a:pt x="1591" y="191"/>
                  </a:cubicBezTo>
                  <a:cubicBezTo>
                    <a:pt x="1548" y="181"/>
                    <a:pt x="1503" y="186"/>
                    <a:pt x="1460" y="175"/>
                  </a:cubicBezTo>
                  <a:cubicBezTo>
                    <a:pt x="1435" y="185"/>
                    <a:pt x="1426" y="155"/>
                    <a:pt x="1401" y="165"/>
                  </a:cubicBezTo>
                  <a:cubicBezTo>
                    <a:pt x="1252" y="156"/>
                    <a:pt x="1118" y="135"/>
                    <a:pt x="967" y="130"/>
                  </a:cubicBezTo>
                  <a:cubicBezTo>
                    <a:pt x="926" y="125"/>
                    <a:pt x="836" y="116"/>
                    <a:pt x="799" y="103"/>
                  </a:cubicBezTo>
                  <a:cubicBezTo>
                    <a:pt x="798" y="103"/>
                    <a:pt x="754" y="62"/>
                    <a:pt x="746" y="59"/>
                  </a:cubicBezTo>
                  <a:cubicBezTo>
                    <a:pt x="686" y="39"/>
                    <a:pt x="609" y="39"/>
                    <a:pt x="548" y="33"/>
                  </a:cubicBezTo>
                  <a:cubicBezTo>
                    <a:pt x="523" y="22"/>
                    <a:pt x="497" y="17"/>
                    <a:pt x="472" y="6"/>
                  </a:cubicBezTo>
                  <a:cubicBezTo>
                    <a:pt x="441" y="9"/>
                    <a:pt x="411" y="11"/>
                    <a:pt x="381" y="15"/>
                  </a:cubicBezTo>
                  <a:cubicBezTo>
                    <a:pt x="353" y="15"/>
                    <a:pt x="325" y="0"/>
                    <a:pt x="30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5240" y="4705200"/>
              <a:ext cx="2837160" cy="520560"/>
            </a:xfrm>
            <a:prstGeom prst="rect">
              <a:avLst/>
            </a:prstGeom>
            <a:gradFill rotWithShape="0">
              <a:gsLst>
                <a:gs pos="0">
                  <a:srgbClr val="e1f3f1"/>
                </a:gs>
                <a:gs pos="100000">
                  <a:srgbClr val="8ad4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8840" y="139212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ad4c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81bf"/>
                </a:solidFill>
                <a:latin typeface="Arial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ad4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[Master], and then click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8addc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2666880" y="1523880"/>
            <a:ext cx="4114800" cy="10670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ccbc"/>
              </a:gs>
              <a:gs pos="100000">
                <a:srgbClr val="d6b0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1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f0ee"/>
              </a:gs>
              <a:gs pos="100000">
                <a:srgbClr val="8ad4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905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6227640" y="20350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349236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55640" y="196200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d4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2754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8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78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4200" y="4724280"/>
            <a:ext cx="2057400" cy="5749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78460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8ad4cd"/>
                </a:gs>
                <a:gs pos="100000">
                  <a:srgbClr val="2f4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8addc"/>
                </a:gs>
                <a:gs pos="100000">
                  <a:srgbClr val="2036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6b098"/>
                </a:gs>
                <a:gs pos="100000">
                  <a:srgbClr val="4c3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4b09a"/>
                </a:gs>
                <a:gs pos="100000">
                  <a:srgbClr val="2d3c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d81b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d81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cxnSp>
          <p:nvCxnSpPr>
            <p:cNvPr id="14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d81bf"/>
              </a:solidFill>
              <a:miter/>
            </a:ln>
          </p:spPr>
        </p:cxnSp>
        <p:sp>
          <p:nvSpPr>
            <p:cNvPr id="14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d81b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1260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c1d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4f65"/>
                </a:gs>
                <a:gs pos="50000">
                  <a:srgbClr val="68addc"/>
                </a:gs>
                <a:gs pos="100000">
                  <a:srgbClr val="2f4f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2096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ad4c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6160" y="28195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2666880" y="1295280"/>
            <a:ext cx="4114800" cy="8384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b4d6ed"/>
              </a:gs>
              <a:gs pos="100000">
                <a:srgbClr val="68ad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52388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6316560" y="388296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d6b098"/>
              </a:gs>
              <a:gs pos="100000">
                <a:srgbClr val="816a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358128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8c7b7"/>
              </a:gs>
              <a:gs pos="100000">
                <a:srgbClr val="84b0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844560" y="38098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8ad4cd"/>
              </a:gs>
              <a:gs pos="100000">
                <a:srgbClr val="3f61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10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424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3400" y="4632480"/>
            <a:ext cx="2057400" cy="5745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ext in here</a:t>
            </a:r>
            <a:endParaRPr b="0" lang="en-US" sz="16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d81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d81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3d81b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95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25146"/>
                </a:gs>
                <a:gs pos="50000">
                  <a:srgbClr val="d6b098"/>
                </a:gs>
                <a:gs pos="100000">
                  <a:srgbClr val="62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6b0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f615e"/>
                </a:gs>
                <a:gs pos="50000">
                  <a:srgbClr val="8ad4cd"/>
                </a:gs>
                <a:gs pos="100000">
                  <a:srgbClr val="3f61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ad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5146"/>
                </a:gs>
                <a:gs pos="50000">
                  <a:srgbClr val="84b09a"/>
                </a:gs>
                <a:gs pos="100000">
                  <a:srgbClr val="3c51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86061"/>
                </a:gs>
                <a:gs pos="50000">
                  <a:srgbClr val="c1d1d3"/>
                </a:gs>
                <a:gs pos="100000">
                  <a:srgbClr val="586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1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a7f6d"/>
                </a:gs>
                <a:gs pos="50000">
                  <a:srgbClr val="d6b098"/>
                </a:gs>
                <a:gs pos="100000">
                  <a:srgbClr val="9a7f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39994"/>
                </a:gs>
                <a:gs pos="50000">
                  <a:srgbClr val="8ad4cd"/>
                </a:gs>
                <a:gs pos="100000">
                  <a:srgbClr val="639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4b0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f7f6f"/>
                </a:gs>
                <a:gs pos="50000">
                  <a:srgbClr val="84b09a"/>
                </a:gs>
                <a:gs pos="100000">
                  <a:srgbClr val="5f7f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b9798"/>
                </a:gs>
                <a:gs pos="50000">
                  <a:srgbClr val="c1d1d3"/>
                </a:gs>
                <a:gs pos="100000">
                  <a:srgbClr val="8b97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d81b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172200" y="6537240"/>
            <a:ext cx="281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d81bf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3d81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38:28Z</dcterms:created>
  <dc:creator/>
  <dc:description/>
  <dc:language>en-US</dc:language>
  <cp:lastModifiedBy>Sung Ha, Park</cp:lastModifiedBy>
  <dcterms:modified xsi:type="dcterms:W3CDTF">2014-12-04T15:26:53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