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414-8C6F-41BD-91D9-C0CD3B17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9F50-0F01-40A7-ACAA-D9428074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F2C-04A9-4189-8C9A-F8358563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CF5-AEEE-4265-9B52-6EBF70D9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6C7-757D-479A-99C4-6817AF85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D18-6028-4883-92CA-A470BE38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DAE-86F7-4EAB-954D-17980F40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184-8128-4CA1-8022-0A868AFB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01A-4369-41C2-9426-16A581E1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992-41E0-44E2-948D-767E4A67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1F4-268A-47B5-AD03-BF94D88A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A09-AEFF-40F6-AF1E-B65B7730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41F8-4410-4C2E-A0D4-3AB52CA027C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CC5-DA9C-4EEA-997C-2AC8381E8D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53160" y="64101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6" name="TextBox 146"/>
          <p:cNvSpPr/>
          <p:nvPr/>
        </p:nvSpPr>
        <p:spPr>
          <a:xfrm>
            <a:off x="682560" y="411480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6"/>
          <p:cNvSpPr/>
          <p:nvPr/>
        </p:nvSpPr>
        <p:spPr>
          <a:xfrm>
            <a:off x="13604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6"/>
          <p:cNvSpPr/>
          <p:nvPr/>
        </p:nvSpPr>
        <p:spPr>
          <a:xfrm>
            <a:off x="4788000" y="133992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6"/>
          <p:cNvSpPr/>
          <p:nvPr/>
        </p:nvSpPr>
        <p:spPr>
          <a:xfrm>
            <a:off x="4067280" y="4292640"/>
            <a:ext cx="254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86320" y="6486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0:06:13Z</dcterms:created>
  <dc:creator/>
  <dc:description/>
  <dc:language>en-US</dc:language>
  <cp:lastModifiedBy>微软中国</cp:lastModifiedBy>
  <cp:lastPrinted>1899-12-30T00:00:00Z</cp:lastPrinted>
  <dcterms:modified xsi:type="dcterms:W3CDTF">2014-05-18T06:49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