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970-E3C8-4A48-8385-7ED9C60C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92B-C6FD-4270-AA52-AD336A40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AC13-BA45-4525-8E19-0624F26E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FB3-99E9-46B8-A988-5E9A051B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C382-A701-48F7-99FC-4208806F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8B36-C876-4739-89D5-E8788ABD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96A3-2DD4-4045-B1DA-599F4524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1761-1B2C-4A40-B66C-3105D374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3046-8251-4DC3-8549-8DEC849C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8471-072D-46D0-B723-BD5A8588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961C-F489-4936-9822-DDFEBB23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D882-6B9A-4352-9611-007F34C3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0E28-E702-4657-905B-DC09D812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8DD3-6BBF-4A87-923E-6D429672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3F7D-E353-482A-B9D2-C66C705E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4848-4498-4A34-94B1-4F0CCDAE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065D-2EFD-4A0C-970A-86EDC46A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474-497A-40E0-AA4A-D0725EE4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84F-4EEE-4574-8717-300CEE37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1FD-ADD6-4B3F-BC08-C99BB8FD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DD4-BE3C-4F77-B1EC-5D551261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0DEB-31AE-4B00-A1F7-EB32AC25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89E-803A-45BF-9174-BBA768EF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49B-2593-429E-99F5-2BB37696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9C72-6673-4CA3-BB3C-DFCC802BB1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35B7-F223-48D7-8508-CF1E9C3945A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17080" y="6597720"/>
            <a:ext cx="13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69440" y="6526080"/>
            <a:ext cx="13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69440" y="6597720"/>
            <a:ext cx="13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14960" y="1989000"/>
            <a:ext cx="57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之家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07:27:50Z</dcterms:created>
  <dc:creator>微软用户</dc:creator>
  <dc:description/>
  <dc:language>en-US</dc:language>
  <cp:lastModifiedBy>User</cp:lastModifiedBy>
  <cp:lastPrinted>1899-12-30T00:00:00Z</cp:lastPrinted>
  <dcterms:modified xsi:type="dcterms:W3CDTF">2014-05-24T09:18:29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