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7AE-1F36-43B4-A4D4-16209487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0FA-4F0A-4831-9B9E-A6CA12AF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1A4-5F88-42F7-B151-2DE3B20F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DBA-0D2C-43A4-B16B-8368DDE9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49B-E990-4024-965F-41F8AB4B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651-BF96-456A-9CC5-37B67854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E09-B74B-4558-B8A1-D6C4C1E8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767-602E-4456-9344-7E24F608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B83-CBBC-4F37-B2FF-24EDE724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5DC-1F7A-4302-8DE4-C6F4CB6F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E90-CF0A-4F1E-B92A-1B46048C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360-3B25-4C4F-8C64-EAA0867B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F719-0AB0-45D3-A18B-AE8EB9E465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9F81-5D55-491D-A07E-5CF0DA8CD7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0934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368800" y="6238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57:47Z</dcterms:created>
  <dc:creator>Administrator</dc:creator>
  <dc:description/>
  <dc:language>en-US</dc:language>
  <cp:lastModifiedBy>微软用户</cp:lastModifiedBy>
  <cp:lastPrinted>1899-12-30T00:00:00Z</cp:lastPrinted>
  <dcterms:modified xsi:type="dcterms:W3CDTF">2014-05-25T05:53:40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