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6C4-434B-4B3B-9110-C816A1DA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D0E-EEDA-4997-9839-F8772B0A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445-E096-48B3-B79D-C97EE51D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397-E608-4AFE-A195-8B6D5C4D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50EE-F0B7-4BA4-899C-C8B09ABD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9903-95B7-4F5B-BA0C-60B462A3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34F6-D062-4579-9418-B04EC030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E404-23C6-4D56-9FF4-6FE258B4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6B88-F557-4820-AC00-4D86E427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1F28-C808-4369-A50B-9F70E49C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CBC8-A79D-4CAC-9959-4390BA0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214-6D1B-4384-AB58-D1336E4E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A8C3-7607-4AA0-870C-011D4055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56C6-4801-49E3-9AF8-F7BB11A0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5731-B42D-42C6-9981-04D691EB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1641-C385-4276-9464-B75FB122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01B6-8341-4DD0-B846-19BA774D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DE0-8C71-4F21-9BDC-284EB22C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4D5-32B2-473D-96D4-6CF74EB7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E53-517B-4399-9607-CCCB8F18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36F-34EF-46CB-B239-3FB5D375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D76-4B23-4B4E-84B4-9FDB5B7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1EE-568B-4F20-9178-3A95015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737-A0DE-4D83-BA0A-A958306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AD54-5E91-4A66-92E8-0994C0CEF839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286760" y="343080"/>
            <a:ext cx="1388880" cy="349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ADF9-D2CC-4C0C-AC98-B76AAD4A26C2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红酒介绍演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2560" y="2423880"/>
            <a:ext cx="64008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988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4:50:04Z</dcterms:created>
  <dc:creator/>
  <dc:description/>
  <dc:language>en-US</dc:language>
  <cp:lastModifiedBy>dell</cp:lastModifiedBy>
  <dcterms:modified xsi:type="dcterms:W3CDTF">2014-12-04T15:23:22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