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2E9E-6953-43B9-BEAE-5CA1EA408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05AB-EC30-46E0-9D3A-6F0DB42D0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1271-A76C-495C-8DB8-04F837633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0DC6-FCD7-4215-9BAB-39E29742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5832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25E6-F1F7-4B0B-AAC2-EE6AA9D60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AB8A-A9D7-4AD1-9B06-CF91A3D72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431B-47DD-4D09-948B-009FA1019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5EA0-5C11-4793-A0C4-44BB6EAB1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58323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43F5-8F5B-427B-B635-60928E89E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4934-D6CD-4D5B-A2F1-1FF91821E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9DDB-7C7B-4B8E-BDC5-7E42EE89F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1D9B-55AC-42C0-92F2-B271D9B93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5002" r="0" b="0"/>
          <a:stretch/>
        </p:blipFill>
        <p:spPr>
          <a:xfrm>
            <a:off x="0" y="752400"/>
            <a:ext cx="9144000" cy="3318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5201" t="33837" r="19754" b="2941"/>
          <a:stretch/>
        </p:blipFill>
        <p:spPr>
          <a:xfrm>
            <a:off x="5875200" y="127080"/>
            <a:ext cx="3268800" cy="7491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27"/>
          <p:cNvSpPr/>
          <p:nvPr/>
        </p:nvSpPr>
        <p:spPr>
          <a:xfrm>
            <a:off x="468360" y="101520"/>
            <a:ext cx="5832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rcRect l="0" t="71430" r="0" b="0"/>
          <a:stretch/>
        </p:blipFill>
        <p:spPr>
          <a:xfrm>
            <a:off x="0" y="0"/>
            <a:ext cx="914400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rcRect l="0" t="0" r="0" b="9718"/>
          <a:stretch/>
        </p:blipFill>
        <p:spPr>
          <a:xfrm>
            <a:off x="7758000" y="-3240"/>
            <a:ext cx="1386000" cy="8463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68000" y="63766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4257554-4558-462A-A316-A703115F54E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0" b="9718"/>
          <a:stretch/>
        </p:blipFill>
        <p:spPr>
          <a:xfrm>
            <a:off x="3174840" y="757080"/>
            <a:ext cx="6159600" cy="3807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22229"/>
          <a:stretch/>
        </p:blipFill>
        <p:spPr>
          <a:xfrm>
            <a:off x="-31680" y="4564080"/>
            <a:ext cx="9175680" cy="229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559400"/>
            <a:ext cx="914400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64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海景建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欣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56320" y="6453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0:27:53Z</dcterms:created>
  <dc:creator/>
  <dc:description/>
  <dc:language>en-US</dc:language>
  <cp:lastModifiedBy/>
  <dcterms:modified xsi:type="dcterms:W3CDTF">2014-11-24T15:10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