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33D-A84B-4B97-91F3-C7AB5985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4624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4C8-4A2F-4033-822D-35954396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1E0-5458-4592-AA89-8A5BE47B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4624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84624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84624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17A-336C-41B8-B6B3-C079DB75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BEB-7E02-4CDA-B780-537FAFE5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CC87-1942-4EE4-8C19-0AD5DF08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1E92-2001-4575-8841-297CFF2B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C461-4C5F-41F1-8D8F-D3611A92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6532-9F20-4AA5-93F3-6204D2BC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619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D423-C939-4DA3-B7EA-7CA84089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CED8-90C1-409E-B002-25330CC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025-7D00-4337-9902-57B982FB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73EF-73ED-4106-87A0-D8725EA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4624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2CCF-1169-4322-9681-7AA25B9C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4624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30B7-3878-433B-A578-EC8380AB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103A-1236-4CE8-BB99-0D100E9A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4624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384624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384624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E486-CA14-4CB4-951E-477B2251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ED5-2B31-4ACD-8653-49782E21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619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1708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84624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384624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1708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384624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16240" y="384624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7560" y="384624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C4B-7D90-4944-9177-E60514A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221-585C-4D7F-9970-E4AE969E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619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787-C370-4925-B541-CB812D0F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62F-EC7F-43FA-A40A-830A4A53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84624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58A-D8EB-4009-872E-DB5FD082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4624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859-F129-4752-8E65-63E3262C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6680" y="6330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318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D0CB-E7F4-4D72-B782-838200FA1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981080"/>
            <a:ext cx="6858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477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A9AD-49F0-4B5D-B5B2-EB11C3B68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3813120" y="21448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02912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255920" y="21448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54356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75776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03712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26428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47848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077360" y="262728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logo"/>
          <p:cNvPicPr/>
          <p:nvPr/>
        </p:nvPicPr>
        <p:blipFill>
          <a:blip r:embed="rId2"/>
          <a:stretch/>
        </p:blipFill>
        <p:spPr>
          <a:xfrm>
            <a:off x="3116160" y="2133720"/>
            <a:ext cx="782640" cy="73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1981080" y="609480"/>
            <a:ext cx="5154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Unbenannt-2"/>
          <p:cNvPicPr/>
          <p:nvPr/>
        </p:nvPicPr>
        <p:blipFill>
          <a:blip r:embed="rId2"/>
          <a:stretch/>
        </p:blipFill>
        <p:spPr>
          <a:xfrm>
            <a:off x="5724360" y="3378240"/>
            <a:ext cx="279720" cy="43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标题 1"/>
          <p:cNvSpPr/>
          <p:nvPr/>
        </p:nvSpPr>
        <p:spPr>
          <a:xfrm>
            <a:off x="914400" y="609480"/>
            <a:ext cx="7696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5146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1960" y="56386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5:32:51Z</dcterms:created>
  <dc:creator/>
  <dc:description/>
  <dc:language>en-US</dc:language>
  <cp:lastModifiedBy>999宝藏网</cp:lastModifiedBy>
  <dcterms:modified xsi:type="dcterms:W3CDTF">2014-05-25T05:52:24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