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113-C706-4D34-BFB2-296D0313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C6C-B33B-4087-8270-A283BBB2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0D8-7F01-4744-8354-9C5210A3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F41-EFAD-4A8E-BE43-F41EB7E6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E9D3-824C-4801-BC91-D9ECA139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254D-A9DD-47B1-B6F4-324D36B0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19EB-2EE3-484B-AC5C-4FC3A45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D34C-AA5B-4BCD-866E-E3B3F64A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18BE-3439-4F3F-9C97-964D8BBE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9CE8-8718-48EF-9A5B-FE63DFD4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25B1-345D-426A-B94E-0BC64C2E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F40-F079-462D-B025-E5CB68B4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2CF7-B3E1-445F-AA34-30CAE9D3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8DF0-4E58-4E05-A953-EDEAE99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6A4B-5411-4579-B550-CD9956B1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0CD5-9D81-44DD-95ED-93A3F48A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1506-FD32-4E70-86ED-BE6A7D70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907-F390-4F78-BC6C-44E67527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90F-F189-4404-A1F9-9654542F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285-2639-469B-AB4A-34CB34F5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19B-BAC4-4047-87E5-C9DAC99F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E8F-AF35-46A5-9E7A-700CFB36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E11-FD99-476B-B804-8BCCA50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AB4-F163-494C-AE73-58F6505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bf9034">
                  <a:alpha val="80000"/>
                </a:srgbClr>
              </a:gs>
              <a:gs pos="100000">
                <a:srgbClr val="bf9034">
                  <a:alpha val="8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6FD7-B981-4FB8-9F82-58563DCD3EF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bf9034">
                  <a:alpha val="80000"/>
                </a:srgbClr>
              </a:gs>
              <a:gs pos="100000">
                <a:srgbClr val="bf9034">
                  <a:alpha val="8509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324000" y="5318280"/>
            <a:ext cx="8569080" cy="1368360"/>
          </a:xfrm>
          <a:prstGeom prst="rect">
            <a:avLst/>
          </a:prstGeom>
          <a:gradFill rotWithShape="0">
            <a:gsLst>
              <a:gs pos="0">
                <a:srgbClr val="bf9034">
                  <a:alpha val="50196"/>
                </a:srgbClr>
              </a:gs>
              <a:gs pos="100000">
                <a:srgbClr val="bf9034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A546-1D13-4B7D-9822-B4F45B9AE65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52704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6093000"/>
            <a:ext cx="64008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5800" y="638172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0" y="1790640"/>
            <a:ext cx="7340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bf9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305840" y="63817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932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b6de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Owner</cp:lastModifiedBy>
  <cp:lastPrinted>1899-12-30T00:00:00Z</cp:lastPrinted>
  <dcterms:modified xsi:type="dcterms:W3CDTF">2014-05-24T01:49:27Z</dcterms:modified>
  <cp:revision>18</cp:revision>
  <dc:subject/>
  <dc:title>Fancy Car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