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DB5-2009-4D97-AA5D-EFB9DDA3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938-B2AC-4512-A6D6-F7F6F5F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830-9DA7-428D-A34F-67A70A92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197-BD45-40E3-9635-8ADCDA59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B87-655D-4AB1-840E-AF68DCA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765-C627-48EE-9282-8E415BD1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CCE-B7F6-4577-9ADC-F3A623F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CE8-A67A-48CD-9E1C-8474F8AC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33E-137E-4146-9237-52C07ED3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D9C-C7CC-479E-91BB-CA726065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B8C-BB82-45CE-9A2D-FCE46B2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D9-A941-4CBA-9048-08CA99C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 flipH="1">
            <a:off x="4573440" y="0"/>
            <a:ext cx="4570560" cy="34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3508-F663-49A6-AD76-5ADCC45095A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6858000"/>
            <a:ext cx="9144000" cy="857160"/>
            <a:chOff x="0" y="6858000"/>
            <a:chExt cx="9144000" cy="857160"/>
          </a:xfrm>
        </p:grpSpPr>
        <p:sp>
          <p:nvSpPr>
            <p:cNvPr id="43" name="Rectangle 8"/>
            <p:cNvSpPr/>
            <p:nvPr/>
          </p:nvSpPr>
          <p:spPr>
            <a:xfrm>
              <a:off x="0" y="6858000"/>
              <a:ext cx="9144000" cy="85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6858000"/>
              <a:ext cx="4572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0"/>
            <p:cNvSpPr/>
            <p:nvPr/>
          </p:nvSpPr>
          <p:spPr>
            <a:xfrm>
              <a:off x="4572000" y="7141680"/>
              <a:ext cx="42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果因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工作室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eibo.com/guoyinp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色大气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9960" y="63817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4520" y="608328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53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ff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3:51:00Z</dcterms:created>
  <dc:creator>果因PPT工作室</dc:creator>
  <dc:description/>
  <cp:keywords>XS-普屏 4：3;SC-深紫色;BG-浅色;DH-静态</cp:keywords>
  <dc:language>en-US</dc:language>
  <cp:lastModifiedBy>田士庆</cp:lastModifiedBy>
  <dcterms:modified xsi:type="dcterms:W3CDTF">2014-12-04T15:20:43Z</dcterms:modified>
  <cp:revision>2</cp:revision>
  <dc:subject>TP-流行娱乐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