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BD6-59AB-4658-9271-7783A42F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49C-AD10-4F4F-892C-F33666B6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38F-E26D-4842-9124-6468E2DB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4186-E7C4-4815-AFD3-D6BF6CDC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7957-8F85-4B4B-8B7F-13C78A20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2A4F-A8D8-482E-8940-25596CB4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A2D1-D3D2-4F11-8686-E08A4958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3B9F-CDE0-45B1-8475-375ECE80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FD64-CF5D-4473-AC55-220977E2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B778-EC63-4F15-B916-F0B5F54D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573D-D334-46B8-A188-C5005B19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45F-8AB2-40AA-BC5F-ACC2D165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FA9D-ECAC-4EDC-92E2-85AF8F3A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B64D-A2BF-428F-9480-8F389180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32DE-27C4-497D-871D-9989E321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DB2A-0DE0-4A7C-93F5-B7305C22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41E2-BE22-40B5-A36D-85D5ECE1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BB92-295A-40F7-BE21-4F2C4263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4FA1-7CA9-440A-BE78-5E669EF0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BCE-627F-4C53-8BED-E2F47D31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303-42DE-41CE-9521-972C2E78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E8E-7F55-481D-9F42-C9FA9E51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9D8-5AD2-4550-B4A0-2389B849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0495-2C52-428D-B348-01E84E57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579"/>
            </a:gs>
            <a:gs pos="100000">
              <a:srgbClr val="fffd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4425840"/>
            <a:ext cx="914400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C:\Users\Administrator\Desktop\12998316880zj85v0V.jpg"/>
          <p:cNvPicPr/>
          <p:nvPr/>
        </p:nvPicPr>
        <p:blipFill>
          <a:blip r:embed="rId2"/>
          <a:stretch/>
        </p:blipFill>
        <p:spPr>
          <a:xfrm>
            <a:off x="0" y="4578480"/>
            <a:ext cx="91314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37BC-8A48-4F4C-A02A-7CE04E81B6C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579"/>
            </a:gs>
            <a:gs pos="100000">
              <a:srgbClr val="fffd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istrator\Desktop\12998316880zj85v0V.jpg"/>
          <p:cNvPicPr/>
          <p:nvPr/>
        </p:nvPicPr>
        <p:blipFill>
          <a:blip r:embed="rId2"/>
          <a:stretch/>
        </p:blipFill>
        <p:spPr>
          <a:xfrm>
            <a:off x="5145120" y="0"/>
            <a:ext cx="3998880" cy="10000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0"/>
            <a:ext cx="8028000" cy="980640"/>
            <a:chOff x="0" y="0"/>
            <a:chExt cx="8028000" cy="980640"/>
          </a:xfrm>
        </p:grpSpPr>
        <p:pic>
          <p:nvPicPr>
            <p:cNvPr id="45" name="矩形 7" descr=""/>
            <p:cNvPicPr/>
            <p:nvPr/>
          </p:nvPicPr>
          <p:blipFill>
            <a:blip r:embed="rId3"/>
            <a:stretch/>
          </p:blipFill>
          <p:spPr>
            <a:xfrm>
              <a:off x="0" y="1080"/>
              <a:ext cx="802800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80280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矩形 8"/>
          <p:cNvSpPr/>
          <p:nvPr/>
        </p:nvSpPr>
        <p:spPr>
          <a:xfrm>
            <a:off x="0" y="9795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03C2-383A-4837-B8C3-D66F7ADF9F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579"/>
            </a:gs>
            <a:gs pos="100000">
              <a:srgbClr val="fffd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色党政简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9280" y="645336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579"/>
            </a:gs>
            <a:gs pos="100000">
              <a:srgbClr val="fffd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4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a7d7a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a7d7a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a7d7a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a7d7a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5:34:28Z</dcterms:created>
  <dc:creator/>
  <dc:description/>
  <dc:language>en-US</dc:language>
  <cp:lastModifiedBy>zouendong</cp:lastModifiedBy>
  <dcterms:modified xsi:type="dcterms:W3CDTF">2014-11-24T15:12:5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