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98D-87B7-4252-8E14-3FBDF0CD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240-B560-4700-88C7-1DF791B1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699-76DC-4252-96D2-9AB38143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780-59D0-4FDA-AA88-D97DC80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0A5F-95D9-4E82-B2FF-B7D5BED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AA2D-C435-4793-BB47-A594536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763-F86D-45FA-8D5E-C8BD8AC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902-48B5-4789-8ED1-0A444F3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C01-EC4F-4A80-A2AB-A81B3B8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90D-F236-40DF-9C30-F51A055C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62C7-5191-441C-8DAD-1F985F2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5E0-DA8A-4D3C-9848-D792E96C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B29-2688-4C2D-94C2-9277978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EBC-EEE2-4FD8-8814-40A490C0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762-34A1-4746-9CC1-4DA74C3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20D-C440-499B-9256-CD23622A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E8B8-4C4D-4307-B029-1654FC26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B1B3-375A-4887-9521-5F498939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537E-EB82-4FA0-AADD-B332F94E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1678-C163-41F3-9249-A4CCD20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EDBD-6F30-4B4F-9CCA-1F3B26FF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5794-1DF8-443A-86D2-7AFB7DDC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F85-5125-4F67-930D-7FF52EDF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0BAF-6B66-4B98-A7A6-F41007C0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63E4-31DE-46B8-9CDD-614C09E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AD33-E527-498F-B3B6-6D53C84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E619-F988-431C-8447-C78BFB47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713C-17DB-4B1B-897E-E42632C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CA4E-6EDD-4B61-8C12-1D59E490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7428-C38B-430A-BCE9-503068D6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4668-A293-4A5F-B20A-C1BE7C17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FC88-8B7F-4419-AFB0-182B41A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3CC8-85D6-4CCC-9221-C312C353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B4F-D497-4F2E-A221-D1060B59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72BD-FFB6-432F-939A-BB7E943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83EA-6B56-4CB8-9F13-AA49C85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91C2-BEC9-4F82-8544-2618CFAE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C07A-2CDD-409F-880D-6383398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BE87-89FB-46A7-87D2-E71B0F33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06B88-3836-4515-9314-61E9E04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D6A6-07A8-40A5-B494-73D655BA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3037-6B4D-4F52-8939-15D52AC1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8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77880" y="118908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99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88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77880" y="3767760"/>
            <a:ext cx="27511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FF69-C9FE-4A1C-9320-5C2E3310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07A-ADB3-473A-A288-CF36ABB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18960" y="282600"/>
            <a:ext cx="61102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E89-E4C0-4BF5-9D58-E4E67AA4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353-B18C-450B-9687-C705445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200" y="376776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71E-D7C3-47A6-8BA3-D3B85A1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88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200" y="1189080"/>
            <a:ext cx="416952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9880" y="3767760"/>
            <a:ext cx="85442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3EC-7FEB-4B29-B481-13D0E64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1681200" y="243000"/>
            <a:ext cx="7243560" cy="6174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20D2-8288-4C21-AE6E-BE321287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20000"/>
              </a:gs>
              <a:gs pos="100000">
                <a:srgbClr val="de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14480" y="169920"/>
            <a:ext cx="2031840" cy="852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200" y="836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9DF-0202-4460-A198-AD8BB29F85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681200" y="243000"/>
            <a:ext cx="72435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78B-1C08-46F2-B544-F96CD53E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114480" y="169920"/>
            <a:ext cx="2035080" cy="853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384120" y="1189080"/>
            <a:ext cx="8759880" cy="5668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299880" y="1189080"/>
            <a:ext cx="85442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29952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45012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10040" y="64501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7A64-6EBD-4E62-8F46-A2073C040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7200" y="83628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87200" y="2228760"/>
            <a:ext cx="64008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7322760" y="6308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 Narrow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8960" y="282600"/>
            <a:ext cx="6110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174564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29292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1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29292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9:27:19Z</dcterms:created>
  <dc:creator>humphreyss</dc:creator>
  <dc:description/>
  <dc:language>en-US</dc:language>
  <cp:lastModifiedBy>humphreyss</cp:lastModifiedBy>
  <cp:lastPrinted>1899-12-30T00:00:00Z</cp:lastPrinted>
  <dcterms:modified xsi:type="dcterms:W3CDTF">2014-05-30T06:54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