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5050-D0EF-4B94-B506-640CE2BA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6E31-EDC2-49A9-B162-58928CC0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C826-36A9-44BB-A4ED-61E883B3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34A-CF68-4F3D-BB02-BD10C104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427E-08E5-4C2B-BEED-2DA45D6C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8CEF-2F07-4481-A5A1-14C147AE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1E64-9DB1-4819-94A2-5FA978A5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9999-64C9-410B-8A8A-A5731129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BE8-BEAD-40DE-811F-E0A16CF8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CA9-6D82-47CA-9BDF-3B4A27FA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01B-8DC1-4E26-9D53-0DF8D061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E47-4677-4DEB-A32F-F1B971ED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M62R&amp;E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M62R&amp;E001-(bar)"/>
          <p:cNvPicPr/>
          <p:nvPr/>
        </p:nvPicPr>
        <p:blipFill>
          <a:blip r:embed="rId3"/>
          <a:stretch/>
        </p:blipFill>
        <p:spPr>
          <a:xfrm>
            <a:off x="2048040" y="0"/>
            <a:ext cx="7095960" cy="60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69840" y="781200"/>
            <a:ext cx="797904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627280" y="0"/>
            <a:ext cx="64468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M62R&amp;E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M62R&amp;E001-(bar)"/>
          <p:cNvPicPr/>
          <p:nvPr/>
        </p:nvPicPr>
        <p:blipFill>
          <a:blip r:embed="rId3"/>
          <a:stretch/>
        </p:blipFill>
        <p:spPr>
          <a:xfrm>
            <a:off x="2048040" y="0"/>
            <a:ext cx="7095960" cy="600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69840" y="781200"/>
            <a:ext cx="797904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627280" y="0"/>
            <a:ext cx="64468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M62R&amp;E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69840" y="781200"/>
            <a:ext cx="797904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627280" y="0"/>
            <a:ext cx="64468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7A52-64F3-4476-B0CD-F95B267224A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368C-94B3-4B38-AE65-9BA5B179BB2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6 (title slide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69840" y="781200"/>
            <a:ext cx="797904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627280" y="0"/>
            <a:ext cx="64468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57160" y="2257200"/>
            <a:ext cx="7056360" cy="7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灰色商务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38440" y="3986280"/>
            <a:ext cx="7092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64468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69840" y="781200"/>
            <a:ext cx="797904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2c2c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2c2c2c"/>
                </a:solidFill>
                <a:latin typeface="Arial"/>
              </a:endParaRPr>
            </a:p>
          </p:txBody>
        </p:sp>
        <p:pic>
          <p:nvPicPr>
            <p:cNvPr id="20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2c2c2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8T10:31:32Z</dcterms:created>
  <dc:creator>graphics05</dc:creator>
  <dc:description/>
  <dc:language>en-US</dc:language>
  <cp:lastModifiedBy>a</cp:lastModifiedBy>
  <dcterms:modified xsi:type="dcterms:W3CDTF">2014-12-10T15:05:43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