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92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26920" y="-360"/>
            <a:ext cx="5616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192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192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26920" y="-360"/>
            <a:ext cx="5616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192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92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9c2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826920" y="-36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40360" y="3716280"/>
            <a:ext cx="4859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40360" y="3716280"/>
            <a:ext cx="4859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红色闪耀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模板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140000" y="5373360"/>
            <a:ext cx="478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9308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9c2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5616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9c2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58920" y="2060640"/>
            <a:ext cx="6985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cc0000"/>
                </a:solidFill>
                <a:latin typeface="Arial"/>
                <a:ea typeface="华文隶书"/>
              </a:rPr>
              <a:t>谢谢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32080" y="58770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08:22:54Z</dcterms:created>
  <dc:creator/>
  <dc:description/>
  <dc:language>en-US</dc:language>
  <cp:lastModifiedBy>李荣融</cp:lastModifiedBy>
  <dcterms:modified xsi:type="dcterms:W3CDTF">2014-11-21T01:41:31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