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F06B9-BEA5-4857-9B3A-B0D0406F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19E4C-3769-4CB3-A2D6-16EE23D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EA3A0-BE93-4B74-9E9F-1B2899CB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22FB2-68F1-44F2-B67B-7938AE2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6E43E-47D5-4CDE-A428-AEC0C21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C3B1E-BC77-4EAC-A57B-2FC65E7C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0FA0F-DD12-4EC6-BBBD-7314E577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B40B-357F-46F9-BA4E-FE06262A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BE197-66E1-443F-86BC-BF5C0AD6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0608B-AEAD-4AFD-8CD3-35878DCC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8B2E1-EB21-4B31-AD7D-996F8583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BC244-92B3-4B11-9349-F33F9563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6A9CC-0FAA-48B1-8964-5DD737CE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BEEBF-376C-4BCC-B6A2-1FB5D5A3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5EEF2-7F29-4A7F-9A13-051FC044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11B4A-1912-4AD2-84C6-F9D67319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A8454-590A-4F97-A97E-EAAB158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0D4AA-1462-4830-956A-B9F5C179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5BD93-5857-4279-B2C0-4D8B44E1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3D3D-36D2-4347-B4BE-99EE0311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E9AFC-AB80-4511-8B85-9DC2C1BD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840D1-0260-426D-BB9B-5354DA5D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A9CC3-35C5-43AC-BEA7-4E8AB0E1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5E0DB-7F94-463D-9DD9-689F24F7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79619-EFBD-4FEF-A234-24FA6E49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C3A42-DAA9-4F98-88F3-91DDCF4E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E8255-5471-4C97-88FD-AD3C168B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0F112-1685-4477-8D5B-C7A9F43E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EAE69-0D46-4585-A72F-DE819E8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3CD03-F21A-47B0-B409-50DDB73C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891-ACA4-4720-975B-C6127201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C1166-39DB-4685-AE97-7D101D75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44B6C-597B-434C-AD59-BEEEEAB8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B8689-9B6A-4EE7-859A-272A131F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95B47-9EF2-495A-A564-B9A9B531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EBDCF-4471-462C-A56B-8D359121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D5D14-CA9C-46AD-8410-84864E3B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046AC-746A-402E-8973-FB2104B7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BA7A6-307D-4708-BD74-EAECC36D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A8641-E732-4C6B-911A-ECACEB9D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49156-9C59-4C24-B4D9-A99913BB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8BA-EDD9-4EC2-9327-1AC81A3F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B95C7-82B3-4545-B513-629F2F7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D2478-4091-4898-A1D8-6290BBA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6C469-9607-406D-95BC-DA98FDCB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9D183-D8AC-4920-A0FF-E51203A2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7BFBB-3ACF-4ED2-9101-03A2EBF6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3A46A-0067-48FB-8FDE-4F1D0092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26CB7-A3DC-49F0-A463-D12BA58C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E80A3-BAFF-4191-8B72-58B7989F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6FD92-CDB4-41E6-9404-BDDBE3DC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B7F10-86D7-4341-A71B-51BC6B8E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29C-352E-430D-A53B-FEB4CF35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B487D-0905-4611-BC92-0E0FA48F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1677F-0167-495A-A24E-7D33DF9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2D323-8E01-44BF-815F-83FB48A5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8A1BB-F601-4DAB-BF1F-41AA294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A78A8-DA5E-429F-A823-3402118B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4C163-8364-4125-9E9A-C09F6BB8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6B840-DA21-47DC-A427-210F582A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8345E-D163-49EA-B960-3E906043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A0157-0EBD-47F7-AAD9-E474FCB2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2033B-FBC3-4235-8E8E-E8BF10E9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A0B-AF79-4C17-8297-CB937E37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066AB-F959-48A9-8AD9-306FDECA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E4B0D-D39A-4A1D-99DF-EBFD0886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C7300-0A5E-429D-9E2B-00B420DB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C13FE-42D2-4BCA-9B44-6566B645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843C3-DFD0-4764-B089-99981172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A62AF-6B35-48EE-A295-3BF29158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67DA6-6AC3-4B0D-8DF6-C250584A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25D55-2726-44CE-89D2-DBB4CA20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D1D46-D4E8-461A-A2C3-9F9D5FE8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D06-8FE7-4DE2-9FEA-666BC491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4A8-185D-4035-B444-754E42F1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905-C13D-4D6C-B94C-1465A7E5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741-B8FF-4F97-A96A-C6A1D158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8A2-D617-48AE-A4C3-6455E8DC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566-12FA-4692-9BF6-D0E569C9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112-4DF1-4131-8A28-F760DF34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F47-5458-46E7-BA8B-9913EBC6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8EB1-1B27-48B0-AA3F-7FED5AA8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75E3-1B15-4C7F-A464-FBDB837C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35EB-01A3-43C5-8DE7-A5F8206C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F6A4-1E0C-4308-B5E9-3BC4279B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4A9-697D-4B50-B41A-7483E9A0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088D-77E8-40B1-BED8-863339FD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C08F-079A-4C04-AF8F-7760E0A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EBAA-5265-4A7E-9B17-86BEAE6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FAD-BC9E-4638-B1F2-77F7346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F813-BBFA-4B84-9C9E-28F3AC20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350-543C-41D8-91EF-1DD5A569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BA73-4A10-4E36-B416-4F1BA41D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60E6D-E410-4025-9443-0D946132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8687-5722-4D80-9BE5-DE04A72E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DA5D-9E3A-4D5C-8126-E15DD772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3822-40E6-43F5-AB98-C6128B18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FE33-EBAA-4593-B664-B0ABF876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21A6-26E9-4397-B2A3-ED1CC36D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BAA2-8CE6-4115-B83C-26295824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6586-4F31-4D59-BE48-335FDA4B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1C81-1037-4574-9B49-3E2632ED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D5BC-C9A3-49B8-8F64-8ACD655B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580F-9E59-4E3D-9188-74CD23E1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3710-D80E-4AE6-BCDF-03E37257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32EC-33A0-4437-B43E-004D92DE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E172-21E0-49BC-8F6F-3FDF694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828B-7C33-4B62-8950-5F35B7C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5894-BD2C-4270-BDE8-ED326B5B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C875-EA79-4C44-9E8E-104B5ADF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26C4-8C07-4D3B-AE47-A9A0ED13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A17C3-BB5B-4DE1-A71E-A46BDEF8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FC92-8120-4436-9B9D-EAA0804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4F42-1F41-45E6-944E-74CBBAC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DE7E4-E3C3-41AB-8A3D-4B470497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DBA0-2B19-4D7C-9724-BCBDA96C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A9AD-09DE-436E-8710-E1F962E6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A23A-C5D6-453B-AA92-A88621F2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05EB6-0C3C-4611-B16F-AE76EF09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6FEB0-75FC-469F-8D46-2D3AC0AA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81C53-1E51-44F3-848E-D3BED95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C540E-F1F9-4705-9104-85BAC25D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86887-27A8-4AB8-A7D2-20CD88A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ED2BD-0B77-4AFB-98D5-A6685A99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F2D26-E803-4478-AC94-EE562C93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9325-968E-43E5-87E0-7C46982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85758-4CB3-4B94-AE9C-84354C07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1998B-BD9F-45B1-9A2B-EF918956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B1081-8267-4E85-B0EA-129536A8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55864-8B1D-423B-B7EF-1FCA3F39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0C8B-1252-4D50-B5D9-BF49EC7F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17E4A-9C0F-40CE-BEAE-E32984B5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8EADA-5F23-4B8C-83DA-0E53E686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69A5-5C73-48E4-95CD-A1DA238E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BAA40-0B91-4220-9B2F-F93C11A2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1F33-F835-44B1-BD87-D2B6B1CB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2D4A-37F2-4879-95B6-A5D128A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A3F4A-42B9-4B1B-A93A-4C30AE14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D50D-92F1-4AE6-A35A-09ED961B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51B9-9094-47EF-808D-85A85B20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F631E-486F-4502-9D21-05B66D0D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BA00E-6940-48C0-B565-8834D970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BB31A-DA8A-4CC8-BEBE-B8BF42AB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06E7F-4066-4E17-BF74-47CDA7F8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D059-2CC9-4E92-8EA1-4920093BCC2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ABB7-696D-49E7-BFB8-F07506CC9F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2A4A-138C-4C90-9BA4-ACBBF661A3B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7FA-9A12-4959-ABC8-564C6E0C05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4E94-B388-4FA5-9403-60BC47CCC63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4037-4107-4F12-BEFE-22F2E7C071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52EF-11F4-436C-B059-8BC98C2B4E8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D8B5-7E8A-4A19-908D-5AED762F5B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FF2C-CBEF-4A79-84DF-6424A966430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9809-7312-43BD-9C37-1A9B85BE15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B96A-1555-43B9-9A79-F6B120E3091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2871-684C-4957-B007-94887D8A66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C3B9-D6D2-4875-90B0-6DA49DEFA9A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35FE-86AF-4F98-8434-F609B09046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BA83-A6E6-4486-AE3F-80C5675CD53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EB87-113C-4F3B-A99B-30B4C45354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8C96-4C60-41F2-B545-117BB0ACCB5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4218-D313-406E-9489-7B6C0F0346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2CD-D9A7-4E68-9A44-A738CA054C7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1723-FD37-4A8D-9004-9A52E20498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726D-A478-4207-AA55-5D924C0502E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917A-F68E-4DD5-A44D-C09C64E869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432D-CE11-4CAD-B9F5-B2A0B44A912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3020-8D91-4344-A2B6-78E47C013D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Arial Black"/>
                <a:ea typeface="宋体"/>
              </a:rPr>
              <a:t>海事图</a:t>
            </a:r>
            <a:r>
              <a:rPr b="0" lang="en-US" sz="3900" spc="-1" strike="noStrike">
                <a:solidFill>
                  <a:srgbClr val="ffffff"/>
                </a:solidFill>
                <a:latin typeface="Arial Black"/>
                <a:ea typeface="宋体"/>
              </a:rPr>
              <a:t>PPT</a:t>
            </a:r>
            <a:r>
              <a:rPr b="0" lang="zh-CN" sz="3900" spc="-1" strike="noStrike">
                <a:solidFill>
                  <a:srgbClr val="ffffff"/>
                </a:solidFill>
                <a:latin typeface="Arial Black"/>
                <a:ea typeface="宋体"/>
              </a:rPr>
              <a:t>模板</a:t>
            </a:r>
            <a:r>
              <a:rPr b="0" lang="en-US" sz="3900" spc="-1" strike="noStrike">
                <a:solidFill>
                  <a:srgbClr val="ffffff"/>
                </a:solidFill>
                <a:latin typeface="Arial Black"/>
                <a:ea typeface="宋体"/>
              </a:rPr>
              <a:t>.</a:t>
            </a:r>
            <a:endParaRPr b="0" lang="en-US" sz="3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itle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4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0" y="41605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itle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 Black"/>
                <a:ea typeface="宋体"/>
              </a:rPr>
              <a:t>Elements</a:t>
            </a:r>
            <a:endParaRPr b="0" lang="en-US" sz="43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7" name="Picture 3" descr="maritime_law_prt"/>
          <p:cNvPicPr/>
          <p:nvPr/>
        </p:nvPicPr>
        <p:blipFill>
          <a:blip r:embed="rId1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maritime_law_qx"/>
          <p:cNvPicPr/>
          <p:nvPr/>
        </p:nvPicPr>
        <p:blipFill>
          <a:blip r:embed="rId2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maritime_law_sld"/>
          <p:cNvPicPr/>
          <p:nvPr/>
        </p:nvPicPr>
        <p:blipFill>
          <a:blip r:embed="rId3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maritime_law_trs"/>
          <p:cNvPicPr/>
          <p:nvPr/>
        </p:nvPicPr>
        <p:blipFill>
          <a:blip r:embed="rId4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0" y="41605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6:53:47Z</dcterms:created>
  <dc:creator/>
  <dc:description/>
  <dc:language>en-US</dc:language>
  <cp:lastModifiedBy>a</cp:lastModifiedBy>
  <dcterms:modified xsi:type="dcterms:W3CDTF">2014-12-10T15:00:32Z</dcterms:modified>
  <cp:revision>90</cp:revision>
  <dc:subject/>
  <dc:title>Maritime La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