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44F-EFEF-43F3-BE88-14275998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4AC-C39F-4BBD-AE9E-043619F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099-D73A-4C1A-9732-82252103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1EF-F968-4377-9C3B-F94C4DDB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6837-DCAE-4929-800E-A3330FB6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7BD8-F345-41C9-B6DA-26FCC07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5BF7-13F3-406C-9280-CB23DDC9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B236-CDB4-4B32-B185-4139F17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BDA-D4E1-4EA1-9335-F3C9F7EC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FAE-6DA1-4B80-9728-92788846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7939-7FDB-40B4-872D-3470012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751-3D26-4052-9E26-7B17F47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B89C-B0A9-4C41-A0A0-B8BB478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C42F-CF98-494D-983E-09F9768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5B8A-B56B-43B2-B4EA-D726CCB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6F33-E0A5-4B51-9390-474B4904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C6A-9DF6-487E-902F-F0C81E50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7D0-C2E1-4201-A15C-A9D8094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67E-A405-4F47-A53E-7E1E45F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F13-266F-404F-9527-39A4721E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257-5E96-4AEE-890B-B214215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08B-4FCE-402E-BDF3-7A081F1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29D-9469-45A0-9656-3EF6AE04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4E2-2F8B-4835-A391-17FA013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7A7-ACA8-4FD3-966A-888048CD33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666-D1DB-421B-AA10-E2E5711F34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CC3E-8F35-4134-A5A2-D0A6A979CE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黄色校车学生安全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1157400"/>
            <a:ext cx="64008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输入作者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0720" y="12063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00Z</dcterms:created>
  <dc:creator>Ric6000</dc:creator>
  <dc:description/>
  <dc:language>en-US</dc:language>
  <cp:lastModifiedBy>a</cp:lastModifiedBy>
  <dcterms:modified xsi:type="dcterms:W3CDTF">2014-12-10T15:02:12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