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B98-2C81-4CBB-80C9-938A4B43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C2D-7CF8-44D2-82DA-95437C2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20F-C518-4985-B922-4616A379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E9B-EFBE-4C9B-9B8C-D4B6B139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923-AC80-4F0E-A81B-678926C4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6CD-65BA-4CB3-9860-44F9CC99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5550-494A-4904-9C90-0483E23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EB29-4151-4CB6-9237-896895B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6B5-B8E5-46BF-B706-2232197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4855-A54C-4F06-9C66-4BC74A3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613A-8FDB-4B52-9D49-1F4105F1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C0E-D039-4E05-B67C-05203B2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D106-D1F2-474F-9FAD-4ECE112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78BF-54E0-4673-90D7-0EC6668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47E-7D65-448A-A71E-AE0801E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9540-1958-443F-9151-94C7EE4B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BDAF-87D6-4268-A9CE-5A6C2B51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A4712-BF95-472B-9BFD-2F490AEB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590C9-CAFF-49E6-9836-C6ACE94F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D084F-9C94-4FBC-9E7E-101960D5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4BAF2-6892-4046-B6DC-ECA5E3B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373DA-0B3B-4354-B83A-B2A217A4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2B8-F8F6-47E0-9418-2AA9270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40A22-2CEE-4BB9-984B-4EB1340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8A462-1F1B-45A8-BC6C-EF78B29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469E4-0FF6-4F36-A0C4-3C0EB4B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E0F52-60CC-49C2-8CD1-829EBE3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DA338-F6BE-49C1-B46A-024B72E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64A16-8EE9-420B-A24F-AD06057F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0A144-2495-443F-B55A-F538DE13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E9B-CDB4-4DFC-9E63-92EB28B7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E49-57B1-431A-AE55-00964AD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4E1-3657-4B89-8025-43CD8E3F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443-15CC-4BB1-B883-62F7A43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B46-75C9-4826-A0CD-BA99C8C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6C8-F544-4D68-BC4A-E766430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6271-D1BA-4654-8AEE-938F6655B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2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874-380B-4E5A-9875-07CC0951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D6B9-5B06-4285-A311-C665BC45A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0424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886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3:44:38Z</dcterms:created>
  <dc:creator>hejun</dc:creator>
  <dc:description/>
  <dc:language>en-US</dc:language>
  <cp:lastModifiedBy>king</cp:lastModifiedBy>
  <cp:lastPrinted>1899-12-30T00:00:00Z</cp:lastPrinted>
  <dcterms:modified xsi:type="dcterms:W3CDTF">2014-05-26T06:57:14Z</dcterms:modified>
  <cp:revision>10</cp:revision>
  <dc:subject/>
  <dc:title>P.P.Template Bo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