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148-A773-4628-840F-EB70D08A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A0C-B0C2-44A1-B13F-033ECA6D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C16-258E-46DC-8AAD-BB2F5AB8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1D39-3D4A-484B-9D83-ADB97346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3A6-2503-462B-B894-3AD65E14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23A0-7B1F-4264-81E2-8EA783BD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5F9-2020-490A-8A1A-4420BF9E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1A8A-7AE2-4EF7-B14D-42EBEBAF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C8A-F5B4-407A-9DBE-55BCA589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8A8A-E3D3-404D-88C1-862D6439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147-6C6D-46BA-85DE-51166790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D1B5-3A27-4226-888A-02F95F7F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FE35-C975-4B10-B1EE-03F6BAEB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8153-95D7-4BD1-9648-868A0EDB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2486-2F55-44F9-805A-6948A50E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19E7-EF28-41C3-8B8D-38623B40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4B8C-77ED-4D94-92FC-59B95E57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2951-0A82-4359-A013-90F1DE1B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43C3-EBEC-428E-A789-9A527A09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3003-FDF1-459E-80C5-91B094C2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7862-04C6-4EB6-B90D-184AA98D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0138-B005-4C37-AE42-3196B079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BD8E-B44F-456D-82D1-F6ED4840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DDFE-BB31-43ED-80DB-8494E041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-15840" y="1477800"/>
            <a:ext cx="9166320" cy="4697640"/>
          </a:xfrm>
          <a:prstGeom prst="rect">
            <a:avLst/>
          </a:prstGeom>
          <a:solidFill>
            <a:srgbClr val="f8f8f8">
              <a:alpha val="49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1275-49C5-47D7-85D2-B2C688F79D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88E4-E8E6-413D-8C5B-9705D03874C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BBAC-4C40-4646-9470-95B5F6C25C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187E-AC6B-420E-A68D-B034422D85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f8f8"/>
                </a:solidFill>
                <a:latin typeface="Calibri"/>
              </a:rPr>
              <a:t>黑色线条</a:t>
            </a:r>
            <a:r>
              <a:rPr b="0" lang="zh-CN" sz="4400" spc="-1" strike="noStrike">
                <a:solidFill>
                  <a:srgbClr val="f8f8f8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f8f8f8"/>
                </a:solidFill>
                <a:latin typeface="Calibri"/>
              </a:rPr>
              <a:t>演示模板下载</a:t>
            </a:r>
            <a:endParaRPr b="0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13:17:00Z</dcterms:created>
  <dc:creator>Owner</dc:creator>
  <dc:description/>
  <dc:language>en-US</dc:language>
  <cp:lastModifiedBy>a</cp:lastModifiedBy>
  <dcterms:modified xsi:type="dcterms:W3CDTF">2014-12-10T15:09:3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