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A6BE-2ABD-4537-A0FC-C8E5C8AB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1A67-FD76-4702-BA58-0153F47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0F51-DE72-4D4E-829D-840B84A1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420A-B1C2-421A-8247-F8AE340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B69D-B1A7-4A71-A255-7F36D4EF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989E2-2E97-4DF0-A2B3-0764B54C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5F2D-5059-477B-9B25-F79E1309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EAEF-3EEB-4F9C-B2D3-904C838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E2D1-8480-478C-B1D6-EDD1D3E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4AAA-476D-4CFD-976F-57DC536B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A0F9-0AC5-4DA1-AA67-E53AC1BF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0997-FAC5-4BF7-A778-17196854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9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236000" y="6327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C8B6AAC5-EC5B-4C4E-AD79-F38AE7FD6752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149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7142-4C9E-4694-A835-E0E1634C43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7B1-C6AF-47AA-8853-C0F7DE6AF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8360" y="51130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414972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色中国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975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773360"/>
            <a:ext cx="8207280" cy="863640"/>
            <a:chOff x="457200" y="1773360"/>
            <a:chExt cx="8207280" cy="863640"/>
          </a:xfrm>
        </p:grpSpPr>
        <p:grpSp>
          <p:nvGrpSpPr>
            <p:cNvPr id="128" name=""/>
            <p:cNvGrpSpPr/>
            <p:nvPr/>
          </p:nvGrpSpPr>
          <p:grpSpPr>
            <a:xfrm>
              <a:off x="457200" y="1773360"/>
              <a:ext cx="8207280" cy="576360"/>
              <a:chOff x="457200" y="1773360"/>
              <a:chExt cx="8207280" cy="57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457200" y="1773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82840" y="1773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08120" y="1773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533760" y="1773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62640" y="177336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87920" y="177336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13560" y="177336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9200" y="177336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57200" y="2349720"/>
              <a:ext cx="8207280" cy="287280"/>
              <a:chOff x="457200" y="2349720"/>
              <a:chExt cx="8207280" cy="287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5720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82840" y="2349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812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376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62640" y="2349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792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13560" y="2349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9200" y="2349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6040" y="2674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3492360" y="5084640"/>
            <a:ext cx="45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3960" y="6453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BA70-176C-4F0B-AB21-3FEE0011E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30D6-DD81-4B0C-B55A-D7AFD42108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tlantic</cp:lastModifiedBy>
  <dcterms:modified xsi:type="dcterms:W3CDTF">2014-11-24T15:43:34Z</dcterms:modified>
  <cp:revision>2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