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8999538" cy="5759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0F7E-5C2C-4E62-B4CF-20E224BD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360" y="1344240"/>
            <a:ext cx="810108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0360" y="3330360"/>
            <a:ext cx="810108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AE6-5197-4A1F-AF23-20C0A713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360" y="134424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520" y="134424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360" y="333036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520" y="333036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EAD-A58F-464D-8B83-46E1F9F1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360" y="1344240"/>
            <a:ext cx="26082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344240"/>
            <a:ext cx="26082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8480" y="1344240"/>
            <a:ext cx="26082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" y="3330360"/>
            <a:ext cx="26082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330360"/>
            <a:ext cx="26082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8480" y="3330360"/>
            <a:ext cx="26082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669-FAF7-4F64-BDEE-6C9E597A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0360" y="1344240"/>
            <a:ext cx="810108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21B-81C2-4122-85CA-E8EB6259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0360" y="1344240"/>
            <a:ext cx="810108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801-247E-458D-9088-C7DCD060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360" y="1344240"/>
            <a:ext cx="395316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520" y="1344240"/>
            <a:ext cx="395316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9F5-5812-4862-A813-D8287EBE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B11F-5198-47E7-908A-93F6BF6A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0360" y="230040"/>
            <a:ext cx="81010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AFBA-07D3-425F-882C-60A91B6B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360" y="134424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520" y="1344240"/>
            <a:ext cx="395316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0360" y="333036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219-78FA-49F7-8C41-182073F4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360" y="1344240"/>
            <a:ext cx="395316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520" y="134424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520" y="333036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F0B-84D5-4B5F-AE8B-15303E24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360" y="134424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520" y="134424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0360" y="3330360"/>
            <a:ext cx="810108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E7E3-23D3-44A5-A5F7-B4742E83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344240"/>
            <a:ext cx="810108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246280"/>
            <a:ext cx="21002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246280"/>
            <a:ext cx="2850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1560" y="5246280"/>
            <a:ext cx="21002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B102-C90E-4D16-91E8-4B385A10C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43120" y="143352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a1d1a"/>
                </a:solidFill>
                <a:latin typeface="微软雅黑"/>
                <a:ea typeface="微软雅黑"/>
              </a:rPr>
              <a:t>红色主题</a:t>
            </a:r>
            <a:r>
              <a:rPr b="1" lang="zh-CN" sz="2200" spc="-1" strike="noStrike">
                <a:solidFill>
                  <a:srgbClr val="4a1d1a"/>
                </a:solidFill>
                <a:latin typeface="微软雅黑"/>
                <a:ea typeface="微软雅黑"/>
              </a:rPr>
              <a:t>PPT</a:t>
            </a:r>
            <a:r>
              <a:rPr b="1" lang="zh-CN" sz="2200" spc="-1" strike="noStrike">
                <a:solidFill>
                  <a:srgbClr val="4a1d1a"/>
                </a:solidFill>
                <a:latin typeface="微软雅黑"/>
                <a:ea typeface="微软雅黑"/>
              </a:rPr>
              <a:t>模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49680" y="539604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29320" y="311004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a1d1a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24200" y="349092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90880" y="166212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a1d1a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824200" y="219564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49680" y="539604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6800" y="371952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a1d1a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rot="2640000">
            <a:off x="4042440" y="219528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97320" y="53960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10200" y="82404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a1d1a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86120" y="196704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a1d1a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43120" y="303372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3120" y="143352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a1d1a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95600" y="257652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a1d1a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3120" y="250020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49680" y="539604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6680" y="105264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a1d1a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262480" y="234792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4T01:56:12Z</dcterms:created>
  <dc:creator/>
  <dc:description/>
  <dc:language>en-US</dc:language>
  <cp:lastModifiedBy>微软用户</cp:lastModifiedBy>
  <dcterms:modified xsi:type="dcterms:W3CDTF">2014-11-09T01:28:31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