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AFFA-894C-4D4F-AB6F-424141CC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64A-8631-42B8-90D7-AE8483BC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C21-F853-4343-92FE-CD5D9E9E0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9B0C-8542-4580-A0E3-0B40275A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F9A3-721F-4CE3-9278-561B838A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C238-64E6-4A17-B58C-239A48AC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B4CD-16F1-4047-83F6-D0CC9CA2C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831F-A485-4DB1-A4CE-01B6E5800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2DEF3-08CE-4B3D-9C7A-13597E2C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9DF5-0CB7-4CBD-BF38-A5344923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6769-28B6-431B-8848-F190F244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F5ED-6EDC-401F-B1E9-EC70D86FD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B197-B3A6-48CA-BA6A-4900982AE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D618-683F-41CA-8A30-102C50ED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1F42-1465-4FAC-BC0B-623689B97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81C0-008D-4C98-95C7-068247E6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1501-4113-46A7-AE9D-57FD29B10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032-813E-4A75-BCF7-56E839A2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9D48-8395-440E-BA41-444E95E0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1EC-B528-447A-BC5B-069C7089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714E-C00D-47D1-9872-F773862D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6F9-E5D2-4532-958A-A451D08C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6EE-AC21-4ECB-83B0-2EBBE9C8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0B73-AEBA-499D-94D1-904BC94E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9227-4A41-4385-BA52-E27E2ABE903A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854E-9ED4-4023-864F-3A6CCA48AE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91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滑雪场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1533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alibri"/>
              </a:rPr>
              <a:t>Company N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245440" y="6742080"/>
            <a:ext cx="863640" cy="1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071440"/>
            <a:ext cx="822960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14720" y="274320"/>
            <a:ext cx="64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214720" y="1600200"/>
            <a:ext cx="647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04040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9:26:39Z</dcterms:created>
  <dc:creator>Admin</dc:creator>
  <dc:description/>
  <dc:language>en-US</dc:language>
  <cp:lastModifiedBy>a</cp:lastModifiedBy>
  <dcterms:modified xsi:type="dcterms:W3CDTF">2014-12-10T14:59:29Z</dcterms:modified>
  <cp:revision>2</cp:revision>
  <dc:subject/>
  <dc:title>PRESENTATION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