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E75-6B67-4DCF-BABA-CFD6F980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D62-1C99-4C92-990D-7FDD4507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10E-D724-4F40-9CB2-39D08AAB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78B-E46E-4520-B81C-8A8AE20A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550B-139A-4031-A7A7-15563756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AB1F-B8E4-4DA4-9F0B-EEFE424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EB47-B1A8-4A33-98A2-064521C9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6881-ACC2-4349-AA3F-2190AEBD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6C9E-977A-49AB-9C54-0D15ED49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CF37-B165-415D-A1C9-D3040B67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CFAC-5144-4AF2-9C83-FDBF36A4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10B-C26A-474C-B618-DB31BB4C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ED6B-4ECE-4FA0-9717-91BFAE88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1476-7D38-40B1-80FB-49032D79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3619-1E0F-406F-A374-B9DC2D0E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7351-69B1-4577-8559-890232F1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9B10-53DD-44FB-9022-F64B24D6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D00-855D-48EE-8A66-83B1F300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2B8-8E27-4A68-8585-21684B14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3CC-2C50-4113-915A-CF539BB1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BF4-795E-43DC-A9F7-E04BA0E3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25F-681C-47BD-8EDD-BE4E25A7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767-37B0-42CB-9A45-161BA1D0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ECC-6434-4030-A2DC-CD6F57DF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E115-3BF1-48BD-9D46-505A01FC6A0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1970-0361-4188-A904-F1FE2AFEE0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401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401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498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微软用户</cp:lastModifiedBy>
  <dcterms:modified xsi:type="dcterms:W3CDTF">2014-06-03T13:59:38Z</dcterms:modified>
  <cp:revision>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