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F6F-B438-4559-8F89-CBCF1DAB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5AB-1F27-45C2-949E-92EEAC86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E1B-392E-401E-8E97-DBE131D1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992-F669-4587-8917-01459CBE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7EA-AE23-4BCF-A5AE-F01CB9D9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3AAE-563F-4B22-8D50-ECEED47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B23-3ED1-4E50-BFFC-1BEF510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D3B-C7C2-4789-B1E9-B41C74B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711-6A43-457E-9369-73D8525F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61D4-EA8F-446F-B21E-EC082067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7544-7EAF-4B9D-8001-26EE9A9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4E3-CB8A-47EB-BBC7-1282DE8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3C16-72EE-4550-B4F8-B1F24A2E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246-AA68-479C-BD1B-7D73C02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CAC-80DF-49C0-9742-50B74C1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D93-C8BF-45E9-A1A0-502FE9FB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9AE-EBF4-4DF2-B542-F78547A6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BFE-F3D2-41E6-AAC9-E0B4BD8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F3D-461C-4D7C-A2ED-33798250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721-14C4-4CEF-97DA-5DBAB483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3A3-8464-4CEA-B924-A67BB1B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11C-106C-4A96-BEDF-0D0F747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E81-F62F-4A8F-BC8E-B2B275E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39E-6ED8-4213-A190-702FD85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A372-8C5C-48CE-810D-0BB38A26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39320" cy="609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BADD-6292-4E58-BC1E-057C70B7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01:42Z</dcterms:created>
  <dc:creator>Administrator</dc:creator>
  <dc:description/>
  <dc:language>en-US</dc:language>
  <cp:lastModifiedBy/>
  <cp:lastPrinted>1899-12-30T00:00:00Z</cp:lastPrinted>
  <dcterms:modified xsi:type="dcterms:W3CDTF">2014-06-02T14:53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