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251-2DFA-444F-BED6-FEEBE058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85E-1743-4CF9-A0B1-7EDF12A5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535-8C32-4A42-9D10-4717CE6C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921-3B66-4091-A992-5E9C02E2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5BDF-5125-4F53-BF16-5143E38D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B86A-F3B1-4044-ADD0-9B08473D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DEC8-BB0D-47DB-9E0A-A5E61E0E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92DC-D598-47F8-8D17-C1A17C03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DD90-BE2D-4F62-A450-7EE9731A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D72B-AD68-4DD3-AE64-4F00FABA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4958-64A8-4650-A59C-CE01145F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666-67FA-4049-9D7E-37A0A166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1CEF-1FE0-46EF-AB72-9FE87207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87BF-9FB2-4B38-BB49-627ED6F7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8FC3-8A87-417B-889B-AA7AB362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B55E-B1CE-4E16-91D5-F029F9081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9A96-7B9B-4FB0-8631-0EE90F67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7E2-9932-472F-B058-E99C4273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097-104D-4244-BD41-9DED01B5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428-31B2-4669-8031-24D49BFA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985-EC95-4916-AD2D-07D94A79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0E9-A485-46B3-B85A-3D29DF93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581-C695-463E-B621-42DA8546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385-CAEB-4944-9820-914FD86D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8337" r="858" b="0"/>
          <a:stretch/>
        </p:blipFill>
        <p:spPr>
          <a:xfrm>
            <a:off x="0" y="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8360" y="195120"/>
            <a:ext cx="8209080" cy="4392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D004-B248-4CE4-A5EA-53384A441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8337" r="858" b="0"/>
          <a:stretch/>
        </p:blipFill>
        <p:spPr>
          <a:xfrm>
            <a:off x="0" y="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44720" y="70020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5CA9-EDD3-4877-9C2C-722EF37D5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4720" y="70020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93840" y="480384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44720" y="700200"/>
            <a:ext cx="568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844360" y="1852200"/>
            <a:ext cx="568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8200" y="480384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9:38:22Z</dcterms:created>
  <dc:creator/>
  <dc:description/>
  <dc:language>en-US</dc:language>
  <cp:lastModifiedBy/>
  <cp:lastPrinted>1899-12-30T00:00:00Z</cp:lastPrinted>
  <dcterms:modified xsi:type="dcterms:W3CDTF">2014-05-18T06:52:4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